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A450-A799-4FC5-93A6-EAB44AA9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1335-A5F9-42D5-90E5-ABDC826F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A80-1EF3-487C-813F-3B62FF40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FFD2-CE0E-4C93-994E-674E6CFF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4CB-C818-43DF-9328-53B1ED4B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9100-1D94-4DFB-9F08-CCE906CA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D75-2D81-468B-886F-C27408A7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C4D-26F4-4E46-BD60-DAF86DAF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76E-399F-4B83-A4B4-97A5460C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F00E-4C45-48D4-9406-1006B85A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1CF7-BF42-4884-8D09-E6B607E8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E93-386B-42BF-A704-555ACE17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CAF5-702A-419F-BC52-1CFBAEE9D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5445000"/>
            <a:ext cx="58323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000" spc="-1" strike="noStrike">
                <a:solidFill>
                  <a:srgbClr val="006600"/>
                </a:solidFill>
                <a:latin typeface="Arial"/>
              </a:rPr>
              <a:t>Presentation Tit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8880" y="6189480"/>
            <a:ext cx="384804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6600"/>
                </a:solidFill>
                <a:latin typeface="Arial"/>
              </a:rPr>
              <a:t>Subheading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5-12T16:32:42Z</dcterms:modified>
  <cp:revision>535</cp:revision>
  <dc:subject/>
  <dc:title>Diapositiva 1</dc:title>
</cp:coreProperties>
</file>