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6633-2A79-4E55-BD48-E0183CD44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D573-EAD9-474C-9843-6E97CC9B1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9703-6A09-407A-9F4C-438F3AFE7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EC6F-C35F-45E2-8511-A7AE263EA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401D-64DE-409E-8082-647075F0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4FE2-10E7-417F-8BAA-E61398B0E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2BE9-0BBC-4605-8FF8-A565AEC61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3DC7-FBE5-4503-BFBB-5E24E2D81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18FE-04B4-4AB7-B7DD-A2793703B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11D9-D6E0-4DEC-9572-A74F5CC4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4FC9-BD94-4AD7-87D4-81420BF0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11CD-F7C7-426F-8A19-ABF6EFBE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471BB-3426-4411-8F0A-B966F8D198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50920" y="4436640"/>
            <a:ext cx="442764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84720" y="5446800"/>
            <a:ext cx="396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ffffff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7-30T13:28:30Z</dcterms:modified>
  <cp:revision>675</cp:revision>
  <dc:subject/>
  <dc:title>Diapositiva 1</dc:title>
</cp:coreProperties>
</file>