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8C1-4CB7-4767-93CA-F894EFFE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7BF-AAF8-4587-B651-48853B3E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9EE-7177-4617-BACA-75BFE412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BBF-0599-4ED2-A17D-8F35148F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DA9-CBDE-4584-B070-68DB608C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E3A-1BB3-4AC3-B429-B2D99BA6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803-B5B8-4C1C-ACF4-BC8F5780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DD3-0032-4B3A-9D5B-FCA998FB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EAB-4D3E-4612-839C-E6B37B85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037-472C-40C8-9FAE-FFE440F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8E2-53F5-443E-BF31-A47AC8A5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E6B-9CA6-4EAB-995F-9B0C36FE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D2C6-B9A3-4FB0-82CB-44F0872E8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084280"/>
            <a:ext cx="464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80536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5f5f5f"/>
                </a:solidFill>
                <a:latin typeface="Arial"/>
              </a:rPr>
              <a:t>Your 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2T16:19:39Z</dcterms:modified>
  <cp:revision>595</cp:revision>
  <dc:subject/>
  <dc:title>Diapositiva 1</dc:title>
</cp:coreProperties>
</file>