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E51A-0D2E-4EE8-B645-D5693C3AE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A66E-9D6E-4612-A914-0A2142C6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6771-039B-4D06-8B62-BAA55061C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3E26-67E3-4677-BE15-FF8D1ADD8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3051-DF56-4F55-84DD-686B9F50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F920-C8B2-4A3A-90CF-B7667B02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627B-29AC-42E1-82CC-4E082825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0309-3C30-4CE2-BCCC-F8E3AF97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91A0-7B7C-47CE-B3A8-D82A9C24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D8F4-0873-485B-940E-563EE5A7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BA58-D11A-4183-A75B-0126C222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890E-92F6-4F04-92EF-2FB6FF37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0978-8A15-4CDA-B3AC-D3C8F7270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699920"/>
            <a:ext cx="84247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1:28:01Z</dcterms:created>
  <dc:creator>Mariajose</dc:creator>
  <dc:description/>
  <dc:language>en-US</dc:language>
  <cp:lastModifiedBy>Mariajose</cp:lastModifiedBy>
  <dcterms:modified xsi:type="dcterms:W3CDTF">2009-03-19T21:15:06Z</dcterms:modified>
  <cp:revision>27</cp:revision>
  <dc:subject/>
  <dc:title>TITLE</dc:title>
</cp:coreProperties>
</file>