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78F-4188-4D54-93F4-E6800CB4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3DC-D287-4245-9EB3-A916D257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895-8280-4AAE-9D13-1FA089E8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471-7670-47FD-9A88-ED8E04DB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F06-FEC0-424F-90A5-2FC4C08E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112-18D3-4EA8-B393-2F1F530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EBA-01A6-4563-8A8C-3650E6E4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AF4-3688-459A-9965-4BE38C7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376-2001-40D7-811C-DA0D2D4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9E5-5E30-4141-9FBC-81029ACD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84E-7BA7-4CB1-8B8F-486AB297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579-23E9-4207-8DFB-61F46509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6D8B-DC20-4D15-85B7-D76785D80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2T20:14:59Z</dcterms:modified>
  <cp:revision>355</cp:revision>
  <dc:subject/>
  <dc:title>Diapositiva 1</dc:title>
</cp:coreProperties>
</file>