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980-2A80-4DF2-9127-F2186947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8A4-487C-4C32-809E-E837B15E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177-685C-4684-940C-72EFFB8F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DA0D-C918-44CA-AFA4-4E7DD1E7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4F8-8E2E-4C27-BB9A-65A58DA9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031-4F79-47A6-AE1E-8903CBD0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2B5-9444-409D-B719-21F82465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6EF-FB57-40DE-9BD5-1E29C96E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BC5-3112-4D32-AF18-48FFADA6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ED9-B36D-4C86-95CC-C9D52822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E2A-79F6-45CB-AD11-9A4788B7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F4D-59AC-449F-BAA4-3E4E2BB0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B11D-1D30-48FE-9440-29BF26909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3640" y="4436640"/>
            <a:ext cx="4895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9-25T23:45:25Z</dcterms:modified>
  <cp:revision>696</cp:revision>
  <dc:subject/>
  <dc:title>Diapositiva 1</dc:title>
</cp:coreProperties>
</file>