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E1A-4DDF-4076-9728-85A5F2F4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05B-9E5F-4490-A766-7EE13747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73B-2379-4AC9-BB32-19CF5A2F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6012-C02C-4F48-BB76-A9A0EF51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6CF-8A61-4626-B7E5-EAE6CD03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37C-3A6E-4F07-9389-5EAF5E52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164-6280-4570-A6E9-3F3AC4BA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D30-848C-4FCE-ABFA-F710344A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0A8-3CE1-4981-AADB-96A1194F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08D-9950-4C2D-B35C-30348866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733-E950-4445-BA1B-0450D84F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0B34-C5D8-41BF-B9BA-A2A81A2B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99D1-763E-4A3F-B736-0AD7F02E53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119480"/>
            <a:ext cx="467964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716040" y="486900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6-25T14:18:37Z</dcterms:modified>
  <cp:revision>758</cp:revision>
  <dc:subject/>
  <dc:title>Diapositiva 1</dc:title>
</cp:coreProperties>
</file>