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23E-16EE-416C-B75A-520EE9F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73D-6861-47B3-914D-A18316A4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25B-9AF1-4916-B635-EFDE861E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AEB-5AC9-47EA-B53E-1F152BA1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462-7D56-48DA-96DF-400544EF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624-C982-4DC8-920E-0BB2C51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3F6-5695-4077-91C9-2B952E5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A0B-3BE9-409A-A49B-725AB454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CDA-F842-48B9-A32D-F5F4D4DC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CD3-04B0-4169-A98F-2606245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3C4-F1A8-4C6E-A642-555DBA6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369-1956-4A59-AF4A-3DD6BDD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BC52-1CC3-4FAD-95C8-8E954B16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42829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f5f5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734080"/>
            <a:ext cx="5040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20T14:38:14Z</dcterms:modified>
  <cp:revision>736</cp:revision>
  <dc:subject/>
  <dc:title>Diapositiva 1</dc:title>
</cp:coreProperties>
</file>