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999-0731-45CE-A3FF-EC646CBD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18F-F19F-40C3-B337-EDAFD2AA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8EA-A020-4733-89F5-89AE8A0A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5AD-F617-45CF-A0BA-2C6025F9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983-62C2-452C-BC45-21DD6B97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FEF-A050-4B02-A6D4-1424326B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EAB-DBF3-4DB5-97BD-6CB7A803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EC8-A433-4CDF-A82B-37C2B17E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D0B-8EB1-428E-9422-C3D4D38F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7AA-99A3-4433-9A3D-D53E5CAC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C00-6811-47B2-89FD-198AA8BD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E45-2110-46E8-AD11-411245B6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CAFC-1189-45AD-A65C-58FE0D8CE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997000"/>
            <a:ext cx="53276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08-12-28T14:12:01Z</dcterms:modified>
  <cp:revision>6</cp:revision>
  <dc:subject/>
  <dc:title>Title</dc:title>
</cp:coreProperties>
</file>