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20B-ED12-4D41-8CFE-8223142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2DF-86A6-432B-8724-99451F2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6A7-6BDB-458A-8F63-2D9A7BAA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B52-E3AC-4897-A23E-B9DB636B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E85-8546-4578-9D87-34B9EA6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071-76B1-4BD0-854D-A4817EC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BED-2D31-4ADB-8FA4-3F02E7A6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EC0-DD34-432E-A498-B0FCDC67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CF1-FDFC-4E7A-96C9-34704BEF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67E-6047-4B86-AC01-F4E06C21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C7F-BD53-4C40-B8F0-A6EFD2C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5E2-5052-48BF-92A9-152F577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340-3867-46B1-9BC0-71C3675AD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20720" y="4436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229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0T19:38:37Z</dcterms:modified>
  <cp:revision>676</cp:revision>
  <dc:subject/>
  <dc:title>Diapositiva 1</dc:title>
</cp:coreProperties>
</file>