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B4F7-5429-4FB9-AE0E-BB8C4B70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E357-39CF-418C-B310-70334F77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FD0E-18E5-4D20-AA5A-8C3E9851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C16-C85C-4B67-B28D-582B930C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8F06-9FD2-49F9-BEB1-40666B9D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E103-DB43-456D-B238-85F78D24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CEF5-8AE4-481B-84AD-383AA64B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5A7A-3198-4EDC-A6D5-6537992D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2E15-B418-4EBE-9526-676D363B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343E-4843-4B71-A13F-506F7DC4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0E4B-B258-4D8F-A129-F280F422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886F-2C16-4C84-99A1-B7A446AD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CBAB-EFD4-41DB-8986-347828A02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863280"/>
            <a:ext cx="640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5500" spc="-1" strike="noStrike">
                <a:solidFill>
                  <a:srgbClr val="008000"/>
                </a:solidFill>
                <a:latin typeface="Arial"/>
              </a:rPr>
              <a:t>Presentation Titl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3640" y="1582200"/>
            <a:ext cx="5577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8000"/>
                </a:solidFill>
                <a:latin typeface="Arial"/>
              </a:rPr>
              <a:t>Subheading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5-12T18:32:29Z</dcterms:modified>
  <cp:revision>537</cp:revision>
  <dc:subject/>
  <dc:title>Diapositiva 1</dc:title>
</cp:coreProperties>
</file>