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CC8B-728E-4563-9905-4458068C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307-2A64-47E9-B5CA-AFB12D5E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A7EE-1D36-4D2A-B606-37FB9D79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0EF9-4BAD-4FE6-9CA2-EE0A610E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65D5-95A5-47ED-88AC-2EB11D4F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CC87-6FE9-43FF-B3BA-14E512E2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188E-9FC4-4F5C-9E0D-2D3DAEBB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10EB-5E32-472E-BFA7-58E9DEB9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E7A7-F62F-4CF5-AE81-AA20E186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F50-0232-49E6-B379-12E11A1F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6934-964D-4419-9FF3-A92B21ED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2EAE-C517-4C24-BBDE-515C04CB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F7A2-0B6D-4BA9-8A9C-F8222131B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5280" y="836280"/>
            <a:ext cx="442764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33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7-31T01:41:06Z</dcterms:modified>
  <cp:revision>680</cp:revision>
  <dc:subject/>
  <dc:title>Diapositiva 1</dc:title>
</cp:coreProperties>
</file>