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924-9941-4360-B811-88150EEC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8362-1AB6-47A2-BCF5-26C162EB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E0F-7BF4-4273-AC41-714FD9D7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560-77EC-41FF-91C9-259823E3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D062-84AC-404F-B2FD-AF45346B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3CE-195A-4C23-9D31-6451FEDE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880-DFCB-4BC8-92AA-0C21C019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955-86B2-4759-B98C-216319E7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D92-3EF4-45B3-A3F0-D373E950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B43-0D6F-4D1D-AA27-8D73F060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0FA-FDC4-4FB3-9A12-61059236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0D2-CB08-4052-95EC-4E95DF60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E180-6765-4A26-AA7D-F7366D9A7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229360"/>
            <a:ext cx="42829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5f5f5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734080"/>
            <a:ext cx="5040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5f5f5f"/>
                </a:solidFill>
                <a:latin typeface="Arial"/>
              </a:rPr>
              <a:t>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7-20T14:38:14Z</dcterms:modified>
  <cp:revision>736</cp:revision>
  <dc:subject/>
  <dc:title>Diapositiva 1</dc:title>
</cp:coreProperties>
</file>