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5AF-4E1B-481A-A796-D59C614D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79E-246D-4A8E-A36C-14C5D338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A75A-63BF-44BD-B571-F1A27B12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FBE-873C-46DB-AB51-ADABE5BA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4E8-84D8-4C59-AA79-C58F365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D8C-05ED-4DA1-8CF2-41FABEB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385-56B6-4833-ADC8-7A0723D4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C13-32F4-42E0-B370-76204381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171-CDA5-4FE2-88CC-EFA01C72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389-58DB-4783-A0C8-639B473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BB38-A4CD-4C1C-91F9-3D8B4FF9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99C-E5BB-42CD-9112-A9A8C06E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552A-FED0-45FA-BB33-7CE1EA7FF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0920" y="4436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54468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0T13:28:30Z</dcterms:modified>
  <cp:revision>675</cp:revision>
  <dc:subject/>
  <dc:title>Diapositiva 1</dc:title>
</cp:coreProperties>
</file>