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549-E447-4E36-A984-1203A93C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7DB6-4612-4948-8CE9-CB426142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000-9FFD-4D93-9626-C2E9578BB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C9A-017C-49F8-B827-80A9C74E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FA9-7C7F-4B24-AA73-C7445908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24C-391B-4E46-BAF2-CA134BCB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A29-9151-4F8E-A67D-E49F6F99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CF7-C9B6-4F03-BB99-C85A3FF0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0B4-0DB7-46B5-842E-C041E55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B9A2-E135-46E5-ABC1-B5CF0307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B40-FC71-4270-BA30-87456C7C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9A4C-8C4F-4040-834D-75DB82B1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A4B93-2C6E-44D0-8571-BE8B3AD53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424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28:01Z</dcterms:created>
  <dc:creator>Mariajose</dc:creator>
  <dc:description/>
  <dc:language>en-US</dc:language>
  <cp:lastModifiedBy>Mariajose</cp:lastModifiedBy>
  <dcterms:modified xsi:type="dcterms:W3CDTF">2009-03-19T21:15:06Z</dcterms:modified>
  <cp:revision>27</cp:revision>
  <dc:subject/>
  <dc:title>TITLE</dc:title>
</cp:coreProperties>
</file>