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9F7-BC33-4FFF-B06C-B46DF8E1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9987-5071-4A7B-8AE6-D37DE6B2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1736-2DF0-44FC-8B42-68433A4C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E1A-4457-4D9C-A124-022CC960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51A-0838-4505-ACE6-170E2C14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82F-7220-4EFA-B788-12CA0521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27F-A095-47C7-9DDA-01E0C5DA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668E-9328-4722-AD73-B41802F3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5E1-5F8E-4FEB-8002-984B8CC7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C864-EDF6-45F7-BE23-074C3EE5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A5D-FAEC-46D4-9D12-1325BE8B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E4C-D2AA-4977-9065-8D086234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87BA-9AA2-4E65-9772-C476551E1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863280"/>
            <a:ext cx="640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5500" spc="-1" strike="noStrike">
                <a:solidFill>
                  <a:srgbClr val="008000"/>
                </a:solidFill>
                <a:latin typeface="Arial"/>
              </a:rPr>
              <a:t>Presentation Tit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640" y="1582200"/>
            <a:ext cx="55771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8000"/>
                </a:solidFill>
                <a:latin typeface="Arial"/>
              </a:rPr>
              <a:t>Subheading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5-12T18:32:29Z</dcterms:modified>
  <cp:revision>537</cp:revision>
  <dc:subject/>
  <dc:title>Diapositiva 1</dc:title>
</cp:coreProperties>
</file>