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D6B7-17F7-4CBA-884E-40D22999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D34-59F5-4154-ABFF-F3061E1E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BA6-DFFA-4F21-89B7-75481636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E319-C9EE-4859-8AEB-7C27057A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6C26-A6B2-4D7C-A754-59D73C74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DA07-E274-4A7A-BC02-78708347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2301-F03E-4793-946A-AB523482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B0E-445E-480B-9070-A920E2C6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6B1-0E47-4C81-B10B-7A51FFD9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330B-80F0-472A-BF92-20E65929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477-8788-4AAE-9926-CDDC429C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B58-9FEE-49E8-A61C-A8297BD4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F14A-E942-47D9-B410-884C75D87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997000"/>
            <a:ext cx="532764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Mariajose</cp:lastModifiedBy>
  <dcterms:modified xsi:type="dcterms:W3CDTF">2008-12-28T14:12:01Z</dcterms:modified>
  <cp:revision>6</cp:revision>
  <dc:subject/>
  <dc:title>Title</dc:title>
</cp:coreProperties>
</file>