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49C8-6898-4926-BEDE-4FBF3E322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CD68-168E-415F-A789-C8DB0E4F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56AC-0948-42D0-82F3-E76939AD3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D110-8A99-40B0-A744-BA9719027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E827-491C-41F9-A2FA-0DF83901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7490-77D6-4D2D-9F97-9DD528D4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0075-5B7A-4310-B0EC-90AAA9B5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6EF7-C1BA-45F0-B475-D995377A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07FE-8BE4-45FE-B13B-ACC6554F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6AA6-4C04-4E6C-9452-41A97CD6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20B6-3566-4F35-B61F-0E8F0EC8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95DD-F8E9-4487-9EC3-58A31EB1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8ED9-C257-461B-99F3-AA1A9066A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5229360"/>
            <a:ext cx="428292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5f5f5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734080"/>
            <a:ext cx="50403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5f5f5f"/>
                </a:solidFill>
                <a:latin typeface="Arial"/>
              </a:rPr>
              <a:t>Subtitle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7-20T14:38:14Z</dcterms:modified>
  <cp:revision>736</cp:revision>
  <dc:subject/>
  <dc:title>Diapositiva 1</dc:title>
</cp:coreProperties>
</file>