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2B7-1444-4B08-8F1F-641C4B62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1BC-1A71-431F-98BE-3D20BBE9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2E5-1F77-48A0-BFAA-001BA069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642A-AF69-4CD0-A7C6-0F240398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5E2-214A-4E63-A1F3-01544AB4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D2B-C296-4387-924C-D916D161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25A-C417-4FCD-A509-1300C641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FFD-1B67-46C8-82DB-BAB14679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8CA-F20D-42D4-988F-CEC5FFBD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9D07-698C-461E-B829-0E489AB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327-F48A-4FF8-BBBD-0C53A7F3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1C5-6E0E-46A1-B4FE-3770CE06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616A-4F9D-40C5-BF30-C74380A9D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20720" y="4436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229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30T19:38:37Z</dcterms:modified>
  <cp:revision>676</cp:revision>
  <dc:subject/>
  <dc:title>Diapositiva 1</dc:title>
</cp:coreProperties>
</file>