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8F1F-AFF4-4098-ACED-CFABA1DB6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A2C-DEDF-4A50-8BEB-5138B523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5B0-D7F7-404F-B646-EBCEA45F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C258-2F2E-4225-AEFE-6E078370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E006-FD02-4DDF-B11F-879240F4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F95-6AC5-4A8A-A258-CB88BF16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4C6-1B33-4E13-B91B-DCF8FF4B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2A3-F2E9-4E9C-81C3-7B4C8367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FCDE-2807-4B47-98E7-4EEA197E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AE8-82CC-471F-AEF1-AFD25281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2EE2-C9E9-4ACE-BB8F-C6D76108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433B-CD5B-42E2-9D70-EDDE141A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F53D-65EC-49C0-A036-0DC4512D3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20720" y="443664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522936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7-30T19:38:37Z</dcterms:modified>
  <cp:revision>676</cp:revision>
  <dc:subject/>
  <dc:title>Diapositiva 1</dc:title>
</cp:coreProperties>
</file>