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67C4-A874-41C2-8525-7F162D421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99BF-2472-46F7-AF55-F72C3FDDC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FECF-1323-4B79-8E9E-F4F30813C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97E6-7380-4A33-BFC6-F6DF160D2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4BAD-EDC7-4793-A90C-0A79CCC49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F485-5FA2-4B53-9692-3FDC59741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A3A5-3122-4AD2-8C9A-7FB2196E4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6B16-26B8-4FF0-8B63-2DA3087B2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8F90-9C9F-4068-9DC5-DDF71534F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3428-2AA2-4DAD-85DA-9666DA1A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343A-D54D-467B-971F-FB417019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FAC2-CE29-4CE9-A4BB-6B58FDA5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AF85F-29D8-41E0-8B37-4F3EA7761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3640" y="4436640"/>
            <a:ext cx="489564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400" spc="-1" strike="noStrike">
                <a:solidFill>
                  <a:srgbClr val="000000"/>
                </a:solidFill>
                <a:latin typeface="Arial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64728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9-25T23:45:25Z</dcterms:modified>
  <cp:revision>696</cp:revision>
  <dc:subject/>
  <dc:title>Diapositiva 1</dc:title>
</cp:coreProperties>
</file>