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B433-96EA-4974-A1F7-8D6694AED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458-BC39-4321-BDEB-AF76220C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B8B-36BE-43F4-B86D-65F8633E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253-A343-4423-89CC-7DD58C6F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2AC-B122-414A-AD07-9C7E4C6B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D58F-81AD-4B53-9B6F-2EE5C842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88A-E0E9-41C2-A23C-D6B10B36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DA83-7CDC-4B48-B2B2-04C7470B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6F65-179C-4342-8C63-642B98F4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07F-44A1-4FDA-8566-6ADB2FDC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EE8-708F-4872-ACD2-7B002E73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502-5B76-4A2F-8C8B-352707D1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AEB3-90B3-4A73-800A-893AE0633B9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119480"/>
            <a:ext cx="4679640" cy="10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0"/>
          <p:cNvSpPr/>
          <p:nvPr/>
        </p:nvSpPr>
        <p:spPr>
          <a:xfrm>
            <a:off x="716040" y="4869000"/>
            <a:ext cx="486396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214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3-06-25T14:18:37Z</dcterms:modified>
  <cp:revision>758</cp:revision>
  <dc:subject/>
  <dc:title>Diapositiva 1</dc:title>
</cp:coreProperties>
</file>