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CC7-812A-4584-8A70-7DA01911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BFC5-5F61-40AB-B665-7F1F3C32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C439-1CF6-40EE-8846-E9DDE5B6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C18-D444-4E7C-A19F-FC765BBF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3E0-9418-4EEE-AC69-EB6FAA24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6C3F-4BE3-422C-B005-2659891C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DA26-49C8-4A40-83C9-9D6D1359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0AC-80D1-4662-9583-CC5B956C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359-3A90-41E4-8866-8DE587C5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F0A-3975-4162-B81A-BB49DDE7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881B-5B0B-4AD8-9984-8FBB93C6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C3D1-855D-4AC4-8204-57452497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7256-D8B4-4519-B8A3-523568A92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5445000"/>
            <a:ext cx="5832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000" spc="-1" strike="noStrike">
                <a:solidFill>
                  <a:srgbClr val="006600"/>
                </a:solidFill>
                <a:latin typeface="Arial"/>
              </a:rPr>
              <a:t>Presentation Titl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8880" y="6189480"/>
            <a:ext cx="384804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6600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12T16:32:42Z</dcterms:modified>
  <cp:revision>535</cp:revision>
  <dc:subject/>
  <dc:title>Diapositiva 1</dc:title>
</cp:coreProperties>
</file>