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AEF9-618C-471A-8877-F489976C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811-F8ED-47F4-94DC-601857C0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195-DAE0-48A7-B75F-44428B34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C261-DDB8-4D28-917B-0D9BDE8B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307-668D-439A-A88D-B8A35B92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728-6C26-4B87-8230-8EBA409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CC1-C57D-4767-8D08-715E72E8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B78-3079-4CA6-B1EE-34884691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A93-7C31-4E7C-8CF0-29B4126F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018D-0000-4FEF-AE7A-D8C8A323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674-8BC9-4C7B-AE07-9D301C0F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691-CE92-4015-8B72-922C15C9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D23-DC92-49F0-BF1E-26BE30AF3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997000"/>
            <a:ext cx="532764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806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21:46:18Z</dcterms:created>
  <dc:creator>Mariajose</dc:creator>
  <dc:description/>
  <dc:language>en-US</dc:language>
  <cp:lastModifiedBy>Mariajose</cp:lastModifiedBy>
  <dcterms:modified xsi:type="dcterms:W3CDTF">2008-12-28T14:12:01Z</dcterms:modified>
  <cp:revision>6</cp:revision>
  <dc:subject/>
  <dc:title>Title</dc:title>
</cp:coreProperties>
</file>