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8C85-4BC2-4833-A3B5-0BA8BF13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71C-4C73-48C4-BFF0-F4B75852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52E8-1735-47CD-97A4-8E1BF183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6814-DB63-4D24-B659-A2C761B0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4937-7EAB-463D-B1AD-3EE22902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48E3-2E01-43A3-B961-DE8C44FB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9831-B8A7-44B5-984D-C546B719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A0C0-F8D1-4849-AC1C-BEC66BC4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09CF-A711-43A4-B01A-0D32B88D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0A67-EB31-41BD-A00C-6AC566EF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869-4CA7-4D88-BD6C-AC9AD5A7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4B0-DC31-4EE3-9CA4-4770E57D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261A-ECA9-4E9E-92D2-C3BBB73E1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3640" y="4436640"/>
            <a:ext cx="4895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9-25T23:45:25Z</dcterms:modified>
  <cp:revision>696</cp:revision>
  <dc:subject/>
  <dc:title>Diapositiva 1</dc:title>
</cp:coreProperties>
</file>