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B4B-86B7-4422-B357-DDDF9881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A2C-4506-430E-B059-B5D4D172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0A46-45A9-460E-A2AE-BE975C6C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58C7-EE5E-4DA6-A3FD-D09032A6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6F18-520D-4FE5-ABD0-3BA928AA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402F-4394-4C1D-A8C2-B0324737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C60-CAD6-4695-AE73-8511B110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F636-5314-40DA-9F49-FFEFB10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A3B-256D-477D-899A-FD0866B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8D9-B99A-4733-A1EB-290E3C84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E472-33A5-4D22-8949-1986D4B4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958-2D65-4F82-BC08-000A3F03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79C7-CED3-42AC-82EB-DB986F72D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836280"/>
            <a:ext cx="4427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00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7-31T01:41:06Z</dcterms:modified>
  <cp:revision>680</cp:revision>
  <dc:subject/>
  <dc:title>Diapositiva 1</dc:title>
</cp:coreProperties>
</file>