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8F05-0305-49C5-A6E8-C4F67A053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4A60-544B-4605-811F-D3D8E49A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57BF-DA33-468C-A488-0FF0200D2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9A6C-B96A-4E64-9B07-930432E0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A178-47BE-4070-A6F2-CA330789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5E2D-E581-486C-BE87-2F1B2144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B4E2-92EF-4E99-953A-E8E7A5EE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6BB5-A357-483F-8746-5FA070D2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FEB8-6E01-4BD1-8AE6-18B9F4ED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850F-4B75-4C1E-A8CE-4E27987A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98EF-6684-4877-AC15-762AED2E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3BD8-3CD3-45A1-A28D-0830FA1E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8933-B549-49C5-B432-AE74B3F33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2-02T20:14:59Z</dcterms:modified>
  <cp:revision>355</cp:revision>
  <dc:subject/>
  <dc:title>Diapositiva 1</dc:title>
</cp:coreProperties>
</file>