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9F6-7FE2-433F-8654-223512F9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D6B-BCD8-4AFB-8AD8-E7FA5651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D0C3-88CA-44FA-A8BF-F778409E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FD6-BAEE-41FC-A908-447E2C38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C54-1580-491E-8756-9576E0AB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FFE-8E3D-42E6-8591-B8018331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73E-2C83-4382-ACBE-DB096118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6C0-3F49-4F59-90D1-909214C6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CBB4-25C0-45BF-8411-2547508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FB7-3DB7-43AC-9925-4224387A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0AF-5938-4A7C-BB9F-3F094E4F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E0D-0E30-4CB8-AAFA-318D135A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2DB6-9433-426E-B8CB-4B3D280A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6003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773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60036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8-01T17:21:54Z</dcterms:modified>
  <cp:revision>684</cp:revision>
  <dc:subject/>
  <dc:title>Diapositiva 1</dc:title>
</cp:coreProperties>
</file>