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A5E-38F2-45BE-9FD7-F089FC90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39E2-DC65-4FBF-8B65-5EC4BAC5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20B-2779-4C4C-B081-C3D68DC1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1DBA-3E86-42F6-B2BC-C55BD219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97A-AED7-4114-9872-0051D0BD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7CA-4D1C-4739-A233-C61C25CEB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7C4-ED3E-452B-BBFA-4D44FDC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F02A-7483-45D9-B1F0-FED2AEF5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3A4-6E20-4E11-9A0D-69EA354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DD6-1016-4317-BE7D-AE0D058C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E22F-3F3B-4D78-82CE-85CBF488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60B4-76D9-4954-B0F5-CB00F07D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325-AA78-4966-8589-C11285562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084280"/>
            <a:ext cx="4645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805360"/>
            <a:ext cx="4321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Your Sub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12T16:19:39Z</dcterms:modified>
  <cp:revision>595</cp:revision>
  <dc:subject/>
  <dc:title>Diapositiva 1</dc:title>
</cp:coreProperties>
</file>