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04FE-122E-499F-9028-54A94479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305-24C7-4F4E-8BEB-7A184249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E7EA-BF79-4308-AB9C-AFC3F8A58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A940-BF50-44F6-8792-CAAF3247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F483-A6CA-44A8-AF72-639E122A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206-2452-4483-BE9F-223F64A4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B98E-7E96-4C25-8C91-AF00580B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E80-9133-466C-B0F7-95F35C0D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B4DE-B480-4808-B5EE-53E355868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C4C5-3E01-4950-AA49-D8ED3F7C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21EE-FA5C-4EAA-A769-86A5EF6C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A423-7A9C-4740-B52F-33ED3D9F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447B-34E7-4399-82B4-614C0123E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2-02T20:14:59Z</dcterms:modified>
  <cp:revision>355</cp:revision>
  <dc:subject/>
  <dc:title>Diapositiva 1</dc:title>
</cp:coreProperties>
</file>