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5681-56DB-4497-9721-481CE36E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80BA-9CFB-44EA-8F8A-6183A5AD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5587-9E6F-49A5-A386-D61C9DE4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BBE7-F3E0-4FEA-97D4-714BC026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D1AC-BC37-4735-8533-9EFB07C4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059D-E3A7-4C6A-8824-FD236CC0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2064-8C6A-475B-A4DB-54CF722F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4337-E3CF-437A-8ED6-2CA6FCCD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CD5C-FEE2-4A6D-816A-1DB45CE4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4877-10DB-4E8B-93FC-78E616CB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E00-EF94-4C5C-B73C-407D97E8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37FF-FE9B-469E-BB2C-25B2C163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500C-6A6A-4EA3-9BC0-BF559209D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863280"/>
            <a:ext cx="640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5500" spc="-1" strike="noStrike">
                <a:solidFill>
                  <a:srgbClr val="008000"/>
                </a:solidFill>
                <a:latin typeface="Arial"/>
              </a:rPr>
              <a:t>Presentation Titl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3640" y="1582200"/>
            <a:ext cx="5577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8000"/>
                </a:solidFill>
                <a:latin typeface="Arial"/>
              </a:rPr>
              <a:t>Subheading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5-12T18:32:29Z</dcterms:modified>
  <cp:revision>537</cp:revision>
  <dc:subject/>
  <dc:title>Diapositiva 1</dc:title>
</cp:coreProperties>
</file>