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F79-D86A-4EAF-8C52-225FB15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A2DB-3835-4FD8-A2C6-18226CEF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B695-E865-427F-B76A-44165497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BCB7-458F-426B-B1F0-5812E4A23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7906-E4F2-4189-81A6-BDD4CC1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6A50-02B3-4288-B464-F2FB508A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360D-A3A9-42BB-9519-0861F44E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B428-2C6B-4855-BD92-1375A775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6CE4-9BEF-49E7-A54A-FDB81F13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8C5C-6822-4262-921C-076985C9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F40-30F7-42CD-BB1C-B0D7513B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C29D-4CF0-49E1-98B6-A3BC53F5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C8A5-8603-42BC-A643-82178298D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09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84720" y="544680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3:28:30Z</dcterms:modified>
  <cp:revision>675</cp:revision>
  <dc:subject/>
  <dc:title>Diapositiva 1</dc:title>
</cp:coreProperties>
</file>