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8BB9-68E5-4386-9457-A84C3A26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7E8-A255-4EDC-B33A-22DBA050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8CD1-C2F4-4223-BD98-D00C8E4A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361-0DE1-4A26-9E5F-C38F91EE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62A-84AC-46C0-855E-7A32C0D6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5F9-03EB-48F1-AF70-E67EB715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2F9-933D-4A4D-9837-A5DE31B9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3B2-2E0C-4C7B-8ED7-9B3D8A92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06C-A226-446A-82B4-65C77372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4E3-B9A1-4A9D-8E54-B9D2EBB8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F34-2105-4E17-9EF1-52109D04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B4F-0261-4551-89A5-F7B3E950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F584-81CC-4B4C-B4B1-016C1F260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360036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177336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360036"/>
                </a:solidFill>
                <a:latin typeface="Arial"/>
              </a:rPr>
              <a:t>Subtitle or company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8-01T17:21:54Z</dcterms:modified>
  <cp:revision>684</cp:revision>
  <dc:subject/>
  <dc:title>Diapositiva 1</dc:title>
</cp:coreProperties>
</file>