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E79-DD17-4886-9476-FD8A6D6F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9D2-1EB2-44B2-8949-53E3BA2D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84C6-E3FA-4041-9E21-C72C739F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BE07-7318-4C40-9494-CD3198B0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AF69-A393-4FFA-A832-97B27B5F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CA86-5B9D-41FC-8DFC-27F6383F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0A4-149B-45E3-8AA8-635444CF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D9A-D759-411A-8ACF-A3C45924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3C5-38FC-49DE-A922-4B62ED10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19AA-4B61-4762-AE8C-67EA21AB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9D30-4685-4831-AB9C-F1BC632F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EB2-5F1A-4145-9ED5-47E27D27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7DCF-930A-46D0-AD63-022A7F868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280" y="836280"/>
            <a:ext cx="44276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33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7-31T01:41:06Z</dcterms:modified>
  <cp:revision>680</cp:revision>
  <dc:subject/>
  <dc:title>Diapositiva 1</dc:title>
</cp:coreProperties>
</file>