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B16-295D-47CB-8F17-315A943B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C12-32B9-45E6-9C6E-A762DA9F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48E-42E3-47E7-ADCF-A978C981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246C-1F55-48CA-8498-20BB9E25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652-6F64-4B2B-8B7E-271FF971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AEB-D72B-49BE-8629-18B96359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526-5A60-4176-979E-65EB7F9B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F3A-918C-4792-A516-25B8908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EAD-F773-436B-AE75-2E438701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C80-F3FF-4022-A5BC-ECF7DCA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DC3-7C9F-4DA3-853E-8B376B0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47C-34EB-4E3E-B1A8-8EC794F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3AB-386D-41D2-8399-A48256E7479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119480"/>
            <a:ext cx="46796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716040" y="4869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6-25T14:18:37Z</dcterms:modified>
  <cp:revision>758</cp:revision>
  <dc:subject/>
  <dc:title>Diapositiva 1</dc:title>
</cp:coreProperties>
</file>