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90A-DA8C-4C1F-AB51-0046913E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BFC2-3783-40AF-A2DE-CA0AB1E4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5658-D652-494E-A220-0CE9C1EB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FB57-122D-493B-B587-52725241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62E-2546-43A7-9569-1E182280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9466-8271-46D1-8C56-11746047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3943-C0E2-4C04-9E35-1B50433A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5CBF-8047-4843-B79A-5CF2B451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0ACB-0B72-488E-B0A8-3E035BB5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66FA-ED20-4B26-8452-41A69326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F6AA-A093-429D-8B56-A4264AC5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39B-B046-4591-8F33-21AC54FF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7561-C630-42E3-B7E8-92D54775A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5084280"/>
            <a:ext cx="4645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805360"/>
            <a:ext cx="4321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5f5f5f"/>
                </a:solidFill>
                <a:latin typeface="Arial"/>
              </a:rPr>
              <a:t>Your Sub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12T16:19:39Z</dcterms:modified>
  <cp:revision>595</cp:revision>
  <dc:subject/>
  <dc:title>Diapositiva 1</dc:title>
</cp:coreProperties>
</file>