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BAB-75BC-40D0-BD90-22A7235A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F25-D079-418C-87A9-2C5C969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CDEB-C9CE-4E59-A745-C067592E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F10-678E-415E-B34B-2A915253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B6E-09E0-45F3-A222-8395288D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AF6-9A04-416D-A341-6C490AED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FDA-49D2-4DDA-810E-ED5DD391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C10-5A88-433C-973E-ED28DD3B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075-C73D-4A72-8A7E-2777FFA6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0E4-AFF8-472D-9E93-B276208A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E3B-87D5-4926-97E1-D313C209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475-4D4C-42B9-8F5D-EB145223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F7EB-7BA9-4D75-858B-152E37834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5:06Z</dcterms:modified>
  <cp:revision>27</cp:revision>
  <dc:subject/>
  <dc:title>TITLE</dc:title>
</cp:coreProperties>
</file>