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130E-5F5F-4CFA-8C1B-3D4E5F74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FEA-E679-4284-8149-77C70214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6F5-F3C5-4443-9257-7D41001C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1D2-ABF6-4319-B4F0-D3E1278E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C00-F49B-4B01-9D1A-23D5DB98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5021-0313-4EB8-ABF1-D789977E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AF68-0D0B-4B96-9DBE-DEB64F58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E62-B40C-443F-B75C-CEE9A981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126-8C6C-463D-BB0A-4E2F537A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36E4-B09D-4A07-89B3-F17A05E9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30B-11AF-427B-B01C-F25139D3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405-ED73-4D24-BD38-8F23AB54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35EA-20D1-43D0-837E-2CB746407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5445000"/>
            <a:ext cx="5832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000" spc="-1" strike="noStrike">
                <a:solidFill>
                  <a:srgbClr val="006600"/>
                </a:solidFill>
                <a:latin typeface="Arial"/>
              </a:rPr>
              <a:t>Presentation Tit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8880" y="6189480"/>
            <a:ext cx="384804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6600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12T16:32:42Z</dcterms:modified>
  <cp:revision>535</cp:revision>
  <dc:subject/>
  <dc:title>Diapositiva 1</dc:title>
</cp:coreProperties>
</file>