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855D-2C9F-4404-8663-3CE61F04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A68-920A-4AF7-9FA8-E5259040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049B-C470-4758-8611-41734D5B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396-58E5-49AB-A740-87F7427F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B8C-D63E-4161-AA22-CC735FC7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5EB-ACBA-4FD5-B495-1D9885BB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7EFF-19FD-405D-98E5-4A0F8EB4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CD9-B159-4EAF-87D0-35154D3B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F88B-9FA2-4896-BD16-07F380AE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B20-AF0D-4595-8F58-F36A0083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2DD-E3DB-4674-B370-FCA53CFC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80E-CC55-4AD3-9D5D-82FFF542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1B4A-C70C-40FC-979A-8DAC45EAE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7280" y="5405040"/>
            <a:ext cx="486072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8360" y="580536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0T14:00:10Z</dcterms:modified>
  <cp:revision>660</cp:revision>
  <dc:subject/>
  <dc:title>Diapositiva 1</dc:title>
</cp:coreProperties>
</file>