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36F-85E7-4A8E-8B9B-646912FD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C44-FECA-4E4B-9694-78A85C04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BD6-4040-4D7F-BEB2-06E19FD4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7F9-C5AD-44B9-AA36-4CFEE495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CBA-16F9-4032-81A4-E8F4C79D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620-3A37-4352-AC7C-04A52BE9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806-4089-4835-825F-9DE4680F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0B5-14A2-41C8-98B6-1DE522AC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C47-7DDA-4181-AF85-21594C67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7DE-41A6-46F2-9C77-16ADD018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443-0845-4E6D-B3DD-A53B2EE9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E27-621D-437B-904C-5162ED5C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8B6E-56F0-4C8C-80AE-008117F48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01336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73408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3T16:21:05Z</dcterms:modified>
  <cp:revision>710</cp:revision>
  <dc:subject/>
  <dc:title>Diapositiva 1</dc:title>
</cp:coreProperties>
</file>