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EF7-A1B3-40C1-A8DD-277E5007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928-2147-4DC5-B2B1-9AA16CAC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8C0-69E6-4B2D-9719-522F9C66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F6F-F660-4347-A359-A09BEAF4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E2A-51BE-47FC-BFA4-B14BEF16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64D-9E56-4F96-90F5-0C565779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50A-7474-4F7E-A360-2CADEA63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E8F-7165-4804-9B3E-CC2F3470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8FB-FACC-462B-B9C6-09D5F776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DD3-EFB2-4D16-9669-B90D18F7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F1A-6C8A-44C4-95E5-0FE6B12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767-C052-44F8-A248-91968A1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A7D4-4F5A-491A-AC9B-15EC8C228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9:20:44Z</dcterms:modified>
  <cp:revision>583</cp:revision>
  <dc:subject/>
  <dc:title>Diapositiva 1</dc:title>
</cp:coreProperties>
</file>