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9A5E-3606-4198-AAA8-40D884E38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5329-5DC6-4F86-8090-E79CF4221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CFEB-3D3E-4E34-BFE4-3D4D4E6EB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6A77-1490-41A1-AFEB-3E096AE18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7510-D9A8-4134-93CB-E604CF67C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AF32-EAB4-41B5-9232-AF02374AB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4726-4565-4DEA-AC7A-735B0A3A7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7E23-F94A-480E-9AF0-B1CDE729B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185D-F152-4550-82FE-2C2480598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0A1B-A0D3-44A3-9C9A-A404F6E6D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31D8-AF22-4B64-B22B-D268C8389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9365-76D4-458C-8029-CB3C95A49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20DB8-0D4F-43A1-A8BC-0AA1D78A8B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4508280"/>
            <a:ext cx="4248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300640"/>
            <a:ext cx="4537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ffffff"/>
                </a:solidFill>
                <a:latin typeface="Arial"/>
              </a:rPr>
              <a:t>My name</a:t>
            </a:r>
            <a:br>
              <a:rPr sz="1800"/>
            </a:br>
            <a:r>
              <a:rPr b="1" lang="es-UY" sz="1800" spc="-1" strike="noStrike">
                <a:solidFill>
                  <a:srgbClr val="ffffff"/>
                </a:solidFill>
                <a:latin typeface="Arial"/>
              </a:rPr>
              <a:t>My position, contact information</a:t>
            </a:r>
            <a:br>
              <a:rPr sz="1800"/>
            </a:br>
            <a:r>
              <a:rPr b="1" lang="es-UY" sz="1800" spc="-1" strike="noStrike">
                <a:solidFill>
                  <a:srgbClr val="ffffff"/>
                </a:solidFill>
                <a:latin typeface="Arial"/>
              </a:rPr>
              <a:t>or project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10-25T14:36:31Z</dcterms:modified>
  <cp:revision>713</cp:revision>
  <dc:subject/>
  <dc:title>Diapositiva 1</dc:title>
</cp:coreProperties>
</file>