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4A2-DFC7-42E3-8272-75C850FC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C8C-5802-4EE2-B57B-CE188C23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179-2B0D-4B7C-BA07-F804C177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B60-9AB9-4FAE-9D02-89B38531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47D-8BF6-4CE5-89BD-A2A195B0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895-2629-4332-AC5C-0F4C32F8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F33-3CFF-40B4-91FB-85679669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8AB-344D-48BF-805E-C3722591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3D9-DEA1-4B66-BCC6-8F78FFAF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B97-2791-433F-A78E-D8D0D99B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1B0-0DFF-47FE-A1E6-570F49D6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8E7-A46B-4DBA-821D-A49943CE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2D77-E70F-4CCB-B84D-4B78B2E74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65800" y="429264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566100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4T14:07:45Z</dcterms:modified>
  <cp:revision>711</cp:revision>
  <dc:subject/>
  <dc:title>Diapositiva 1</dc:title>
</cp:coreProperties>
</file>