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354A-BB48-48EC-A809-F7FA6BE9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A2FB-447F-47F1-B9AF-D2E65B64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931-3040-4581-BF96-96F96629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233-980B-46DA-957F-5EFCEE8E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F0B8-1A32-4399-9A17-08F00798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BBC-06CD-425D-8575-82C6D374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FD9-1C00-4DCC-9D49-1A30FF16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C4B1-1320-488E-BE48-279D4329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5627-2712-4078-B1FB-CF8BD450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705-C637-4B9E-A0ED-BEE1CEC4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CF6B-BD08-407B-8969-100CAA67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E6F0-E95E-47F1-9D17-5D9C3FB9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E7D6-8E20-4C02-AE6C-3C06405C6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7280" y="5405040"/>
            <a:ext cx="486072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8360" y="580536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0T14:00:10Z</dcterms:modified>
  <cp:revision>660</cp:revision>
  <dc:subject/>
  <dc:title>Diapositiva 1</dc:title>
</cp:coreProperties>
</file>