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FFEF-57D8-4EF1-8CE9-0CEB710C3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F45B-B0E8-49F3-92A2-75F44C23C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1125-E7CD-4829-ACC8-EE4981410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ABFE-8E57-4AE2-917B-A05BFC22E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76E4-C72F-42AD-84B6-4AC4D6C0C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4E4B-ED8E-44E9-8F64-741D3F56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FB59-DB3D-483C-BAC8-9BDB3FC98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F2D7-AC04-44C0-8474-567BA12E0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5254-5D44-40DA-8C64-21F2C2C4B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221A-E592-4DB7-81FE-CF3D6A0B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7B7E-7B5C-414F-BF98-A53D7DE5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081A-017C-4630-A89B-94823E59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E8BE1-47FB-450E-9129-7CB16AD025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5013360"/>
            <a:ext cx="442728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734080"/>
            <a:ext cx="396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y nam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tact informatio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 project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5-03T16:21:05Z</dcterms:modified>
  <cp:revision>710</cp:revision>
  <dc:subject/>
  <dc:title>Diapositiva 1</dc:title>
</cp:coreProperties>
</file>