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912-B680-4A72-9621-6AE8BB18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B66-3858-4FAE-B85D-639F0C0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F92-2577-4C59-A8C5-DCDCD278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443-2A1D-4113-B9EE-E14FE396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463-78D9-45FB-99E5-893905CC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270-3AF5-4FEC-8466-C6B77E8A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458-B3A5-4F0A-B0D1-DCF1E43E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3AC-3DE6-459F-ABB1-8EBAB045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E1D-69B4-430C-A1BF-886723CD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396-C633-47C9-AD13-BEB26F1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24D-8385-4EAE-8081-5B22AAF2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BF0-C442-4CC4-B4AB-B1C58F9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F301-9FE7-4248-B255-45A73882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9:20:44Z</dcterms:modified>
  <cp:revision>583</cp:revision>
  <dc:subject/>
  <dc:title>Diapositiva 1</dc:title>
</cp:coreProperties>
</file>