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491B-1169-47D5-B786-ACD37D38F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A253-4787-4D9A-8DB6-FBB0753E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9AFF-42E5-4FCC-A7CD-32114554A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A804-AF46-4FA7-8D2A-B62311062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928F-5EDF-4C48-B0B6-D0D83FB5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3C0C-0F5B-45D2-9383-96277B9C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F494-9C02-4A24-8504-8AFCBF03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CC8A-3F59-4A8C-8231-A1416FB1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D801-3929-44FB-A18B-285F5F3B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1352-D859-4D4A-A0F2-5ECB8EBE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DC64-4128-44B4-BDC0-BCCF3031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72F4-EA27-4A40-BE4E-24FDF6E9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C3CA-BB24-4E13-ABAA-96D82896E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4508280"/>
            <a:ext cx="424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300640"/>
            <a:ext cx="453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My name</a:t>
            </a:r>
            <a:br>
              <a:rPr sz="1800"/>
            </a:b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br>
              <a:rPr sz="1800"/>
            </a:b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0-25T14:36:31Z</dcterms:modified>
  <cp:revision>713</cp:revision>
  <dc:subject/>
  <dc:title>Diapositiva 1</dc:title>
</cp:coreProperties>
</file>