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B90-42CE-4021-A9F7-E57E2022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E6B-D0DE-41E4-A036-6F745FE7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5B6-6415-46AF-A75E-8F23FB2C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E63-5678-4D32-8032-C1E08867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F94-E089-4E43-B029-E56B674F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BBF-7CA8-4CB1-94C7-6F7F2F24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499-F7CB-4644-8D58-D1567071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A7B-036E-471D-8C70-67A604E9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B88-720C-445B-93A5-F55A82A8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26A-CA70-4E32-94E7-0B31875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A9F-29BD-418A-A346-A3AED61F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348-947E-4951-9758-BAAC878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2C3-7324-4D36-A316-7220E6C9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4T12:53:29Z</dcterms:modified>
  <cp:revision>587</cp:revision>
  <dc:subject/>
  <dc:title>Diapositiva 1</dc:title>
</cp:coreProperties>
</file>