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E82-A1AC-4FD6-8AB6-33EB0B66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5DE-8FE7-4990-9A13-A014F2EE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7C0-C4A7-49D4-B2EF-B3B7BC81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8F5-0D0D-492A-9D9D-14144E78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AEC-B769-44D2-8BBF-9F7DAFD4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EAB-1C2A-4EAF-8DC1-40824875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039-B613-400B-B530-131D0178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CA8D-5850-4094-9BC9-93539FDF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AC7A-4A43-4449-897A-DF9B8622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06D-0957-4680-9A74-345289CA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0CE-9E1B-4520-BE07-E8B121E8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B4A-5013-4F56-A92C-DC10C204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6F66-D94F-48EA-AF7D-CE1B1B096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65800" y="429264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566100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4T14:07:45Z</dcterms:modified>
  <cp:revision>711</cp:revision>
  <dc:subject/>
  <dc:title>Diapositiva 1</dc:title>
</cp:coreProperties>
</file>