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DB1-8B83-4C34-81C7-124994EC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4E9-22EA-499B-8F98-A87C3DD9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687-8416-48C0-BF3E-1F6B6E90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56C-8C8B-4298-97A6-CF474349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F50-CCF9-49F7-B137-AADCC1CC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3CD-A7EE-45CC-989B-FB29C20E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221-EE01-4750-82B9-6968DF77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345-769A-4207-A1CE-653FB23B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508-CDA2-4111-98FD-27F75281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B28-7E84-47F5-8CAE-0D75661E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261-8921-4115-AE94-5C7BB9FC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03C-6EB6-4340-9DF6-0C2884B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09E5-9D11-4BB9-9520-F86A0AA3D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15736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14136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4T12:53:29Z</dcterms:modified>
  <cp:revision>587</cp:revision>
  <dc:subject/>
  <dc:title>Diapositiva 1</dc:title>
</cp:coreProperties>
</file>