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71A-4B0C-4B68-87CB-9CD40F40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C49-DB6F-4089-82E7-F9A35DD2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50C-2F77-428E-9137-5394294C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47F-4F4D-4D39-B887-6A43FE4D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BDD-60A7-44E4-8E3D-C09663E0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3BD-AF7A-4923-87F0-F3B76FFA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D23-A35A-4299-BD9C-6BEA5AFF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350-4319-4EE0-B38B-8A735CD9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D8D-4F83-4A32-A0E7-58518AE3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DC1-1743-485D-A2F0-3A7A78B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EF4-EB17-45D1-A744-04190367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A09-4313-44D0-90A6-345911E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60B5-80FC-4221-BB6B-569DEC7D8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5800" y="429264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661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4T14:07:45Z</dcterms:modified>
  <cp:revision>711</cp:revision>
  <dc:subject/>
  <dc:title>Diapositiva 1</dc:title>
</cp:coreProperties>
</file>