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8D9-64B4-4EE8-B56B-B5B837A1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AD2-679E-407D-AF7B-64AE9937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621-F1E3-4C43-8638-21DA123F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8BF-DF38-4F9C-AB16-168DDDDC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2D7-8526-4A9C-A3DA-8639C87C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34A-6909-43C8-94CC-4F334DDA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347-A271-4E6A-A877-69F00AE7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1CF-9E4B-4A2D-99F9-6D730CB8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99E-070E-40B5-B051-491B2475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DF3-149C-4987-B8ED-4ED1C103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463-0F8A-4AEC-9DFC-E2019F50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814-89BB-4A97-8B31-EEF101E4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C7A8-FC54-4BA5-ACD6-FFF36A2E0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508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300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5T14:36:31Z</dcterms:modified>
  <cp:revision>713</cp:revision>
  <dc:subject/>
  <dc:title>Diapositiva 1</dc:title>
</cp:coreProperties>
</file>