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1D69-B4AB-442D-B3DC-15B27EC8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3400-594E-42A0-949E-E2FD9D1E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567E-27BA-43D4-8D44-205AA92DC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B15B-16EA-456D-8BCA-B6F7E447E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1A0E-989C-49FB-ABF7-A70574E3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8544-0385-4C66-9630-DEF016EE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7380-B626-44F4-9C29-9D5505D4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E482-EB99-4543-B4C2-4E48E15B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BC1F-FCCB-4CCC-8096-FA421B3B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201E-4085-4817-A93F-45F9E997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6CAE-75EC-42B0-A098-266E5485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0581-2A6B-422C-856C-F9A69C7D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2537-8D4E-4DAF-BD83-432FF33C8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4653000"/>
            <a:ext cx="453708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5300280"/>
            <a:ext cx="4176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2-29T19:20:44Z</dcterms:modified>
  <cp:revision>583</cp:revision>
  <dc:subject/>
  <dc:title>Diapositiva 1</dc:title>
</cp:coreProperties>
</file>