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BBA-D57D-423B-A091-C22BCCA7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3B6-DE9D-4638-8BC0-122FF7B0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4C8-F2E8-4BCC-A180-1D1B7FE0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8D7-4EF1-4059-A451-C208E2FB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99C-C322-45B8-AADB-F9C5260D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43E-2DDE-4B5C-8A15-3956C2DC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493-60AC-4B4B-8FCD-787EBFD4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055-D77A-4017-9CD0-B0D80B48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6F6-A465-4DC7-976D-FBCF68F8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8EB-5356-4E09-93B5-33E7F15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3B3-980B-42B1-9130-EC9CE45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9A4-67D4-408D-ADC7-486D77A4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476-1A8C-4923-9984-5B09C6986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9:20:44Z</dcterms:modified>
  <cp:revision>583</cp:revision>
  <dc:subject/>
  <dc:title>Diapositiva 1</dc:title>
</cp:coreProperties>
</file>