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D2B-502A-475D-AE67-4FD2A1B2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143C-DF89-4EDB-8B36-DD04321E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4E1-7A36-4C70-86E6-E507054F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2C50-E00B-4A65-B5FF-0FC79959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9752-EAB3-439C-986C-302BFB8B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A21-0B74-4756-9571-1D77EB84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04C-2422-4A86-88D3-D13B437F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2422-E660-4FF3-AEC4-804789B7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9B34-F06B-4FB7-AFC0-1E31EB27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D25-97B2-41DD-B0CA-3A332394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1ED-62F5-4A84-9530-46916792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589-2002-4220-95F4-A9DC7329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1EA9-2E0C-40FE-BB1A-D63FF24CE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7280" y="5405040"/>
            <a:ext cx="486072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8360" y="580536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0T14:00:10Z</dcterms:modified>
  <cp:revision>660</cp:revision>
  <dc:subject/>
  <dc:title>Diapositiva 1</dc:title>
</cp:coreProperties>
</file>