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A53-E7EF-4C23-BE0B-0769FCC3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371-35B7-4233-A79D-2DC6375D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F4E-63B5-45EE-B006-46FCE085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6B0-A7EC-4808-AA9F-DDCCE1AB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297-4574-47EB-A95D-0BB85FF2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C27-33F6-4C9A-951E-0A5A021E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1CB-437F-4CC2-B0B8-F6B8E53A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2BF-4524-4A14-9BD3-FF3CA751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C75-7866-4D81-90DA-ECAB32A8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E00-3BC1-4F3F-B101-253A8B3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D74-DF8C-41E8-9A81-CA3259A8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843-2B37-4346-8C4D-C9FC0D1F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68AB-CF00-400D-ACFF-B0AC3079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9:20:44Z</dcterms:modified>
  <cp:revision>583</cp:revision>
  <dc:subject/>
  <dc:title>Diapositiva 1</dc:title>
</cp:coreProperties>
</file>