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02D1-18A8-47CE-B902-4115F94D7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C3EE-BB51-4BD1-869F-342DA201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460A-1739-458F-B6EC-585DC03AD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7D8F-38BD-4E8B-8A8E-24989FB01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393C-ED0D-41FC-B288-19B00C8A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0E70-6E90-42CA-8894-AB800F8F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450A-1ABF-406B-A1F8-7660594E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D3ED-A5E0-4815-9B3D-EF2753F6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60B4-9EA1-4B23-9DCC-D96237FB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D42E-B6EF-4804-B783-A3EF8632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86E7-08AC-4EFA-B6D2-BCBB343D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64D6-0165-49F7-9327-C58D2324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8B08-E763-48C7-AC4E-930B0BA5C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67280" y="5405040"/>
            <a:ext cx="486072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08360" y="5805360"/>
            <a:ext cx="518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Your company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4-10T14:00:10Z</dcterms:modified>
  <cp:revision>660</cp:revision>
  <dc:subject/>
  <dc:title>Diapositiva 1</dc:title>
</cp:coreProperties>
</file>