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BF4-A253-48AC-8CEC-6C89E405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813-ED67-458E-AC55-534736D1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1BD-0963-4BE4-9E7E-655FB1C8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0AF-DDDA-47DF-89AD-C314664A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453-4AF6-4D87-BB75-434C3DA6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8DA-CCF0-4751-8309-B6353F37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714-6D16-4299-B676-8EB1CAE0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788-6152-43E6-9F0F-0A1A543A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26D-3326-45D6-87B6-7276FA12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16A-CDFE-4B83-9A01-19D15247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3A4-C121-4474-9AD7-DE910350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679-886D-4414-8DC5-CD96032D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5AF8-AD9A-4A52-9AF6-ADF0BBE1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5800" y="429264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661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4T14:07:45Z</dcterms:modified>
  <cp:revision>711</cp:revision>
  <dc:subject/>
  <dc:title>Diapositiva 1</dc:title>
</cp:coreProperties>
</file>