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BB1-1805-456F-9209-BF1C9F31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929-832A-4B83-8D1F-4643FC04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256-004D-4263-A61A-B8299B94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4D4-EBEB-4FF5-969E-9EAA40EF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D66-AF5B-4DFB-9161-1692C35E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31B-F3C6-4FF8-8EDF-55FE95AB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1BB-6D7E-43B7-801D-EA0DE6E1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3C9-CBBF-4BE1-AA16-A6742057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C5F-DAD8-410D-94A6-B7F1B83D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D62-4E46-4471-95AE-F501EFA9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221-81B8-4ED1-9500-E6C07B2B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26A-8A1D-476B-85AA-8FB147C2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859E-7019-4352-ADA1-44F0BEBB9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508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300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5T14:36:31Z</dcterms:modified>
  <cp:revision>713</cp:revision>
  <dc:subject/>
  <dc:title>Diapositiva 1</dc:title>
</cp:coreProperties>
</file>