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D15-F2D7-4264-B1BF-201CDED3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4A7-140F-4ECE-9BEF-725D876D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282-3826-42C9-AED8-A616E0DC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035-862D-412E-83B9-F32641B6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90A-E3E4-4D00-B857-1F8EE0B7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787-853B-4F10-A6BD-8E3773DC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742-D167-4E76-8C78-BAC7A788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F61-BE40-46A7-BCCF-54A44C92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6C0-0CB6-4122-A0C6-1CF8F7DD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3C9-CE47-401C-A96F-F807E505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E3B-F1FE-4593-B3F3-248CB3A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0B0-64B6-4417-844B-18E644B5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036B-14BD-46FF-860C-3237949B8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15736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14136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4T12:53:29Z</dcterms:modified>
  <cp:revision>587</cp:revision>
  <dc:subject/>
  <dc:title>Diapositiva 1</dc:title>
</cp:coreProperties>
</file>