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DFB-FBB9-41D2-90CD-B825F162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6E79-04D9-49F6-9618-03E813D7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D712-3DE3-48F9-BDB7-B88C3955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E5F-59B4-4D81-B512-CCF68EAD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01A-2EE9-4EE9-8F3B-105495C5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D32-D819-4CED-B36C-53AB79C4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99F-4F4B-47E2-B9E0-67AC88FA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DB7-7A37-4723-B75B-95A70CFA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536-84BA-4EC7-9ECC-6FA2B15A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AEA3-A3D9-4800-B7A3-9113F7A6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2109-866B-4BB7-B0BC-D04DCEF7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38D-F47A-4BE4-8D92-98E97DDF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820A-2CD3-4C8E-B541-A6201C817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7280" y="5405040"/>
            <a:ext cx="486072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8360" y="580536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0T14:00:10Z</dcterms:modified>
  <cp:revision>660</cp:revision>
  <dc:subject/>
  <dc:title>Diapositiva 1</dc:title>
</cp:coreProperties>
</file>