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BF6-46B2-4780-9D6E-BBB3152F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EEE-C59B-48B3-A6E1-175BE310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F8D-B747-43A2-9D40-34EA3EEC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333-5741-4DCD-B254-C649EFAD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1D6-4A50-4A84-95DA-79DC4B74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CE0-9037-477B-94AB-2C9ABF1F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EE7-AD00-4703-ABB1-98642F59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036-A498-4215-BEC8-CB68632D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586-5239-4B94-B5DE-CFCC481B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D15-96B1-466F-A85E-5676325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A14-9F58-4E7D-AD79-2ECB3D9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257-917D-4418-8AB8-02B971B5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E758-BBD3-4D7F-B0E1-ACE41440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508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300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5T14:36:31Z</dcterms:modified>
  <cp:revision>713</cp:revision>
  <dc:subject/>
  <dc:title>Diapositiva 1</dc:title>
</cp:coreProperties>
</file>