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75E-C220-4A9C-80F9-1A4E258F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C8D-B95E-4F58-B9F7-EBD5D5B7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3DB-5C4E-4658-A1AB-C225188E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AE5-05DC-4E9E-9613-1D69C50F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BCC-8B9A-480C-870A-06EEBAE0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828-8143-4601-B26F-23896AB6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C02-FA1F-4119-8227-F05D8046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306-ABE5-4576-AE90-0EF42D4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547-2B94-410A-A52F-FE4C8D6A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741-6862-4B99-924B-0B934996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493-6F6A-45EB-97D6-CBF8F799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482-FE22-4316-8CC1-61570F0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A7A8-E8B0-41CF-9313-13C48008D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9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1T17:09:21Z</dcterms:modified>
  <cp:revision>661</cp:revision>
  <dc:subject/>
  <dc:title>Diapositiva 1</dc:title>
</cp:coreProperties>
</file>