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9750-9739-4809-8385-179200F7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B7F-4300-4FDF-946A-CB436368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82D7-00A7-46A3-B290-BF538CD8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1227-910F-4068-A097-38520599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E8FE-21D9-4FC4-975A-367CFED2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B341-C381-44A5-99E5-7415E386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7D4-D459-4A18-9808-C324B8D7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72E-00D3-44F9-9821-1AEBF096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831-E1CD-4957-AE75-0BFD1E40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8DBD-D9DA-4081-9F50-BE70CF17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470-72A0-4823-A114-828305B6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F118-9DC7-4B0D-AF72-DF19072C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CC64-FFA6-4364-B72F-DAA4797E8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5-26T21:38:18Z</dcterms:modified>
  <cp:revision>6</cp:revision>
  <dc:subject/>
  <dc:title>Diapositiva 1</dc:title>
</cp:coreProperties>
</file>