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C50E-3F70-41CB-AF9A-DC209058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F6DB-B9EF-483E-9C26-5061CD1D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6881-9785-4178-B061-A18B0237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392D-390F-4571-9BB4-F4E6C584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1BA7-6903-4D47-8F57-A486B13B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3928-E8E4-4305-B7E1-E9EDE50C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D505-060A-4D0C-9E25-F6C3394C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938B-9589-48F1-8D55-83DB00AE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DEE1-F39F-491B-A0E3-89BECA12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FB4A-9F35-4DBE-BE52-D5EA779D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EBD7-50F1-4002-A43B-0C53D2C8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BFFF-CDD2-43B1-A622-D646DC53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CFC8-9621-4403-BDF1-30A3115D9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0720" y="3789000"/>
            <a:ext cx="44654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00720" y="4508640"/>
            <a:ext cx="417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22T16:27:36Z</dcterms:modified>
  <cp:revision>601</cp:revision>
  <dc:subject/>
  <dc:title>Diapositiva 1</dc:title>
</cp:coreProperties>
</file>