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9EB-41D5-43C8-A3E6-6E892A13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72D-6377-4FCB-8D57-C5F83F3E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61C-0B6F-490F-888C-EC08C194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DFD-11E2-463B-B638-210C9B77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D34-1E37-4715-A4C4-343FD336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578-B72C-403E-BC2B-EA5184C4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89D-51CC-40F5-96BA-27884677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9A5-E7A8-4FEA-ACD0-5B37E416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E1F-D98E-4405-BB47-8467370A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18C-3C70-49F9-9C7D-DCD188D2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DB2-5266-4B7C-AC50-707D6A3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100-FAD9-4F51-BFF9-397BD558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43C0-D5FF-4231-9580-6E805784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73372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573408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06T19:00:29Z</dcterms:modified>
  <cp:revision>774</cp:revision>
  <dc:subject/>
  <dc:title>Diapositiva 1</dc:title>
</cp:coreProperties>
</file>