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C72-EA15-4E80-BC5F-FA838EBB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7EF-DB03-4085-980A-BF0ADD17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F71-2775-4017-AAA6-82BADC00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7A3-211C-49E0-B441-B4802BB0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5232-7A1C-483E-9A53-C3143385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B9D-A181-4D0D-8B5A-33AA74DF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544D-D272-47BA-BBFA-42BFDD06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341-CD3D-4D1C-8163-2898402D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58C-945C-4102-9039-C910E353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747-B722-497A-BCEA-82E7BA1C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618-4084-42E5-928F-152B9587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8F7-4413-4DEC-BBC5-C51C541E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554D-BC49-4329-8684-3C0772E30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96000" y="4292640"/>
            <a:ext cx="4860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932360" y="494172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1T17:09:21Z</dcterms:modified>
  <cp:revision>661</cp:revision>
  <dc:subject/>
  <dc:title>Diapositiva 1</dc:title>
</cp:coreProperties>
</file>