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35B-27D3-4D22-9D48-678845EF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073-1A15-4DEA-A2A1-01C5A43D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91E-1A00-4B50-93B8-12436487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82F-F324-4166-AF64-1B909F77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B0B-9725-42E8-97D5-E38CBDBA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CB8-E73D-44BD-8F92-50D98B2D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193-5A7D-4A45-BBEB-5A3426B4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F0B-E1A5-419F-8A10-49330C12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521-A283-4539-87E3-BBDDF882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BC2-CAC9-4EC3-81E8-6881B804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431-4E17-48A1-8CC0-EBE998E8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4A7-2F38-4AB3-88AC-82326D4C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01DF-98CD-47BE-8A60-66A3C7D25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3-27T16:01:57Z</dcterms:modified>
  <cp:revision>7</cp:revision>
  <dc:subject/>
  <dc:title>TITLE</dc:title>
</cp:coreProperties>
</file>