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BA2-6EA8-4161-8E0A-0022C623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1AFB-F7F2-4997-8734-7B59ABCD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DA6-088E-47FF-A96C-9D089E87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8F5-F789-4D82-AFA5-B9CEF650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BC2E-5A46-4285-AA36-24AEAC59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630-D8E9-49A3-98B0-8D47847D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F5D8-F7D3-4A9A-9005-0230299D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559-5B8F-4B69-90CC-34F6D181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8E4-3C6B-4DF8-A71B-F7082C06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CFBD-08F4-47B4-BFA9-81B69DEB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993-5308-4A08-A7C6-1381C601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E0D0-28E9-4FC2-966A-B5DF9332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6138-12A0-4752-831C-17A38B975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5-26T21:38:18Z</dcterms:modified>
  <cp:revision>6</cp:revision>
  <dc:subject/>
  <dc:title>Diapositiva 1</dc:title>
</cp:coreProperties>
</file>