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F28-BCB2-4316-88C0-49A20E06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83F-B4F3-4761-B5AD-7F7D9BFB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054-FAC6-480A-BE75-2D9A6DC9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6DF-D7CE-4FF8-AE22-0233A12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3DB4-42E4-44FC-B9E8-09A6877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BBEA-9DE0-4C11-B68E-CA127B18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342-9A3E-4267-975F-45308291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BBA-A6AB-426D-8448-F699FF07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C97-DD57-47C1-BC35-465D927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FA9-0E3C-4B72-99F7-35A2EA1E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961-075D-4D55-B4FC-F21149C1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39BE-99FB-47BA-A24D-2236181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5FEF-D80A-468F-9321-C8D974112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789000"/>
            <a:ext cx="44654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720" y="4508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22T16:27:36Z</dcterms:modified>
  <cp:revision>601</cp:revision>
  <dc:subject/>
  <dc:title>Diapositiva 1</dc:title>
</cp:coreProperties>
</file>