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676-0212-4AB8-B251-F931096C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436E-4CBF-458D-95EB-27A241D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1F1-92D6-45C3-9BEA-0FBF1FF1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7ED-0760-4677-A369-7FDADB0D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7CE-1A97-449C-8F61-FA07714C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B52-C49D-46C7-B975-F30475FC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ADB-BE5A-4D52-AEEF-DD904A74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825-2411-42BE-B64F-D6C66B6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B1E-62B0-448E-B2D4-B6319AB1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0C16-86AB-469D-87A1-B4C07F3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F64-963D-4D28-B5EC-01F2484A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77DA-5783-4E38-A828-1647007A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1E06-3CB1-4E10-9B2E-A11C5AF27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73372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80000" y="573408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06T19:00:29Z</dcterms:modified>
  <cp:revision>774</cp:revision>
  <dc:subject/>
  <dc:title>Diapositiva 1</dc:title>
</cp:coreProperties>
</file>