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28D-882D-417A-8EAB-6CBAE78F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803-37A8-47D2-8B4E-704DA8B6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C04-E1C0-4D70-96C0-DE289D41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26B-9E62-4917-9587-FBB2EAC7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C4F-0CE7-408D-B627-D4B1221D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491-6C71-4A0D-B808-F0F31CFD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3EC-ED1F-4CA4-A746-A0E31CE8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455-03C1-4EED-8743-9261E3A3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B17-982E-46EA-8B34-0761D6B6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452-C4C2-4A90-91B5-B576CD2B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5B5-B7EF-49EF-9EBE-ED014467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BD5-A9C2-4B1C-83AA-5F861ACF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D096-BB78-41B6-82D0-ECBBA7959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96000" y="4292640"/>
            <a:ext cx="4860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494172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1T17:09:21Z</dcterms:modified>
  <cp:revision>661</cp:revision>
  <dc:subject/>
  <dc:title>Diapositiva 1</dc:title>
</cp:coreProperties>
</file>