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6DD-795B-4A46-A888-31E3351F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76E-AE1C-48D1-8CF5-A2BE3280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8C3-9BDD-423B-A761-BEA0C1D6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36B-392D-41F8-AC0A-E310BF69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F0C-F865-4213-B454-069A1623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DD9-AD00-45EA-9159-EC94EE28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49B-7518-4D35-B237-E1E09AB6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07B-0467-4DF1-89D9-A5679BCD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F66-ED7C-4F32-88CB-FDC6B0E2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877-38FD-4587-9372-581D18FF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F07-26F0-4E5C-8CED-01C6DD3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B5E-BE9F-4496-A38B-AC55625A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B01E-9C3C-4FFE-82FA-141EB61C5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3-27T16:01:57Z</dcterms:modified>
  <cp:revision>7</cp:revision>
  <dc:subject/>
  <dc:title>TITLE</dc:title>
</cp:coreProperties>
</file>