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AAB-05DD-4986-B3AD-C554EE34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CF5-39C9-479A-A0D0-EE18E5B8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454-8FCB-4A95-B856-9B1519D5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E3B-699C-4C6D-8EEC-9F4CBD4C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3D5-A628-4E60-83EA-4605D3E7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07A-9B7E-4A6F-B4B6-F1A508B8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134-65D9-4743-884E-18B1FF91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E74-EA42-4F19-97FF-E7631275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F4A-9A86-44FC-973C-C2D7E054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375-47E4-4B9C-BED2-B65BEF28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FEE-C2B6-41D6-ACC3-B7FDFDF4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32D-0987-4BA8-A65B-E3EBBB4F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694F-D096-436D-AD3F-4F633DA7A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5-26T21:38:18Z</dcterms:modified>
  <cp:revision>6</cp:revision>
  <dc:subject/>
  <dc:title>Diapositiva 1</dc:title>
</cp:coreProperties>
</file>