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E27B-8E93-4F51-9B08-4E2F09B5D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E966-EC30-44ED-8F01-A0166FAD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AA02-E4BF-464E-8E76-548649D91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1AAD-1210-4293-AE7C-20A3F2A2B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DD8D-3DE5-4CB8-A0FD-C85EA072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FB6B-A232-48FF-9656-B17A9AB8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2B55-B250-41D3-B1E1-15288825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7831-3619-4C86-B3F9-D3B957D2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C431-F68F-4A5D-B860-8643D5D8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08D5-60D5-4DE1-BFEC-C1382ED4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F44C-48C6-4C73-B44E-7723EB80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25D0-1AB7-4667-B91E-C29550F4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AC36-F909-41B1-8838-BFF092ECB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ariajose</cp:lastModifiedBy>
  <dcterms:modified xsi:type="dcterms:W3CDTF">2009-03-27T16:01:57Z</dcterms:modified>
  <cp:revision>7</cp:revision>
  <dc:subject/>
  <dc:title>TITLE</dc:title>
</cp:coreProperties>
</file>