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01D-8F24-42E5-A657-01FC9503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7F9-2BB6-449F-B901-82470241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155-475B-45EC-8E6E-8249D593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48E-7E49-4256-93B2-26506788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895-5359-4EF8-80D8-1A0B2B06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018-FF6F-4219-990C-CF5B055B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C94-87D0-4B08-B1F9-CC98F407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2E6-D1CA-4DB5-834C-7C2D1D5C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3AA-4D4E-464A-97A6-76487E4F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9AE-536A-4758-B6FC-01813097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6A0-2783-43CE-884C-B072E4E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9B3-3A8F-40EC-B6E3-D2D88365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205A-AF43-4AB4-96F2-301B888C0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6T21:38:18Z</dcterms:modified>
  <cp:revision>6</cp:revision>
  <dc:subject/>
  <dc:title>Diapositiva 1</dc:title>
</cp:coreProperties>
</file>