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4BA8-308F-4FE8-89CA-C4F0298A0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86AE-52C3-4642-BE70-355EFD888131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925B-835C-401D-B058-22342EF332D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214-7EC5-4668-BF44-846356150414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7FA1-3852-4989-BA6A-F5096E690F45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CDEB-4074-4EC5-96CE-5E6C609088B4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CB5-0B87-4911-8E9B-A53F2C8F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868-DAFB-46F0-B79A-B0DB15D4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219-8890-4F10-A807-2418134D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640-9210-47EF-97D0-006D9167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CD3-1105-4C0E-8AD0-F3B6AD94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4CE3-6173-4AA4-A97C-7795627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8F9E-6C33-4DC0-8272-88AA7616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51C1-CB67-4E81-88A1-D09830A8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7BE5-01B4-435A-A3C9-FE1C34E1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4DF0-B4FF-4806-BCE8-827715DF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DE5B-808F-4521-9F57-921501F4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415-CB67-4129-A0FB-2F7A9F48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BBA8-4805-4CAD-94C5-A123609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1EFB-666A-4644-A5CD-62825DDD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055D-0FE8-45A8-AE80-9F99BBE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2F5D-1B3C-426F-B026-607688C7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8CC1-CA8D-44C8-BB57-B375DF84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75F-CAC8-4FF7-A718-BBAD10E8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D007-2C44-47B3-AA67-1BCEFE3A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553-DD0C-441A-AC1F-1870F75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58E-756E-4D65-9D31-1D14891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B72-49E3-4C7A-899F-335A1A4D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C85-2A4A-43BC-B9FF-830CAE41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646-4940-4573-9A5E-66E0599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D8C-21BA-439A-9997-13A299F3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713-0493-42D2-99A5-E44CD2EFBF5D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2" descr="Untitled-6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card5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0" descr="card4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card2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8" descr="card1"/>
          <p:cNvPicPr/>
          <p:nvPr/>
        </p:nvPicPr>
        <p:blipFill>
          <a:blip r:embed="rId5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"/>
          <p:cNvSpPr/>
          <p:nvPr/>
        </p:nvSpPr>
        <p:spPr>
          <a:xfrm>
            <a:off x="533520" y="216864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80"/>
                </a:solidFill>
                <a:latin typeface="Arial"/>
              </a:rPr>
              <a:t>COLOUR</a:t>
            </a:r>
            <a:endParaRPr b="0" lang="en-US" sz="10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105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Text Box 108"/>
          <p:cNvSpPr/>
          <p:nvPr/>
        </p:nvSpPr>
        <p:spPr>
          <a:xfrm>
            <a:off x="662940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Picture 9" descr="C:\Users\Administrator\Desktop\PowerPoint Dep full vien trang.png"/>
          <p:cNvPicPr/>
          <p:nvPr/>
        </p:nvPicPr>
        <p:blipFill>
          <a:blip r:embed="rId6"/>
          <a:stretch/>
        </p:blipFill>
        <p:spPr>
          <a:xfrm>
            <a:off x="601560" y="579600"/>
            <a:ext cx="2751120" cy="393480"/>
          </a:xfrm>
          <a:prstGeom prst="rect">
            <a:avLst/>
          </a:prstGeom>
          <a:ln w="0">
            <a:noFill/>
          </a:ln>
        </p:spPr>
      </p:pic>
      <p:sp>
        <p:nvSpPr>
          <p:cNvPr id="99" name="Hình chữ nhật 1"/>
          <p:cNvSpPr/>
          <p:nvPr/>
        </p:nvSpPr>
        <p:spPr>
          <a:xfrm>
            <a:off x="638280" y="396072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4c4c"/>
                </a:solidFill>
                <a:latin typeface="Arial"/>
              </a:rPr>
              <a:t>SLIDE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0" name="Hộp_Văn_Bản 2" descr=""/>
          <p:cNvPicPr/>
          <p:nvPr/>
        </p:nvPicPr>
        <p:blipFill>
          <a:blip r:embed="rId7"/>
          <a:stretch/>
        </p:blipFill>
        <p:spPr>
          <a:xfrm>
            <a:off x="6431040" y="2487600"/>
            <a:ext cx="41436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card2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card1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6" descr=""/>
          <p:cNvPicPr/>
          <p:nvPr/>
        </p:nvPicPr>
        <p:blipFill>
          <a:blip r:embed="rId6"/>
          <a:stretch/>
        </p:blipFill>
        <p:spPr>
          <a:xfrm>
            <a:off x="1371600" y="1447920"/>
            <a:ext cx="6400800" cy="4351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3"/>
          <p:cNvSpPr/>
          <p:nvPr/>
        </p:nvSpPr>
        <p:spPr>
          <a:xfrm>
            <a:off x="2232000" y="5791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Biểu đồ minh họa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67057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2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Hộp_Văn_Bản 1"/>
          <p:cNvSpPr/>
          <p:nvPr/>
        </p:nvSpPr>
        <p:spPr>
          <a:xfrm>
            <a:off x="5207760" y="1536840"/>
            <a:ext cx="24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lick 2 lần để thay đổi số liệu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1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209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8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9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0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1" descr="card2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2" descr="card1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5340240" y="2135160"/>
            <a:ext cx="26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hình ảnh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69343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3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Picture 73" descr="C:\Users\Administrator\Desktop\smf_icon.png"/>
          <p:cNvPicPr/>
          <p:nvPr/>
        </p:nvPicPr>
        <p:blipFill>
          <a:blip r:embed="rId6"/>
          <a:stretch/>
        </p:blipFill>
        <p:spPr>
          <a:xfrm>
            <a:off x="830160" y="1700280"/>
            <a:ext cx="3921120" cy="3921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7"/>
          <p:cNvSpPr/>
          <p:nvPr/>
        </p:nvSpPr>
        <p:spPr>
          <a:xfrm>
            <a:off x="5340240" y="2857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5340240" y="33624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5340240" y="39178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5340240" y="44370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111240" y="2124000"/>
            <a:ext cx="37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9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0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card4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card2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card1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6"/>
          <p:cNvSpPr/>
          <p:nvPr/>
        </p:nvSpPr>
        <p:spPr>
          <a:xfrm>
            <a:off x="71629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4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2" name="Плюс 53"/>
          <p:cNvSpPr/>
          <p:nvPr/>
        </p:nvSpPr>
        <p:spPr>
          <a:xfrm>
            <a:off x="2924280" y="2308320"/>
            <a:ext cx="966600" cy="966600"/>
          </a:xfrm>
          <a:custGeom>
            <a:avLst/>
            <a:gdLst/>
            <a:ahLst/>
            <a:rect l="l" t="t" r="r" b="b"/>
            <a:pathLst>
              <a:path w="966788" h="966788">
                <a:moveTo>
                  <a:pt x="128148" y="401396"/>
                </a:moveTo>
                <a:lnTo>
                  <a:pt x="401396" y="401396"/>
                </a:lnTo>
                <a:lnTo>
                  <a:pt x="401396" y="128148"/>
                </a:lnTo>
                <a:lnTo>
                  <a:pt x="565392" y="128148"/>
                </a:lnTo>
                <a:lnTo>
                  <a:pt x="565392" y="401396"/>
                </a:lnTo>
                <a:lnTo>
                  <a:pt x="838640" y="401396"/>
                </a:lnTo>
                <a:lnTo>
                  <a:pt x="838640" y="565392"/>
                </a:lnTo>
                <a:lnTo>
                  <a:pt x="565392" y="565392"/>
                </a:lnTo>
                <a:lnTo>
                  <a:pt x="565392" y="838640"/>
                </a:lnTo>
                <a:lnTo>
                  <a:pt x="401396" y="838640"/>
                </a:lnTo>
                <a:lnTo>
                  <a:pt x="401396" y="565392"/>
                </a:lnTo>
                <a:lnTo>
                  <a:pt x="128148" y="565392"/>
                </a:lnTo>
                <a:lnTo>
                  <a:pt x="128148" y="401396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Равно 54"/>
          <p:cNvSpPr/>
          <p:nvPr/>
        </p:nvSpPr>
        <p:spPr>
          <a:xfrm>
            <a:off x="5705640" y="2549520"/>
            <a:ext cx="966600" cy="544680"/>
          </a:xfrm>
          <a:custGeom>
            <a:avLst/>
            <a:gdLst/>
            <a:ahLst/>
            <a:rect l="l" t="t" r="r" b="b"/>
            <a:pathLst>
              <a:path w="966788" h="544513">
                <a:moveTo>
                  <a:pt x="128148" y="112170"/>
                </a:moveTo>
                <a:lnTo>
                  <a:pt x="838640" y="112170"/>
                </a:lnTo>
                <a:lnTo>
                  <a:pt x="838640" y="240239"/>
                </a:lnTo>
                <a:lnTo>
                  <a:pt x="128148" y="240239"/>
                </a:lnTo>
                <a:lnTo>
                  <a:pt x="128148" y="112170"/>
                </a:lnTo>
                <a:close/>
                <a:moveTo>
                  <a:pt x="128148" y="304274"/>
                </a:moveTo>
                <a:lnTo>
                  <a:pt x="838640" y="304274"/>
                </a:lnTo>
                <a:lnTo>
                  <a:pt x="838640" y="432343"/>
                </a:lnTo>
                <a:lnTo>
                  <a:pt x="128148" y="432343"/>
                </a:lnTo>
                <a:lnTo>
                  <a:pt x="128148" y="304274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4" name="Группа 58"/>
          <p:cNvGrpSpPr/>
          <p:nvPr/>
        </p:nvGrpSpPr>
        <p:grpSpPr>
          <a:xfrm>
            <a:off x="1332000" y="4181400"/>
            <a:ext cx="1944720" cy="1571760"/>
            <a:chOff x="1332000" y="4181400"/>
            <a:chExt cx="1944720" cy="1571760"/>
          </a:xfrm>
        </p:grpSpPr>
        <p:sp>
          <p:nvSpPr>
            <p:cNvPr id="135" name="Прямоугольник 59"/>
            <p:cNvSpPr/>
            <p:nvPr/>
          </p:nvSpPr>
          <p:spPr>
            <a:xfrm>
              <a:off x="133200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36" name="Прямоугольник 60"/>
            <p:cNvSpPr/>
            <p:nvPr/>
          </p:nvSpPr>
          <p:spPr>
            <a:xfrm>
              <a:off x="133200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4ee7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7" name="Прямоугольник 65"/>
          <p:cNvSpPr/>
          <p:nvPr/>
        </p:nvSpPr>
        <p:spPr>
          <a:xfrm>
            <a:off x="162864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8" name="Группа 83"/>
          <p:cNvGrpSpPr/>
          <p:nvPr/>
        </p:nvGrpSpPr>
        <p:grpSpPr>
          <a:xfrm>
            <a:off x="3902040" y="4181400"/>
            <a:ext cx="1944720" cy="1571760"/>
            <a:chOff x="3902040" y="4181400"/>
            <a:chExt cx="1944720" cy="1571760"/>
          </a:xfrm>
        </p:grpSpPr>
        <p:sp>
          <p:nvSpPr>
            <p:cNvPr id="139" name="Прямоугольник 86"/>
            <p:cNvSpPr/>
            <p:nvPr/>
          </p:nvSpPr>
          <p:spPr>
            <a:xfrm>
              <a:off x="39020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0" name="Прямоугольник 87"/>
            <p:cNvSpPr/>
            <p:nvPr/>
          </p:nvSpPr>
          <p:spPr>
            <a:xfrm>
              <a:off x="39020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1" name="Прямоугольник 85"/>
          <p:cNvSpPr/>
          <p:nvPr/>
        </p:nvSpPr>
        <p:spPr>
          <a:xfrm>
            <a:off x="4200480" y="454356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2" name="Группа 89"/>
          <p:cNvGrpSpPr/>
          <p:nvPr/>
        </p:nvGrpSpPr>
        <p:grpSpPr>
          <a:xfrm>
            <a:off x="6618240" y="4181400"/>
            <a:ext cx="1944720" cy="1571760"/>
            <a:chOff x="6618240" y="4181400"/>
            <a:chExt cx="1944720" cy="1571760"/>
          </a:xfrm>
        </p:grpSpPr>
        <p:sp>
          <p:nvSpPr>
            <p:cNvPr id="143" name="Прямоугольник 95"/>
            <p:cNvSpPr/>
            <p:nvPr/>
          </p:nvSpPr>
          <p:spPr>
            <a:xfrm>
              <a:off x="66182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4" name="Прямоугольник 96"/>
            <p:cNvSpPr/>
            <p:nvPr/>
          </p:nvSpPr>
          <p:spPr>
            <a:xfrm>
              <a:off x="66182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5" name="Прямоугольник 91"/>
          <p:cNvSpPr/>
          <p:nvPr/>
        </p:nvSpPr>
        <p:spPr>
          <a:xfrm>
            <a:off x="686736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6" name="Ellipse 98"/>
          <p:cNvGrpSpPr/>
          <p:nvPr/>
        </p:nvGrpSpPr>
        <p:grpSpPr>
          <a:xfrm>
            <a:off x="6980400" y="3365640"/>
            <a:ext cx="1382400" cy="304560"/>
            <a:chOff x="6980400" y="3365640"/>
            <a:chExt cx="1382400" cy="304560"/>
          </a:xfrm>
        </p:grpSpPr>
        <p:pic>
          <p:nvPicPr>
            <p:cNvPr id="147" name="Ellipse 98" descr=""/>
            <p:cNvPicPr/>
            <p:nvPr/>
          </p:nvPicPr>
          <p:blipFill>
            <a:blip r:embed="rId6"/>
            <a:stretch/>
          </p:blipFill>
          <p:spPr>
            <a:xfrm>
              <a:off x="6980400" y="3365640"/>
              <a:ext cx="1382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848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9" name="Can 56"/>
          <p:cNvSpPr/>
          <p:nvPr/>
        </p:nvSpPr>
        <p:spPr>
          <a:xfrm>
            <a:off x="7118280" y="2065320"/>
            <a:ext cx="1089000" cy="1390680"/>
          </a:xfrm>
          <a:prstGeom prst="can">
            <a:avLst>
              <a:gd name="adj" fmla="val 19578"/>
            </a:avLst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5400000"/>
          </a:gradFill>
          <a:ln w="12600">
            <a:solidFill>
              <a:srgbClr val="127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0" name="Ellipse 98"/>
          <p:cNvGrpSpPr/>
          <p:nvPr/>
        </p:nvGrpSpPr>
        <p:grpSpPr>
          <a:xfrm>
            <a:off x="4114800" y="3365640"/>
            <a:ext cx="1384200" cy="304560"/>
            <a:chOff x="4114800" y="3365640"/>
            <a:chExt cx="1384200" cy="304560"/>
          </a:xfrm>
        </p:grpSpPr>
        <p:pic>
          <p:nvPicPr>
            <p:cNvPr id="151" name="Ellipse 98" descr=""/>
            <p:cNvPicPr/>
            <p:nvPr/>
          </p:nvPicPr>
          <p:blipFill>
            <a:blip r:embed="rId7"/>
            <a:stretch/>
          </p:blipFill>
          <p:spPr>
            <a:xfrm>
              <a:off x="4114800" y="3365640"/>
              <a:ext cx="1384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319640" y="3411360"/>
              <a:ext cx="977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3" name="Can 62"/>
          <p:cNvSpPr/>
          <p:nvPr/>
        </p:nvSpPr>
        <p:spPr>
          <a:xfrm>
            <a:off x="4254480" y="2065320"/>
            <a:ext cx="108756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4" name="Ellipse 98"/>
          <p:cNvGrpSpPr/>
          <p:nvPr/>
        </p:nvGrpSpPr>
        <p:grpSpPr>
          <a:xfrm>
            <a:off x="1457280" y="3365640"/>
            <a:ext cx="1382760" cy="304560"/>
            <a:chOff x="1457280" y="3365640"/>
            <a:chExt cx="1382760" cy="304560"/>
          </a:xfrm>
        </p:grpSpPr>
        <p:pic>
          <p:nvPicPr>
            <p:cNvPr id="155" name="Ellipse 98" descr=""/>
            <p:cNvPicPr/>
            <p:nvPr/>
          </p:nvPicPr>
          <p:blipFill>
            <a:blip r:embed="rId8"/>
            <a:stretch/>
          </p:blipFill>
          <p:spPr>
            <a:xfrm>
              <a:off x="1457280" y="3365640"/>
              <a:ext cx="1382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606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7" name="Can 64"/>
          <p:cNvSpPr/>
          <p:nvPr/>
        </p:nvSpPr>
        <p:spPr>
          <a:xfrm>
            <a:off x="1595520" y="2065320"/>
            <a:ext cx="108720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0070c0"/>
              </a:gs>
              <a:gs pos="100000">
                <a:srgbClr val="4ee7fc"/>
              </a:gs>
            </a:gsLst>
            <a:lin ang="54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53036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414972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683244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66600" y="2124000"/>
            <a:ext cx="37800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7"/>
          <p:cNvSpPr/>
          <p:nvPr/>
        </p:nvSpPr>
        <p:spPr>
          <a:xfrm>
            <a:off x="1530360" y="5265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412128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1372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card5"/>
          <p:cNvPicPr/>
          <p:nvPr/>
        </p:nvPicPr>
        <p:blipFill>
          <a:blip r:embed="rId2"/>
          <a:srcRect l="82161" t="0" r="0" b="0"/>
          <a:stretch/>
        </p:blipFill>
        <p:spPr>
          <a:xfrm>
            <a:off x="0" y="-2844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card4"/>
          <p:cNvPicPr/>
          <p:nvPr/>
        </p:nvPicPr>
        <p:blipFill>
          <a:blip r:embed="rId3"/>
          <a:srcRect l="82161" t="0" r="0" b="0"/>
          <a:stretch/>
        </p:blipFill>
        <p:spPr>
          <a:xfrm>
            <a:off x="0" y="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card2"/>
          <p:cNvPicPr/>
          <p:nvPr/>
        </p:nvPicPr>
        <p:blipFill>
          <a:blip r:embed="rId4"/>
          <a:srcRect l="82992" t="0" r="6223" b="0"/>
          <a:stretch/>
        </p:blipFill>
        <p:spPr>
          <a:xfrm>
            <a:off x="0" y="0"/>
            <a:ext cx="990720" cy="688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card1"/>
          <p:cNvPicPr/>
          <p:nvPr/>
        </p:nvPicPr>
        <p:blipFill>
          <a:blip r:embed="rId5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9"/>
          <p:cNvSpPr/>
          <p:nvPr/>
        </p:nvSpPr>
        <p:spPr>
          <a:xfrm>
            <a:off x="7397640" y="166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5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55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73" name="Nhóm 2"/>
          <p:cNvGrpSpPr/>
          <p:nvPr/>
        </p:nvGrpSpPr>
        <p:grpSpPr>
          <a:xfrm>
            <a:off x="2664000" y="1511280"/>
            <a:ext cx="4392360" cy="3083040"/>
            <a:chOff x="2664000" y="1511280"/>
            <a:chExt cx="4392360" cy="3083040"/>
          </a:xfrm>
        </p:grpSpPr>
        <p:pic>
          <p:nvPicPr>
            <p:cNvPr id="174" name="Freeform 6" descr=""/>
            <p:cNvPicPr/>
            <p:nvPr/>
          </p:nvPicPr>
          <p:blipFill>
            <a:blip r:embed="rId6"/>
            <a:stretch/>
          </p:blipFill>
          <p:spPr>
            <a:xfrm>
              <a:off x="2664000" y="3061440"/>
              <a:ext cx="15526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Freeform 11" descr=""/>
            <p:cNvPicPr/>
            <p:nvPr/>
          </p:nvPicPr>
          <p:blipFill>
            <a:blip r:embed="rId7"/>
            <a:stretch/>
          </p:blipFill>
          <p:spPr>
            <a:xfrm>
              <a:off x="4125960" y="310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reeform 11" descr=""/>
            <p:cNvPicPr/>
            <p:nvPr/>
          </p:nvPicPr>
          <p:blipFill>
            <a:blip r:embed="rId8"/>
            <a:stretch/>
          </p:blipFill>
          <p:spPr>
            <a:xfrm>
              <a:off x="4935600" y="2603520"/>
              <a:ext cx="1335240" cy="13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Freeform 11" descr=""/>
            <p:cNvPicPr/>
            <p:nvPr/>
          </p:nvPicPr>
          <p:blipFill>
            <a:blip r:embed="rId9"/>
            <a:stretch/>
          </p:blipFill>
          <p:spPr>
            <a:xfrm>
              <a:off x="6065640" y="337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114" descr=""/>
            <p:cNvPicPr/>
            <p:nvPr/>
          </p:nvPicPr>
          <p:blipFill>
            <a:blip r:embed="rId10"/>
            <a:stretch/>
          </p:blipFill>
          <p:spPr>
            <a:xfrm>
              <a:off x="3207600" y="1511280"/>
              <a:ext cx="193932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37"/>
          <p:cNvSpPr/>
          <p:nvPr/>
        </p:nvSpPr>
        <p:spPr>
          <a:xfrm>
            <a:off x="523224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523224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5092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05092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23224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205092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Đường kết nối Thẳng 5"/>
          <p:cNvSpPr/>
          <p:nvPr/>
        </p:nvSpPr>
        <p:spPr>
          <a:xfrm>
            <a:off x="5102280" y="5008680"/>
            <a:ext cx="0" cy="1012680"/>
          </a:xfrm>
          <a:prstGeom prst="line">
            <a:avLst/>
          </a:prstGeom>
          <a:ln w="9360">
            <a:solidFill>
              <a:srgbClr val="9999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87" name="Picture 9" descr="C:\Users\Administrator\Desktop\PowerPoint Dep full vien trang.png"/>
          <p:cNvPicPr/>
          <p:nvPr/>
        </p:nvPicPr>
        <p:blipFill>
          <a:blip r:embed="rId11"/>
          <a:stretch/>
        </p:blipFill>
        <p:spPr>
          <a:xfrm>
            <a:off x="20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Carcassonno</cp:lastModifiedBy>
  <dcterms:modified xsi:type="dcterms:W3CDTF">2013-05-07T17:22:43Z</dcterms:modified>
  <cp:revision>139</cp:revision>
  <dc:subject/>
  <dc:title>Coloured slides template background</dc:title>
</cp:coreProperties>
</file>