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EBE-22B6-44A0-976B-BC78C27A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A58-7771-4A11-AAF1-7F721144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6157D8-96E2-4926-A451-00F6A6A2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62266F-348A-4C75-B089-4914EC5C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2C5264-FB6C-4BA2-B5B6-D0806186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98F4A5-40C4-43EA-A794-938CF613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7AF8D-4DE9-4D95-9E1A-2CA3BEC5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7D8C6-DAB9-4183-B46C-CE931665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AD11C2-4D68-49DF-8516-F88566E9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919B6-0490-4296-B6BF-41226770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012EC-5316-4119-8862-28E19EFB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5476F9-40E9-4943-B872-2294B1E3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AB84-426B-458B-9F93-4CFFB213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70A3F-921B-42A5-9D02-D4702CE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0EA80C-8AF2-474F-A0F4-8AE8ECAE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224136-174A-4A9E-9376-CEBD885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C33F58-BC9A-4BF2-A7BB-3B86DCE9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7FB6A5-2286-4F79-B99E-606FEA3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818317-A4E2-4F47-965E-E966FF78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760E21-8F99-45A9-8C7A-53711DD3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F1B4BE-CB10-41AC-A66D-3914977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5204CF-58EB-4CF7-8330-4A27583E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7084BB-3D87-44CA-AB0D-F9C90BE8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652-17FB-4D60-AFE1-FDD3468E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A14D19-5A13-42A6-9A47-57DBE73D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170B25-41B5-4081-AEFB-5E809E02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09760C-48F7-449E-8980-332BEE45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BEBB6F-9F3D-4C02-9AEC-6C30E515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F13F88-C4D9-41AE-8996-75AA3AA5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9437A2-A5BD-4B7D-A94B-3AB88D24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D03427-372F-455E-AD12-658FB60B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7642DB-9151-4353-A311-43EF1C33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D80E25-972A-40FD-9D80-B1BAF78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5504D-1A64-4590-A285-EBE5A1F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EC83-0012-4E0B-93E7-15432F51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2805E8-B580-4F98-B381-232AFDE8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62BD04-9EDC-4DE7-A491-79F68E09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DAEA04-59E8-45D8-8CF3-8C18D39A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6A0526-0874-4F22-97A6-1C957F3D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84240B-CBCA-45A4-A842-D5AC0EA7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79E0E4-733A-448C-B582-30A282C2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8D93EB-DCE6-4DEA-AEB7-90F01DAE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55E125-7962-4FF3-8022-08F1869D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2A2AF2-D452-462B-900C-4CD7ACED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F47E0B-5921-429D-95F4-BC49E50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5CC6-6A92-4E93-87F4-964FEDD5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7B9A60-5EA6-49BA-B18E-50DC3851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380874-FDE1-4A06-8D74-F9A1F8F5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DEDBA7-B617-4A57-88A8-215B4099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F57D99-4FB0-4BF2-B006-AFF54569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E030D8-2C15-48C2-BF39-DF5C4C58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47D3A1-187A-43EB-8456-6740BAEA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38C5C7-7F25-4604-BAF9-003FC2D6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30E444-7A3D-4CE0-95BB-176C6E01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233336-A376-4A90-B082-A34B3559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14E2B8-5111-48E4-B0A5-A8FB629B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24FD-0221-422C-947C-C16BF9E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D60BBE-27EE-4F15-B4F5-5668E9E5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135545-A7C7-4AF1-8A23-1E89AFF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C4F0CF-E3CF-4827-BCE6-E627BFFE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396B39-66DC-41A1-B59F-EF2F85D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E2913C-29E3-4947-967A-B6273F7E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A540A4-9A9E-4A50-8D7C-3933A098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A4BB5E-F51F-408B-9C4C-36BADDC3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C292-6B98-471D-8CF3-FFD4F87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DF0C-D825-4EC2-BB8E-56B401BC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7062-2417-4AED-8449-533BE60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7D23-B1AC-4FE1-B3B3-4FC61BB7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054-CE61-47A7-8393-B0F6E0E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FDED-AB84-49F5-973A-0DA6892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0A5F-585E-4739-AC65-D1B32253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8C51-03B8-4A1C-84E3-63DC1D65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565F-2074-4CF7-B7EC-E003073F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FA44-97F2-4077-9BE8-0A32D28A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3F53F-5312-4434-9503-B142004511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22CB9-6579-40F9-AA78-39D3E23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38695-9FA3-4FF3-B504-7D7D3AD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E2A7C-7764-4C2B-9EE4-1322C686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B33B1-5294-4678-A1F4-CB379838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01C7-0473-438E-B5CC-39C62837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7C293-34F0-4100-A842-DE922180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580BD-1581-4D92-A656-8C12F25B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682A2-EEEC-41FA-A71A-DA9E739B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02FFA-C8E9-493A-8AD1-9F52DA6B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BCDAA-D271-424B-8D56-A4E5F7FE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A0F01-286E-4899-80C9-9331C863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00B14-6C15-4C31-ACC2-0DF1EF5125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AC077-BE27-4E71-BB49-6049F2E2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AD3AC-14C3-49C5-AD13-8CB1F1ED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6043A-BDC1-4D4B-9C9C-A26A1B7B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062-6C8A-418B-AF12-64056D18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B9D4C-DB33-4235-BF0A-E0EE7940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31A64-1932-4D73-8B4A-F92AD022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4C091-3521-4F5B-9EF7-6B098DD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3E2A7-272F-4144-99F1-2305F7F7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ED32B-8C27-4579-8C95-669497D1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DFDD6-61BE-432F-85C5-74714A2A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4D104-9BA4-424F-971D-261FF8D7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8BDC24-5583-4DF4-A063-51D637D1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74DE25-65CF-44EF-B771-401C4844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DB1C9-5BD3-4CD2-9186-3D5FAE35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926-A6CF-4716-9239-6B19D08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587FB-BC8E-4F21-A97D-F667551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CFE7F-3C90-45B6-8094-DFB44D0F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7FBD0-E436-443A-862D-6971D4CB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C7887-33A4-49CF-AFE4-3AB00F3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17D9A-D60A-463E-A370-C6E91564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7F10E-6191-4600-B557-D0E9A49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E549D-F542-45E7-B699-749D5F08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B43CE-5CDF-4C30-A875-631735C6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D14AC-265A-456D-8497-2F32E1ED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1980A-3B11-4CF1-A037-A1A8FBAA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159-DE8E-4483-9A3C-7E2A006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13A773-9E2D-4259-9599-494D006D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C9C47-E828-414A-B5A5-CE09BEE2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100A6-8AF8-470A-B3C8-9C7602E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5A283-7884-42A3-8F7D-3E622089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7E68C-622F-454B-AFE6-A7577C49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C8F48-4E63-400E-B450-318B5BF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B0432-8F4F-49B6-A74A-B125E748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94EF4-8E5E-443B-8139-8B79174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CAACA-7BD8-4560-8264-1328FDF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6FEC54-E660-45EA-B92D-FB6815A6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9EB-D58D-431F-8285-0199BCE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27CFB-0138-4AC4-8565-F47EA28E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05D27-501F-4687-86E3-097A2DDA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4B3BE-5ACE-42EF-A67A-7C312ADC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CAAA05-E616-4EBC-9CCD-0ABC1F48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508A3-9368-4FD8-A021-4578EA0F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25491-1D4E-48FC-9E80-17EAD48A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C69FB-FBF1-4C89-B147-25A1A3EB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09BE0-CD98-4746-B887-5E3C2532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8503E-428A-40ED-952E-DA228441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BF80F-63D0-498C-9AC6-AEA3A13A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19C-38DE-450B-9B35-7E9C71D3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0A19B6-3BCF-4DF7-AB7A-8ECCF42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EE355-AF98-42D8-9210-6C04A38E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B228E-2667-48A1-BF60-0B3AE8AF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B05AA-732A-4ECC-9FEA-63376524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13541-808A-4649-BC61-F3E3ACB6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41645-698D-4788-8BE5-188AB78F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FD68DF-E243-4A1F-BC46-9E3C25CF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7391EC-D486-413F-8A4C-00206917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96E77-50CF-4C8F-BA70-B300C7F8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525DF-485D-4CD2-ABA8-C03C7903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D35-2842-4ED9-BDD9-73D2730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45720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31D95A-FE6B-4B9B-B221-C8D8E8C3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448A3-6D59-481F-B855-1AADF64C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2F36C-8A8E-46B3-8DC0-CDA95AD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9650B0-933D-419F-BA26-22554CC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7DDDDE-6FB9-44B1-B514-9BF8D504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F354D-BFDF-4178-9E8B-E7720716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01159-42DF-4E20-B0B7-9A5B7052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801803-C695-46C2-94B6-5FDE09BD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B3517-75BE-47F4-833E-B8A3C953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6468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265C4E-9E9E-49CE-969B-1D96BB1E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AAB-59B2-4F67-A87C-DE78C2AA83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9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1DA-1F8A-4250-9B35-6E16722F23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4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0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1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2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F15D-0C7D-4E8B-AE71-F5EBA5EE12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3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4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5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D4E3-BC28-4087-A91C-22A0E7F4C3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3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6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7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8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EA1-98C1-4EA5-A43B-716B88F58C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8165-6B7E-4626-A721-08D6ADA322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48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0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E158-0840-4389-86CF-3C5E8F24F4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2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0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1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D7D9-F239-4518-BAF3-802FD3C3DB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17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3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4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0B19-4DA4-47F4-85C5-E4C89A04A9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1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6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7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5448-58E4-46C0-AFAF-6EE15F4267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26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8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9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0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8E2-14B0-40CA-86B4-55B3A9B998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09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2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3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E5C-73ED-4DAC-BB24-7E137AA9E5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0"/>
          <p:cNvSpPr/>
          <p:nvPr/>
        </p:nvSpPr>
        <p:spPr>
          <a:xfrm>
            <a:off x="7381800" y="64040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oup 32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354" name="Line 29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85d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d9f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5d9f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5524560" y="647676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167652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D2D6-3AD1-42BF-AB94-5189EC15A8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65744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ẫu PowerPoi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3"/>
          <p:cNvSpPr/>
          <p:nvPr/>
        </p:nvSpPr>
        <p:spPr>
          <a:xfrm>
            <a:off x="1143000" y="17524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9bd092">
                  <a:alpha val="12156"/>
                </a:srgbClr>
              </a:gs>
              <a:gs pos="50000">
                <a:srgbClr val="5ab14b"/>
              </a:gs>
              <a:gs pos="100000">
                <a:srgbClr val="9bd092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Oval 4"/>
          <p:cNvGrpSpPr/>
          <p:nvPr/>
        </p:nvGrpSpPr>
        <p:grpSpPr>
          <a:xfrm>
            <a:off x="1420920" y="2030400"/>
            <a:ext cx="3254400" cy="3254400"/>
            <a:chOff x="1420920" y="2030400"/>
            <a:chExt cx="3254400" cy="3254400"/>
          </a:xfrm>
        </p:grpSpPr>
        <p:pic>
          <p:nvPicPr>
            <p:cNvPr id="583" name="Oval 4" descr=""/>
            <p:cNvPicPr/>
            <p:nvPr/>
          </p:nvPicPr>
          <p:blipFill>
            <a:blip r:embed="rId1"/>
            <a:stretch/>
          </p:blipFill>
          <p:spPr>
            <a:xfrm>
              <a:off x="1420920" y="2030400"/>
              <a:ext cx="325440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1916280" y="2525760"/>
              <a:ext cx="226368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5" name="AutoShape 5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5d9f7"/>
              </a:gs>
              <a:gs pos="100000">
                <a:srgbClr val="f8fdff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a2068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1538280" y="3124080"/>
            <a:ext cx="29923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"Thêm Slogan tại đây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592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593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597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0" name="Text Box 12"/>
            <p:cNvSpPr/>
            <p:nvPr/>
          </p:nvSpPr>
          <p:spPr>
            <a:xfrm>
              <a:off x="3830400" y="245412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207468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2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603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6" name="Text Box 18"/>
            <p:cNvSpPr/>
            <p:nvPr/>
          </p:nvSpPr>
          <p:spPr>
            <a:xfrm>
              <a:off x="5580000" y="34448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608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1" name="Text Box 23"/>
            <p:cNvSpPr/>
            <p:nvPr/>
          </p:nvSpPr>
          <p:spPr>
            <a:xfrm>
              <a:off x="3852720" y="4359240"/>
              <a:ext cx="15019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êu đề 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ú thíc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3"/>
          <p:cNvSpPr/>
          <p:nvPr/>
        </p:nvSpPr>
        <p:spPr>
          <a:xfrm>
            <a:off x="152280" y="12952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gradFill rotWithShape="0">
            <a:gsLst>
              <a:gs pos="0">
                <a:srgbClr val="508fd4"/>
              </a:gs>
              <a:gs pos="100000">
                <a:srgbClr val="727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a52c8"/>
              </a:gs>
              <a:gs pos="100000">
                <a:srgbClr val="4026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610236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1"/>
                </a:solidFill>
                <a:latin typeface="Arial"/>
              </a:rPr>
              <a:t>Tiêu đ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ơ đồ khối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5"/>
          <p:cNvGrpSpPr/>
          <p:nvPr/>
        </p:nvGrpSpPr>
        <p:grpSpPr>
          <a:xfrm>
            <a:off x="4906440" y="3214080"/>
            <a:ext cx="1703520" cy="2679120"/>
            <a:chOff x="4906440" y="3214080"/>
            <a:chExt cx="1703520" cy="2679120"/>
          </a:xfrm>
        </p:grpSpPr>
        <p:grpSp>
          <p:nvGrpSpPr>
            <p:cNvPr id="623" name="Group 6"/>
            <p:cNvGrpSpPr/>
            <p:nvPr/>
          </p:nvGrpSpPr>
          <p:grpSpPr>
            <a:xfrm>
              <a:off x="4906440" y="3392640"/>
              <a:ext cx="1577160" cy="2500560"/>
              <a:chOff x="4906440" y="3392640"/>
              <a:chExt cx="1577160" cy="2500560"/>
            </a:xfrm>
          </p:grpSpPr>
          <p:sp>
            <p:nvSpPr>
              <p:cNvPr id="624" name="Freeform 7"/>
              <p:cNvSpPr/>
              <p:nvPr/>
            </p:nvSpPr>
            <p:spPr>
              <a:xfrm rot="3876600">
                <a:off x="444312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 rot="3876600">
                <a:off x="594756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6" name="Group 9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627" name="Freeform 10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1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9" name="Group 12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630" name="Oval 13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Oval 14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Oval 15"/>
            <p:cNvSpPr/>
            <p:nvPr/>
          </p:nvSpPr>
          <p:spPr>
            <a:xfrm>
              <a:off x="452268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Oval 16"/>
            <p:cNvSpPr/>
            <p:nvPr/>
          </p:nvSpPr>
          <p:spPr>
            <a:xfrm>
              <a:off x="452268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Oval 17"/>
            <p:cNvSpPr/>
            <p:nvPr/>
          </p:nvSpPr>
          <p:spPr>
            <a:xfrm>
              <a:off x="458460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5" name="Group 18"/>
            <p:cNvGrpSpPr/>
            <p:nvPr/>
          </p:nvGrpSpPr>
          <p:grpSpPr>
            <a:xfrm>
              <a:off x="4602240" y="2467080"/>
              <a:ext cx="1090440" cy="1092240"/>
              <a:chOff x="4602240" y="2467080"/>
              <a:chExt cx="1090440" cy="1092240"/>
            </a:xfrm>
          </p:grpSpPr>
          <p:sp>
            <p:nvSpPr>
              <p:cNvPr id="636" name="Oval 19"/>
              <p:cNvSpPr/>
              <p:nvPr/>
            </p:nvSpPr>
            <p:spPr>
              <a:xfrm>
                <a:off x="460224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20"/>
              <p:cNvSpPr/>
              <p:nvPr/>
            </p:nvSpPr>
            <p:spPr>
              <a:xfrm>
                <a:off x="461592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21"/>
              <p:cNvSpPr/>
              <p:nvPr/>
            </p:nvSpPr>
            <p:spPr>
              <a:xfrm>
                <a:off x="462744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22"/>
              <p:cNvSpPr/>
              <p:nvPr/>
            </p:nvSpPr>
            <p:spPr>
              <a:xfrm>
                <a:off x="468648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0" name="Group 23"/>
          <p:cNvGrpSpPr/>
          <p:nvPr/>
        </p:nvGrpSpPr>
        <p:grpSpPr>
          <a:xfrm>
            <a:off x="7138440" y="3287160"/>
            <a:ext cx="1703520" cy="2679120"/>
            <a:chOff x="7138440" y="3287160"/>
            <a:chExt cx="1703520" cy="2679120"/>
          </a:xfrm>
        </p:grpSpPr>
        <p:grpSp>
          <p:nvGrpSpPr>
            <p:cNvPr id="641" name="Group 24"/>
            <p:cNvGrpSpPr/>
            <p:nvPr/>
          </p:nvGrpSpPr>
          <p:grpSpPr>
            <a:xfrm>
              <a:off x="7138440" y="3465720"/>
              <a:ext cx="1577160" cy="2500560"/>
              <a:chOff x="7138440" y="3465720"/>
              <a:chExt cx="1577160" cy="2500560"/>
            </a:xfrm>
          </p:grpSpPr>
          <p:sp>
            <p:nvSpPr>
              <p:cNvPr id="642" name="Freeform 25"/>
              <p:cNvSpPr/>
              <p:nvPr/>
            </p:nvSpPr>
            <p:spPr>
              <a:xfrm rot="3876600">
                <a:off x="667512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26"/>
              <p:cNvSpPr/>
              <p:nvPr/>
            </p:nvSpPr>
            <p:spPr>
              <a:xfrm rot="3876600">
                <a:off x="8179560" y="540540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4" name="Group 27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645" name="Freeform 28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7" name="Oval 30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Oval 31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Oval 32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Oval 33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Group 35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653" name="Oval 36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Oval 37"/>
            <p:cNvSpPr/>
            <p:nvPr/>
          </p:nvSpPr>
          <p:spPr>
            <a:xfrm>
              <a:off x="6669720" y="235044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Oval 38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Oval 39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Group 40"/>
          <p:cNvGrpSpPr/>
          <p:nvPr/>
        </p:nvGrpSpPr>
        <p:grpSpPr>
          <a:xfrm>
            <a:off x="2858760" y="3213720"/>
            <a:ext cx="1704240" cy="2679480"/>
            <a:chOff x="2858760" y="3213720"/>
            <a:chExt cx="1704240" cy="2679480"/>
          </a:xfrm>
        </p:grpSpPr>
        <p:grpSp>
          <p:nvGrpSpPr>
            <p:cNvPr id="658" name="Group 41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659" name="Freeform 42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 rot="3876600">
                <a:off x="389988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61" name="Group 44"/>
            <p:cNvGrpSpPr/>
            <p:nvPr/>
          </p:nvGrpSpPr>
          <p:grpSpPr>
            <a:xfrm>
              <a:off x="3352680" y="3213720"/>
              <a:ext cx="1210320" cy="1918800"/>
              <a:chOff x="3352680" y="3213720"/>
              <a:chExt cx="1210320" cy="1918800"/>
            </a:xfrm>
          </p:grpSpPr>
          <p:sp>
            <p:nvSpPr>
              <p:cNvPr id="662" name="Freeform 45"/>
              <p:cNvSpPr/>
              <p:nvPr/>
            </p:nvSpPr>
            <p:spPr>
              <a:xfrm flipV="1" rot="3876600">
                <a:off x="299736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 flipV="1" rot="3876600">
                <a:off x="413460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47"/>
          <p:cNvGrpSpPr/>
          <p:nvPr/>
        </p:nvGrpSpPr>
        <p:grpSpPr>
          <a:xfrm>
            <a:off x="2379600" y="2292480"/>
            <a:ext cx="1439640" cy="1439640"/>
            <a:chOff x="2379600" y="2292480"/>
            <a:chExt cx="1439640" cy="1439640"/>
          </a:xfrm>
        </p:grpSpPr>
        <p:sp>
          <p:nvSpPr>
            <p:cNvPr id="665" name="Oval 48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Oval 49"/>
            <p:cNvSpPr/>
            <p:nvPr/>
          </p:nvSpPr>
          <p:spPr>
            <a:xfrm>
              <a:off x="237960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50"/>
            <p:cNvSpPr/>
            <p:nvPr/>
          </p:nvSpPr>
          <p:spPr>
            <a:xfrm>
              <a:off x="247464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Oval 51"/>
            <p:cNvSpPr/>
            <p:nvPr/>
          </p:nvSpPr>
          <p:spPr>
            <a:xfrm>
              <a:off x="247464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52"/>
            <p:cNvSpPr/>
            <p:nvPr/>
          </p:nvSpPr>
          <p:spPr>
            <a:xfrm>
              <a:off x="253656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0" name="Group 53"/>
            <p:cNvGrpSpPr/>
            <p:nvPr/>
          </p:nvGrpSpPr>
          <p:grpSpPr>
            <a:xfrm>
              <a:off x="2554200" y="2467080"/>
              <a:ext cx="1090440" cy="1092240"/>
              <a:chOff x="2554200" y="2467080"/>
              <a:chExt cx="1090440" cy="1092240"/>
            </a:xfrm>
          </p:grpSpPr>
          <p:sp>
            <p:nvSpPr>
              <p:cNvPr id="671" name="Oval 54"/>
              <p:cNvSpPr/>
              <p:nvPr/>
            </p:nvSpPr>
            <p:spPr>
              <a:xfrm>
                <a:off x="255420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Oval 55"/>
              <p:cNvSpPr/>
              <p:nvPr/>
            </p:nvSpPr>
            <p:spPr>
              <a:xfrm>
                <a:off x="256788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Oval 56"/>
              <p:cNvSpPr/>
              <p:nvPr/>
            </p:nvSpPr>
            <p:spPr>
              <a:xfrm>
                <a:off x="257940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57"/>
              <p:cNvSpPr/>
              <p:nvPr/>
            </p:nvSpPr>
            <p:spPr>
              <a:xfrm>
                <a:off x="263844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58"/>
          <p:cNvGrpSpPr/>
          <p:nvPr/>
        </p:nvGrpSpPr>
        <p:grpSpPr>
          <a:xfrm>
            <a:off x="875880" y="3213720"/>
            <a:ext cx="1704240" cy="2679480"/>
            <a:chOff x="875880" y="3213720"/>
            <a:chExt cx="1704240" cy="2679480"/>
          </a:xfrm>
        </p:grpSpPr>
        <p:grpSp>
          <p:nvGrpSpPr>
            <p:cNvPr id="676" name="Group 59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677" name="Freeform 60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 rot="3876600">
                <a:off x="1917000" y="5332320"/>
                <a:ext cx="393480" cy="456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9" name="Group 62"/>
            <p:cNvGrpSpPr/>
            <p:nvPr/>
          </p:nvGrpSpPr>
          <p:grpSpPr>
            <a:xfrm>
              <a:off x="1369800" y="3213720"/>
              <a:ext cx="1210320" cy="1918800"/>
              <a:chOff x="1369800" y="3213720"/>
              <a:chExt cx="1210320" cy="1918800"/>
            </a:xfrm>
          </p:grpSpPr>
          <p:sp>
            <p:nvSpPr>
              <p:cNvPr id="680" name="Freeform 63"/>
              <p:cNvSpPr/>
              <p:nvPr/>
            </p:nvSpPr>
            <p:spPr>
              <a:xfrm flipV="1" rot="3876600">
                <a:off x="1014480" y="3959280"/>
                <a:ext cx="1920960" cy="428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 flipV="1" rot="3876600">
                <a:off x="2151720" y="4710240"/>
                <a:ext cx="301680" cy="350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2" name="Group 65"/>
          <p:cNvGrpSpPr/>
          <p:nvPr/>
        </p:nvGrpSpPr>
        <p:grpSpPr>
          <a:xfrm>
            <a:off x="396720" y="2292480"/>
            <a:ext cx="1439640" cy="1439640"/>
            <a:chOff x="396720" y="2292480"/>
            <a:chExt cx="1439640" cy="1439640"/>
          </a:xfrm>
        </p:grpSpPr>
        <p:sp>
          <p:nvSpPr>
            <p:cNvPr id="683" name="Oval 66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Oval 67"/>
            <p:cNvSpPr/>
            <p:nvPr/>
          </p:nvSpPr>
          <p:spPr>
            <a:xfrm>
              <a:off x="39672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68"/>
            <p:cNvSpPr/>
            <p:nvPr/>
          </p:nvSpPr>
          <p:spPr>
            <a:xfrm>
              <a:off x="491760" y="238608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Oval 69"/>
            <p:cNvSpPr/>
            <p:nvPr/>
          </p:nvSpPr>
          <p:spPr>
            <a:xfrm>
              <a:off x="491760" y="238932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Oval 70"/>
            <p:cNvSpPr/>
            <p:nvPr/>
          </p:nvSpPr>
          <p:spPr>
            <a:xfrm>
              <a:off x="553680" y="244944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Group 71"/>
            <p:cNvGrpSpPr/>
            <p:nvPr/>
          </p:nvGrpSpPr>
          <p:grpSpPr>
            <a:xfrm>
              <a:off x="571320" y="2467080"/>
              <a:ext cx="1090440" cy="1092240"/>
              <a:chOff x="571320" y="2467080"/>
              <a:chExt cx="1090440" cy="1092240"/>
            </a:xfrm>
          </p:grpSpPr>
          <p:sp>
            <p:nvSpPr>
              <p:cNvPr id="689" name="Oval 72"/>
              <p:cNvSpPr/>
              <p:nvPr/>
            </p:nvSpPr>
            <p:spPr>
              <a:xfrm>
                <a:off x="571320" y="246708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Oval 73"/>
              <p:cNvSpPr/>
              <p:nvPr/>
            </p:nvSpPr>
            <p:spPr>
              <a:xfrm>
                <a:off x="585000" y="247320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Oval 74"/>
              <p:cNvSpPr/>
              <p:nvPr/>
            </p:nvSpPr>
            <p:spPr>
              <a:xfrm>
                <a:off x="596520" y="248364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Oval 75"/>
              <p:cNvSpPr/>
              <p:nvPr/>
            </p:nvSpPr>
            <p:spPr>
              <a:xfrm>
                <a:off x="655560" y="251136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3" name="Text Box 76"/>
          <p:cNvSpPr/>
          <p:nvPr/>
        </p:nvSpPr>
        <p:spPr>
          <a:xfrm rot="3925800">
            <a:off x="8694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77"/>
          <p:cNvSpPr/>
          <p:nvPr/>
        </p:nvSpPr>
        <p:spPr>
          <a:xfrm rot="3925800">
            <a:off x="13838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84"/>
          <p:cNvSpPr/>
          <p:nvPr/>
        </p:nvSpPr>
        <p:spPr>
          <a:xfrm>
            <a:off x="7812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85"/>
          <p:cNvSpPr/>
          <p:nvPr/>
        </p:nvSpPr>
        <p:spPr>
          <a:xfrm>
            <a:off x="27716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86"/>
          <p:cNvSpPr/>
          <p:nvPr/>
        </p:nvSpPr>
        <p:spPr>
          <a:xfrm>
            <a:off x="475308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87"/>
          <p:cNvSpPr/>
          <p:nvPr/>
        </p:nvSpPr>
        <p:spPr>
          <a:xfrm>
            <a:off x="679968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9" name="AutoShape 88"/>
          <p:cNvCxnSpPr>
            <a:stCxn id="695" idx="3"/>
            <a:endCxn id="696" idx="1"/>
          </p:cNvCxnSpPr>
          <p:nvPr/>
        </p:nvCxnSpPr>
        <p:spPr>
          <a:xfrm>
            <a:off x="1520640" y="182700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0" name="AutoShape 89"/>
          <p:cNvCxnSpPr>
            <a:stCxn id="696" idx="3"/>
            <a:endCxn id="697" idx="1"/>
          </p:cNvCxnSpPr>
          <p:nvPr/>
        </p:nvCxnSpPr>
        <p:spPr>
          <a:xfrm>
            <a:off x="3511440" y="182700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01" name="AutoShape 90"/>
          <p:cNvCxnSpPr>
            <a:stCxn id="697" idx="3"/>
            <a:endCxn id="698" idx="1"/>
          </p:cNvCxnSpPr>
          <p:nvPr/>
        </p:nvCxnSpPr>
        <p:spPr>
          <a:xfrm>
            <a:off x="5492520" y="1827360"/>
            <a:ext cx="1213560" cy="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02" name="Text Box 76"/>
          <p:cNvSpPr/>
          <p:nvPr/>
        </p:nvSpPr>
        <p:spPr>
          <a:xfrm rot="3925800">
            <a:off x="2833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77"/>
          <p:cNvSpPr/>
          <p:nvPr/>
        </p:nvSpPr>
        <p:spPr>
          <a:xfrm rot="3925800">
            <a:off x="334764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76"/>
          <p:cNvSpPr/>
          <p:nvPr/>
        </p:nvSpPr>
        <p:spPr>
          <a:xfrm rot="3925800">
            <a:off x="490644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77"/>
          <p:cNvSpPr/>
          <p:nvPr/>
        </p:nvSpPr>
        <p:spPr>
          <a:xfrm rot="3925800">
            <a:off x="542088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76"/>
          <p:cNvSpPr/>
          <p:nvPr/>
        </p:nvSpPr>
        <p:spPr>
          <a:xfrm rot="3925800">
            <a:off x="7081200" y="423576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77"/>
          <p:cNvSpPr/>
          <p:nvPr/>
        </p:nvSpPr>
        <p:spPr>
          <a:xfrm rot="3925800">
            <a:off x="7596000" y="39470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êm ch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WordArt 7"/>
          <p:cNvSpPr txBox="1"/>
          <p:nvPr/>
        </p:nvSpPr>
        <p:spPr>
          <a:xfrm>
            <a:off x="609480" y="160020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CẢM ƠN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09" name="Text Box 8"/>
          <p:cNvSpPr/>
          <p:nvPr/>
        </p:nvSpPr>
        <p:spPr>
          <a:xfrm>
            <a:off x="5334120" y="6394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hêm Slogan 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160" y="26668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5d9f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05:37:07Z</dcterms:created>
  <dc:creator>Carcassonno</dc:creator>
  <dc:description/>
  <dc:language>en-US</dc:language>
  <cp:lastModifiedBy>Asus</cp:lastModifiedBy>
  <dcterms:modified xsi:type="dcterms:W3CDTF">2018-11-13T08:48:38Z</dcterms:modified>
  <cp:revision>5</cp:revision>
  <dc:subject/>
  <dc:title>PowerPoint Template</dc:title>
</cp:coreProperties>
</file>