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gif" ContentType="image/gi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765E-2FF1-45AB-88B4-A3DCA26E3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47B-D5CA-4A46-8FB2-2FC1F47F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F80-DA34-49DB-8BA6-466D0E0C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6763-473E-4BEF-896B-83726DC1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96A-F65E-4791-B1C9-E63050B0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8627-31AB-49A5-88A5-57922939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DB6-2FC1-4004-83C7-A7197664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21C-B63D-4A6E-B9C6-C1731EB3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2BB-5869-476B-A533-AAB4B062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88C1-A571-49B1-ADB9-DBEE8178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313-2A33-45C2-941F-1F34DB87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5A6-9980-4EF3-BAE4-C13271E0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17D-9823-464C-8E07-FAC7725A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AF54-F529-48DC-8F4F-9C2821EFA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YẾU TỐ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1981080"/>
          </a:xfrm>
          <a:prstGeom prst="rect">
            <a:avLst/>
          </a:prstGeom>
          <a:solidFill>
            <a:srgbClr val="99cc00"/>
          </a:solidFill>
          <a:ln w="76320">
            <a:solidFill>
              <a:srgbClr val="ffff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ầu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ng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ân bằng S-D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9200" y="1371600"/>
          <a:ext cx="39625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371600"/>
                    <a:ext cx="3962520" cy="5105520"/>
                  </a:xfrm>
                  <a:prstGeom prst="rect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04920" y="3733920"/>
          <a:ext cx="441936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733920"/>
                    <a:ext cx="4419360" cy="2895480"/>
                  </a:xfrm>
                  <a:prstGeom prst="rect">
                    <a:avLst/>
                  </a:prstGeom>
                  <a:ln w="12600">
                    <a:solidFill>
                      <a:srgbClr val="037c03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NHÂN TỐ ẢNH HƯỞNG TỚI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L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về hàng hóa trên thị trường hàng hóa T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ăng suất LĐ: Sự thay đổi trong công ngh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ầu lao động tăng thì đường cầu dịch chuyển sang phải (từ D thành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ầu lao động giảm thì đường cầu dịch chuyển sang trái (từ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hành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Ồ THỊ SỰ THAY ĐỔI VỀ CẦU LĐ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333760" y="-1372320"/>
            <a:ext cx="548568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1911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4952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4191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9528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6477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8098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64008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95252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5105520"/>
            <a:ext cx="533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14640" y="6629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640080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510552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43434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97180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6629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553080" y="449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723920" y="-457560"/>
            <a:ext cx="411408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81800" y="-77040"/>
            <a:ext cx="533304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6248520" y="76680"/>
            <a:ext cx="350424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343400" y="5410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410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45720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64008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2666880"/>
            <a:ext cx="6094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4290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CẦU LAO ĐỘNG CỦA HÃ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ÍNH LÀ ĐƯỜNG M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905120"/>
          <a:ext cx="6553080" cy="4657680"/>
        </p:xfrm>
        <a:graphic>
          <a:graphicData uri="http://schemas.openxmlformats.org/drawingml/2006/table">
            <a:tbl>
              <a:tblPr/>
              <a:tblGrid>
                <a:gridCol w="1346040"/>
                <a:gridCol w="1349280"/>
                <a:gridCol w="1341720"/>
                <a:gridCol w="1349280"/>
                <a:gridCol w="11667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P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MRP P.A CẦU LĐ CỦA D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4219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ị trường lao động là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ường cầu lao động của hãng chính là đường sản phẩm doanh thu cận biên của lao độ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ình dáng của đường cầu LĐ phụ thuộc vào cả w và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51040" y="5446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4864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267080" y="1523880"/>
            <a:ext cx="4876920" cy="4711680"/>
            <a:chOff x="4267080" y="1523880"/>
            <a:chExt cx="4876920" cy="4711680"/>
          </a:xfrm>
        </p:grpSpPr>
        <p:sp>
          <p:nvSpPr>
            <p:cNvPr id="135" name=""/>
            <p:cNvSpPr/>
            <p:nvPr/>
          </p:nvSpPr>
          <p:spPr>
            <a:xfrm>
              <a:off x="4952880" y="571500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67080" y="525780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43400" y="243828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95680" y="2362320"/>
              <a:ext cx="381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58672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       1       2       3       4       5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9720" y="1828800"/>
              <a:ext cx="457200" cy="37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952880" y="15238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52880" y="5105520"/>
              <a:ext cx="3581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34520" y="5105520"/>
              <a:ext cx="0" cy="609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2880" y="4419720"/>
              <a:ext cx="29718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01000" y="4419720"/>
              <a:ext cx="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391520" y="3657240"/>
              <a:ext cx="0" cy="2057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952880" y="3657600"/>
              <a:ext cx="2438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58000" y="2971800"/>
              <a:ext cx="0" cy="2743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952880" y="2895480"/>
              <a:ext cx="19051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248520" y="2209320"/>
              <a:ext cx="0" cy="3505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52520" y="2209680"/>
              <a:ext cx="1295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638680" y="2209320"/>
              <a:ext cx="0" cy="3505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2209680"/>
              <a:ext cx="274320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7120" y="205740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44197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58200" y="4038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038480" y="1219320"/>
            <a:ext cx="838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,M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22096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2209680"/>
            <a:ext cx="175248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743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NG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n: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ung lđ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lµ sè l­îng L§ mµ ng­êi L§ cã kh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¨ng vµ s½n sµng cho thuª ë c¸c møc tiÒn c«ng kh¸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hau trong mét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hoảng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thêi gian n®Þnh nào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đó( c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tố khác không đổ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ượng cung lđ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là sè l­îng L§ mµ ng­êi L§ cã kh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¨ng vµ s½n sµng cho thuª ë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ột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møc tiÒn c«ng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hất định trong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mét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hoảng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thêi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gian nào đó( các ntố khác không đổ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Lùc l­îng L§XH =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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ng­êi ®ang L§ hoÆc t×m kiÕm viÖc lµ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ẬT CUNG VỀ LAO Đ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3733920" cy="4191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L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↓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ức lương (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y đổi dẫn đ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ó sự vận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ọc theo đườ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ng ( I đến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733920"/>
            <a:ext cx="320040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5257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3733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640080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49528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632448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14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3429000"/>
            <a:ext cx="533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8580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63244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640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46483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50292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35812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31520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705720" y="4723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600200" y="-1372680"/>
            <a:ext cx="624816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24680" y="2362320"/>
            <a:ext cx="6098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2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NG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5715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ường cung lao động cá nhân có xu hướng vòng về phía sa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ảnh hưởng thay thế(S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á nghỉ ngơ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y thế làm việc cho nghỉ ngơi, thời gian làm việ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ảnh hưởng thu nhập(I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mua nhiều hàng hóa hơn, thời gian nghỉ ngơ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ời gian làm việ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ếu SE&gt;IE, đường cung lao động dốc l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ếu SE&lt;IE, đường cung lao động vòng về phía s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ường cung lao động thị trường thường là dốc lê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ộng chiều ngang các đường cung lao động của các cá nhâ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4495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ố giờ làm việc/ngà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475240" y="2362320"/>
            <a:ext cx="3287520" cy="3733200"/>
            <a:chOff x="5475240" y="2362320"/>
            <a:chExt cx="3287520" cy="3733200"/>
          </a:xfrm>
        </p:grpSpPr>
        <p:sp>
          <p:nvSpPr>
            <p:cNvPr id="192" name=""/>
            <p:cNvSpPr/>
            <p:nvPr/>
          </p:nvSpPr>
          <p:spPr>
            <a:xfrm flipV="1">
              <a:off x="6296760" y="2810160"/>
              <a:ext cx="0" cy="32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96760" y="6021000"/>
              <a:ext cx="246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727960" y="2958840"/>
              <a:ext cx="2149200" cy="268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75240" y="3183480"/>
              <a:ext cx="2401920" cy="208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91320" y="2362320"/>
              <a:ext cx="113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ền lươ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36160" y="2884680"/>
              <a:ext cx="1263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Đường cung lao độ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8458200" y="6172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YẾU TỐ ẢNH HƯỞNG CUNG LĐ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5257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Áp lực về kinh t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u cầu về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ự thay đổi của công ngh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âm lý X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ạm vi thời g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ng lao động tă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đ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g dịch chuyển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ành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ng lao động giả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đ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g dịch chuyển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ành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5334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ượng cung lao độ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2209680"/>
            <a:ext cx="19051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502920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562720" y="1447920"/>
            <a:ext cx="0" cy="358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943600" y="2437920"/>
            <a:ext cx="2057400" cy="1752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477120" y="2971440"/>
            <a:ext cx="1904760" cy="16002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2895480"/>
            <a:ext cx="68580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715000" y="1905120"/>
            <a:ext cx="18288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85800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38862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153280" y="1981080"/>
            <a:ext cx="6098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56272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91520" y="3886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638320" y="2819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56272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ẢN PHẨM DOANH THU CẬN B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166760" y="1752480"/>
            <a:ext cx="7068600" cy="4819680"/>
            <a:chOff x="1166760" y="1752480"/>
            <a:chExt cx="7068600" cy="4819680"/>
          </a:xfrm>
        </p:grpSpPr>
        <p:sp>
          <p:nvSpPr>
            <p:cNvPr id="223" name=""/>
            <p:cNvSpPr/>
            <p:nvPr/>
          </p:nvSpPr>
          <p:spPr>
            <a:xfrm>
              <a:off x="2133720" y="1981080"/>
              <a:ext cx="0" cy="426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27600" y="6237360"/>
              <a:ext cx="427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33720" y="6208920"/>
              <a:ext cx="1652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ố giờ làm việ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6760" y="1752480"/>
              <a:ext cx="10180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NI-Times"/>
                </a:rPr>
                <a:t>($/gi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743560" y="2610000"/>
              <a:ext cx="5491800" cy="2379960"/>
              <a:chOff x="2743560" y="2610000"/>
              <a:chExt cx="5491800" cy="2379960"/>
            </a:xfrm>
          </p:grpSpPr>
          <p:sp>
            <p:nvSpPr>
              <p:cNvPr id="228" name=""/>
              <p:cNvSpPr/>
              <p:nvPr/>
            </p:nvSpPr>
            <p:spPr>
              <a:xfrm>
                <a:off x="6490080" y="4589280"/>
                <a:ext cx="1745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= M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43560" y="2610000"/>
                <a:ext cx="3738240" cy="2215800"/>
              </a:xfrm>
              <a:custGeom>
                <a:avLst/>
                <a:gdLst/>
                <a:ahLst/>
                <a:rect l="l" t="t" r="r" b="b"/>
                <a:pathLst>
                  <a:path w="2355" h="1396">
                    <a:moveTo>
                      <a:pt x="0" y="0"/>
                    </a:moveTo>
                    <a:lnTo>
                      <a:pt x="277" y="246"/>
                    </a:lnTo>
                    <a:lnTo>
                      <a:pt x="553" y="481"/>
                    </a:lnTo>
                    <a:lnTo>
                      <a:pt x="689" y="591"/>
                    </a:lnTo>
                    <a:lnTo>
                      <a:pt x="830" y="695"/>
                    </a:lnTo>
                    <a:lnTo>
                      <a:pt x="977" y="794"/>
                    </a:lnTo>
                    <a:lnTo>
                      <a:pt x="1119" y="883"/>
                    </a:lnTo>
                    <a:lnTo>
                      <a:pt x="1266" y="967"/>
                    </a:lnTo>
                    <a:lnTo>
                      <a:pt x="1420" y="1045"/>
                    </a:lnTo>
                    <a:lnTo>
                      <a:pt x="1574" y="1113"/>
                    </a:lnTo>
                    <a:lnTo>
                      <a:pt x="1727" y="1176"/>
                    </a:lnTo>
                    <a:lnTo>
                      <a:pt x="2041" y="1291"/>
                    </a:lnTo>
                    <a:lnTo>
                      <a:pt x="2354" y="1395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245840" y="2622240"/>
                <a:ext cx="22586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NI-Times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hị trường lao động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ạnh tranh( P = M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4943520" y="3008160"/>
                <a:ext cx="252000" cy="103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170440" y="3295800"/>
              <a:ext cx="4684320" cy="2377080"/>
              <a:chOff x="2170440" y="3295800"/>
              <a:chExt cx="4684320" cy="2377080"/>
            </a:xfrm>
          </p:grpSpPr>
          <p:sp>
            <p:nvSpPr>
              <p:cNvPr id="233" name=""/>
              <p:cNvSpPr/>
              <p:nvPr/>
            </p:nvSpPr>
            <p:spPr>
              <a:xfrm>
                <a:off x="2587680" y="3295800"/>
                <a:ext cx="2138400" cy="2212920"/>
              </a:xfrm>
              <a:custGeom>
                <a:avLst/>
                <a:gdLst/>
                <a:ahLst/>
                <a:rect l="l" t="t" r="r" b="b"/>
                <a:pathLst>
                  <a:path w="1347" h="1394">
                    <a:moveTo>
                      <a:pt x="0" y="0"/>
                    </a:moveTo>
                    <a:lnTo>
                      <a:pt x="158" y="245"/>
                    </a:lnTo>
                    <a:lnTo>
                      <a:pt x="313" y="478"/>
                    </a:lnTo>
                    <a:lnTo>
                      <a:pt x="394" y="586"/>
                    </a:lnTo>
                    <a:lnTo>
                      <a:pt x="476" y="694"/>
                    </a:lnTo>
                    <a:lnTo>
                      <a:pt x="557" y="790"/>
                    </a:lnTo>
                    <a:lnTo>
                      <a:pt x="639" y="881"/>
                    </a:lnTo>
                    <a:lnTo>
                      <a:pt x="725" y="967"/>
                    </a:lnTo>
                    <a:lnTo>
                      <a:pt x="811" y="1041"/>
                    </a:lnTo>
                    <a:lnTo>
                      <a:pt x="897" y="1109"/>
                    </a:lnTo>
                    <a:lnTo>
                      <a:pt x="988" y="1171"/>
                    </a:lnTo>
                    <a:lnTo>
                      <a:pt x="1165" y="1285"/>
                    </a:lnTo>
                    <a:lnTo>
                      <a:pt x="1346" y="1393"/>
                    </a:lnTo>
                  </a:path>
                </a:pathLst>
              </a:custGeom>
              <a:noFill/>
              <a:ln cap="rnd" w="507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810680" y="5272200"/>
                <a:ext cx="20440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= M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 M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170440" y="4967280"/>
                <a:ext cx="22129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hị trường lao động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độc quyền (P&gt;M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3060720" y="4427640"/>
                <a:ext cx="201600" cy="63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715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ÂN BẰNG CUNG CẦU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cạnh tra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b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m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song ph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93396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3024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ường cung lao động khi thị trường lao động là cạnh tra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963960" cy="5029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ng lao động của hãng l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àn toàn co giã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à hãng có thể thuê tất cả lao động mà hãng muốn tại mức tiền lương w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876920" y="20570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49528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3809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3429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51354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ượng cung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Đ CẠNH TRANH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YẾT ĐỊNH THUÊ LAO ĐỘ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219320" y="1676520"/>
            <a:ext cx="7993080" cy="4956120"/>
            <a:chOff x="1219320" y="1676520"/>
            <a:chExt cx="7993080" cy="4956120"/>
          </a:xfrm>
        </p:grpSpPr>
        <p:sp>
          <p:nvSpPr>
            <p:cNvPr id="250" name=""/>
            <p:cNvSpPr/>
            <p:nvPr/>
          </p:nvSpPr>
          <p:spPr>
            <a:xfrm>
              <a:off x="1981080" y="1815840"/>
              <a:ext cx="0" cy="42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74960" y="6072120"/>
              <a:ext cx="427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75520" y="6056280"/>
              <a:ext cx="2936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Lượng lao độ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87240" y="1676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367000" y="2412720"/>
              <a:ext cx="6788160" cy="3995280"/>
              <a:chOff x="2367000" y="2412720"/>
              <a:chExt cx="6788160" cy="3995280"/>
            </a:xfrm>
          </p:grpSpPr>
          <p:sp>
            <p:nvSpPr>
              <p:cNvPr id="255" name=""/>
              <p:cNvSpPr/>
              <p:nvPr/>
            </p:nvSpPr>
            <p:spPr>
              <a:xfrm>
                <a:off x="2367000" y="2522160"/>
                <a:ext cx="3503520" cy="2820600"/>
              </a:xfrm>
              <a:custGeom>
                <a:avLst/>
                <a:gdLst/>
                <a:ahLst/>
                <a:rect l="l" t="t" r="r" b="b"/>
                <a:pathLst>
                  <a:path w="2207" h="1777">
                    <a:moveTo>
                      <a:pt x="0" y="0"/>
                    </a:moveTo>
                    <a:lnTo>
                      <a:pt x="258" y="308"/>
                    </a:lnTo>
                    <a:lnTo>
                      <a:pt x="381" y="461"/>
                    </a:lnTo>
                    <a:lnTo>
                      <a:pt x="516" y="605"/>
                    </a:lnTo>
                    <a:lnTo>
                      <a:pt x="645" y="748"/>
                    </a:lnTo>
                    <a:lnTo>
                      <a:pt x="780" y="880"/>
                    </a:lnTo>
                    <a:lnTo>
                      <a:pt x="915" y="1007"/>
                    </a:lnTo>
                    <a:lnTo>
                      <a:pt x="1051" y="1124"/>
                    </a:lnTo>
                    <a:lnTo>
                      <a:pt x="1186" y="1230"/>
                    </a:lnTo>
                    <a:lnTo>
                      <a:pt x="1327" y="1325"/>
                    </a:lnTo>
                    <a:lnTo>
                      <a:pt x="1475" y="1416"/>
                    </a:lnTo>
                    <a:lnTo>
                      <a:pt x="1616" y="1495"/>
                    </a:lnTo>
                    <a:lnTo>
                      <a:pt x="1764" y="1569"/>
                    </a:lnTo>
                    <a:lnTo>
                      <a:pt x="1911" y="1638"/>
                    </a:lnTo>
                    <a:lnTo>
                      <a:pt x="2206" y="1776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03440" y="5030280"/>
                <a:ext cx="12769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= D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52680" y="3677760"/>
                <a:ext cx="0" cy="241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119400" y="6044760"/>
                <a:ext cx="410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6720" y="35874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19760" y="2412720"/>
                <a:ext cx="4235400" cy="100116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Hãng tối đa hóa lợi nhuận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sẽ thuê L</a:t>
                </a:r>
                <a:r>
                  <a:rPr b="1" lang="en-US" sz="2800" spc="-1" strike="noStrike" baseline="30000">
                    <a:solidFill>
                      <a:srgbClr val="808080"/>
                    </a:solidFill>
                    <a:latin typeface="Times New Roman"/>
                  </a:rPr>
                  <a:t>*</a:t>
                </a: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 tại MRP</a:t>
                </a:r>
                <a:r>
                  <a:rPr b="1" lang="en-US" sz="2800" spc="-1" strike="noStrike" baseline="-25000">
                    <a:solidFill>
                      <a:srgbClr val="808080"/>
                    </a:solidFill>
                    <a:latin typeface="Times New Roman"/>
                  </a:rPr>
                  <a:t>L</a:t>
                </a: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 = 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1981080" y="36637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19320" y="34351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143000" y="2057400"/>
            <a:ext cx="2768760" cy="2522520"/>
            <a:chOff x="1143000" y="2057400"/>
            <a:chExt cx="2768760" cy="2522520"/>
          </a:xfrm>
        </p:grpSpPr>
        <p:sp>
          <p:nvSpPr>
            <p:cNvPr id="264" name=""/>
            <p:cNvSpPr/>
            <p:nvPr/>
          </p:nvSpPr>
          <p:spPr>
            <a:xfrm>
              <a:off x="1143000" y="2517840"/>
              <a:ext cx="2595240" cy="2062080"/>
            </a:xfrm>
            <a:custGeom>
              <a:avLst/>
              <a:gdLst/>
              <a:ahLst/>
              <a:rect l="l" t="t" r="r" b="b"/>
              <a:pathLst>
                <a:path w="1635" h="1299">
                  <a:moveTo>
                    <a:pt x="0" y="1298"/>
                  </a:moveTo>
                  <a:lnTo>
                    <a:pt x="260" y="1214"/>
                  </a:lnTo>
                  <a:lnTo>
                    <a:pt x="384" y="1170"/>
                  </a:lnTo>
                  <a:lnTo>
                    <a:pt x="508" y="1121"/>
                  </a:lnTo>
                  <a:lnTo>
                    <a:pt x="629" y="1067"/>
                  </a:lnTo>
                  <a:lnTo>
                    <a:pt x="746" y="1008"/>
                  </a:lnTo>
                  <a:lnTo>
                    <a:pt x="855" y="944"/>
                  </a:lnTo>
                  <a:lnTo>
                    <a:pt x="960" y="865"/>
                  </a:lnTo>
                  <a:lnTo>
                    <a:pt x="1058" y="782"/>
                  </a:lnTo>
                  <a:lnTo>
                    <a:pt x="1152" y="683"/>
                  </a:lnTo>
                  <a:lnTo>
                    <a:pt x="1239" y="580"/>
                  </a:lnTo>
                  <a:lnTo>
                    <a:pt x="1325" y="472"/>
                  </a:lnTo>
                  <a:lnTo>
                    <a:pt x="1404" y="359"/>
                  </a:lnTo>
                  <a:lnTo>
                    <a:pt x="1483" y="241"/>
                  </a:lnTo>
                  <a:lnTo>
                    <a:pt x="1634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78040" y="20574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27040" y="205740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30440" y="2686320"/>
              <a:ext cx="65880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ân bằng trong thị trường lđ cạnh tra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17924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17924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6160" y="574056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43600" y="5740560"/>
            <a:ext cx="393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52040" y="5797440"/>
            <a:ext cx="155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ượng lao độ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92040" y="5797440"/>
            <a:ext cx="155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ượng lao độ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-1800" y="1828800"/>
            <a:ext cx="946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á l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3000" y="1828800"/>
            <a:ext cx="946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á l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216080" y="2538360"/>
            <a:ext cx="3376440" cy="2839680"/>
            <a:chOff x="1216080" y="2538360"/>
            <a:chExt cx="3376440" cy="2839680"/>
          </a:xfrm>
        </p:grpSpPr>
        <p:sp>
          <p:nvSpPr>
            <p:cNvPr id="278" name=""/>
            <p:cNvSpPr/>
            <p:nvPr/>
          </p:nvSpPr>
          <p:spPr>
            <a:xfrm>
              <a:off x="1216080" y="2538360"/>
              <a:ext cx="3130560" cy="2519280"/>
            </a:xfrm>
            <a:custGeom>
              <a:avLst/>
              <a:gdLst/>
              <a:ahLst/>
              <a:rect l="l" t="t" r="r" b="b"/>
              <a:pathLst>
                <a:path w="1972" h="1587">
                  <a:moveTo>
                    <a:pt x="0" y="0"/>
                  </a:moveTo>
                  <a:lnTo>
                    <a:pt x="35" y="32"/>
                  </a:lnTo>
                  <a:lnTo>
                    <a:pt x="75" y="70"/>
                  </a:lnTo>
                  <a:lnTo>
                    <a:pt x="119" y="118"/>
                  </a:lnTo>
                  <a:lnTo>
                    <a:pt x="171" y="166"/>
                  </a:lnTo>
                  <a:lnTo>
                    <a:pt x="224" y="225"/>
                  </a:lnTo>
                  <a:lnTo>
                    <a:pt x="285" y="285"/>
                  </a:lnTo>
                  <a:lnTo>
                    <a:pt x="412" y="408"/>
                  </a:lnTo>
                  <a:lnTo>
                    <a:pt x="552" y="543"/>
                  </a:lnTo>
                  <a:lnTo>
                    <a:pt x="688" y="672"/>
                  </a:lnTo>
                  <a:lnTo>
                    <a:pt x="828" y="795"/>
                  </a:lnTo>
                  <a:lnTo>
                    <a:pt x="955" y="903"/>
                  </a:lnTo>
                  <a:lnTo>
                    <a:pt x="1082" y="1000"/>
                  </a:lnTo>
                  <a:lnTo>
                    <a:pt x="1222" y="1102"/>
                  </a:lnTo>
                  <a:lnTo>
                    <a:pt x="1362" y="1199"/>
                  </a:lnTo>
                  <a:lnTo>
                    <a:pt x="1502" y="1290"/>
                  </a:lnTo>
                  <a:lnTo>
                    <a:pt x="1643" y="1376"/>
                  </a:lnTo>
                  <a:lnTo>
                    <a:pt x="1770" y="1457"/>
                  </a:lnTo>
                  <a:lnTo>
                    <a:pt x="1826" y="1489"/>
                  </a:lnTo>
                  <a:lnTo>
                    <a:pt x="1879" y="1527"/>
                  </a:lnTo>
                  <a:lnTo>
                    <a:pt x="1927" y="1559"/>
                  </a:lnTo>
                  <a:lnTo>
                    <a:pt x="1971" y="1586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46560" y="50148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02120" y="33735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51000" y="3925800"/>
              <a:ext cx="176040" cy="7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00240" y="2611440"/>
            <a:ext cx="8882280" cy="3563640"/>
            <a:chOff x="300240" y="2611440"/>
            <a:chExt cx="8882280" cy="3563640"/>
          </a:xfrm>
        </p:grpSpPr>
        <p:sp>
          <p:nvSpPr>
            <p:cNvPr id="283" name=""/>
            <p:cNvSpPr/>
            <p:nvPr/>
          </p:nvSpPr>
          <p:spPr>
            <a:xfrm>
              <a:off x="5056200" y="3911760"/>
              <a:ext cx="3452760" cy="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50960" y="3911760"/>
              <a:ext cx="37814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90920" y="3835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6880" y="4002120"/>
              <a:ext cx="0" cy="17254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1680" y="581184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43600" y="3906720"/>
              <a:ext cx="1438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= ME = 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0240" y="367812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67320" y="3713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48520" y="261144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999120" y="3164040"/>
              <a:ext cx="252720" cy="58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445000" y="2033640"/>
            <a:ext cx="3959640" cy="4138200"/>
            <a:chOff x="5445000" y="2033640"/>
            <a:chExt cx="3959640" cy="4138200"/>
          </a:xfrm>
        </p:grpSpPr>
        <p:sp>
          <p:nvSpPr>
            <p:cNvPr id="294" name=""/>
            <p:cNvSpPr/>
            <p:nvPr/>
          </p:nvSpPr>
          <p:spPr>
            <a:xfrm>
              <a:off x="5445000" y="2536920"/>
              <a:ext cx="2524320" cy="2441520"/>
            </a:xfrm>
            <a:custGeom>
              <a:avLst/>
              <a:gdLst/>
              <a:ahLst/>
              <a:rect l="l" t="t" r="r" b="b"/>
              <a:pathLst>
                <a:path w="1590" h="1538">
                  <a:moveTo>
                    <a:pt x="0" y="0"/>
                  </a:moveTo>
                  <a:lnTo>
                    <a:pt x="16" y="21"/>
                  </a:lnTo>
                  <a:lnTo>
                    <a:pt x="32" y="53"/>
                  </a:lnTo>
                  <a:lnTo>
                    <a:pt x="65" y="122"/>
                  </a:lnTo>
                  <a:lnTo>
                    <a:pt x="105" y="201"/>
                  </a:lnTo>
                  <a:lnTo>
                    <a:pt x="153" y="297"/>
                  </a:lnTo>
                  <a:lnTo>
                    <a:pt x="258" y="487"/>
                  </a:lnTo>
                  <a:lnTo>
                    <a:pt x="315" y="578"/>
                  </a:lnTo>
                  <a:lnTo>
                    <a:pt x="371" y="657"/>
                  </a:lnTo>
                  <a:lnTo>
                    <a:pt x="500" y="805"/>
                  </a:lnTo>
                  <a:lnTo>
                    <a:pt x="637" y="943"/>
                  </a:lnTo>
                  <a:lnTo>
                    <a:pt x="782" y="1076"/>
                  </a:lnTo>
                  <a:lnTo>
                    <a:pt x="928" y="1192"/>
                  </a:lnTo>
                  <a:lnTo>
                    <a:pt x="1008" y="1245"/>
                  </a:lnTo>
                  <a:lnTo>
                    <a:pt x="1097" y="1298"/>
                  </a:lnTo>
                  <a:lnTo>
                    <a:pt x="1283" y="1394"/>
                  </a:lnTo>
                  <a:lnTo>
                    <a:pt x="1371" y="1436"/>
                  </a:lnTo>
                  <a:lnTo>
                    <a:pt x="1460" y="1473"/>
                  </a:lnTo>
                  <a:lnTo>
                    <a:pt x="1533" y="1505"/>
                  </a:lnTo>
                  <a:lnTo>
                    <a:pt x="1589" y="1537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89560" y="3998880"/>
              <a:ext cx="0" cy="1725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80320" y="58086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61320" y="5040360"/>
              <a:ext cx="1839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6989760" y="4735080"/>
              <a:ext cx="2016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63200" y="4832280"/>
              <a:ext cx="11628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= 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13600" y="38322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51160" y="2033640"/>
              <a:ext cx="3453480" cy="15519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.VnTime"/>
                </a:rPr>
                <a:t>Quan s¸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) Cty chấp nhận p= $1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) S = AE = ME = $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) ME = MRP = 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87320" y="144792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9120" y="644040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ỨC LƯƠNG THEO QUY ĐỊ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590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60958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809880" y="17521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4419360" y="-1219320"/>
            <a:ext cx="563760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752840" y="-1143360"/>
            <a:ext cx="5181120" cy="65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809880" y="4952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38862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3886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886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47242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350532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q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38098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3200400"/>
            <a:ext cx="1447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ất nghiệ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177920" y="2590920"/>
            <a:ext cx="7958520" cy="3381840"/>
            <a:chOff x="1177920" y="2590920"/>
            <a:chExt cx="7958520" cy="3381840"/>
          </a:xfrm>
        </p:grpSpPr>
        <p:sp>
          <p:nvSpPr>
            <p:cNvPr id="320" name=""/>
            <p:cNvSpPr/>
            <p:nvPr/>
          </p:nvSpPr>
          <p:spPr>
            <a:xfrm>
              <a:off x="1177920" y="3071880"/>
              <a:ext cx="3071880" cy="246240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960" y="5607000"/>
              <a:ext cx="11534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40680" y="3124440"/>
              <a:ext cx="3071520" cy="24620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38000" y="5607000"/>
              <a:ext cx="11534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35640" y="2590920"/>
              <a:ext cx="3511800" cy="18525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94320" y="4464000"/>
              <a:ext cx="9421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 *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71524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ÂN BẰNG THỊ TRƯỜNG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-720" y="1828800"/>
            <a:ext cx="8904960" cy="4740120"/>
            <a:chOff x="-720" y="1828800"/>
            <a:chExt cx="8904960" cy="4740120"/>
          </a:xfrm>
        </p:grpSpPr>
        <p:grpSp>
          <p:nvGrpSpPr>
            <p:cNvPr id="328" name=""/>
            <p:cNvGrpSpPr/>
            <p:nvPr/>
          </p:nvGrpSpPr>
          <p:grpSpPr>
            <a:xfrm>
              <a:off x="1073160" y="2395440"/>
              <a:ext cx="7425720" cy="2696760"/>
              <a:chOff x="1073160" y="2395440"/>
              <a:chExt cx="7425720" cy="269676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1073160" y="3103560"/>
                <a:ext cx="3224160" cy="1954080"/>
              </a:xfrm>
              <a:prstGeom prst="line">
                <a:avLst/>
              </a:prstGeom>
              <a:ln w="50760">
                <a:solidFill>
                  <a:srgbClr val="944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410280" y="2700360"/>
                <a:ext cx="9021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5410080" y="2756880"/>
                <a:ext cx="2543400" cy="2335320"/>
              </a:xfrm>
              <a:prstGeom prst="line">
                <a:avLst/>
              </a:prstGeom>
              <a:ln w="50760">
                <a:solidFill>
                  <a:srgbClr val="944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596720" y="2395440"/>
                <a:ext cx="9021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687240" y="2152800"/>
              <a:ext cx="0" cy="39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54680" y="2152800"/>
              <a:ext cx="0" cy="39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1640" y="6100920"/>
              <a:ext cx="393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68720" y="6100920"/>
              <a:ext cx="393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33720" y="6157800"/>
              <a:ext cx="1900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70240" y="6205680"/>
              <a:ext cx="1959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-720" y="1828800"/>
              <a:ext cx="76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90400" y="1828800"/>
              <a:ext cx="76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1960" y="1919160"/>
              <a:ext cx="341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ThÞ tr­êng ®Çu ra c¹nh tran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97600" y="1919160"/>
              <a:ext cx="3470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ThÞ tr­êng ®Çu ra ®éc quyÒ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236160" y="2895480"/>
              <a:ext cx="6848640" cy="3601080"/>
              <a:chOff x="236160" y="2895480"/>
              <a:chExt cx="6848640" cy="3601080"/>
            </a:xfrm>
          </p:grpSpPr>
          <p:sp>
            <p:nvSpPr>
              <p:cNvPr id="344" name=""/>
              <p:cNvSpPr/>
              <p:nvPr/>
            </p:nvSpPr>
            <p:spPr>
              <a:xfrm>
                <a:off x="2444760" y="41194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681120" y="4195800"/>
                <a:ext cx="1776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36160" y="4003560"/>
                <a:ext cx="4557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521080" y="4221360"/>
                <a:ext cx="0" cy="1866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293560" y="6095880"/>
                <a:ext cx="4176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4947840" y="4043520"/>
                <a:ext cx="1623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83240" y="39672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9080" y="3809880"/>
                <a:ext cx="4694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59560" y="3219480"/>
                <a:ext cx="0" cy="286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334200" y="6095880"/>
                <a:ext cx="431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948200" y="3129120"/>
                <a:ext cx="151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83240" y="30528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29800" y="2895480"/>
                <a:ext cx="4176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679480" y="40006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719760" y="38419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915400" cy="10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ÂN BẰNG THỊ TRƯỜNG L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ân bằng trong thị trường hàng hóa là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MRP) =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W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MR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P * M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ị trường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190760" y="1600200"/>
            <a:ext cx="4763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ân bằng trong thị trường hàng hóa là độc quy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 &lt;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P = MR * M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u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ại mứ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lợi ích biên của người tiêu dù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chi phí biên của hã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ử dụng ít hơn mức sản lượng hiệu qu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209680" y="3048120"/>
            <a:ext cx="1677960" cy="2341440"/>
          </a:xfrm>
          <a:custGeom>
            <a:avLst/>
            <a:gdLst/>
            <a:ahLst/>
            <a:rect l="l" t="t" r="r" b="b"/>
            <a:pathLst>
              <a:path w="1057" h="1441">
                <a:moveTo>
                  <a:pt x="0" y="0"/>
                </a:moveTo>
                <a:lnTo>
                  <a:pt x="1056" y="0"/>
                </a:lnTo>
                <a:lnTo>
                  <a:pt x="1056" y="1056"/>
                </a:lnTo>
                <a:lnTo>
                  <a:pt x="0" y="1440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886200" y="2960280"/>
            <a:ext cx="0" cy="3071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24080" y="3048120"/>
            <a:ext cx="1573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52840" y="273852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59040" y="5962680"/>
            <a:ext cx="3704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1066680"/>
            <a:ext cx="4343400" cy="201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MA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được thuê thì chọn 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tối đa hóa tổng lương thì cung cấp tại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với mức lương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201760" y="3890520"/>
            <a:ext cx="4049640" cy="146844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78680" y="3581280"/>
            <a:ext cx="388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52720" y="2160720"/>
            <a:ext cx="3270240" cy="29955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249960" y="4975200"/>
            <a:ext cx="426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41600" y="2389320"/>
            <a:ext cx="2081160" cy="360504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65880" y="52941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408560" y="5500800"/>
            <a:ext cx="1014480" cy="12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ĐQ BÁN</a:t>
            </a:r>
            <a:r>
              <a:rPr b="0" lang="en-US" sz="3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175104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03560" y="6006960"/>
            <a:ext cx="445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0800" y="5996160"/>
            <a:ext cx="211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ố lượng công nhâ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88680" y="167004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94360" y="37591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24080" y="4267080"/>
            <a:ext cx="2944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81480" y="41911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24160" y="5948280"/>
            <a:ext cx="375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57800" y="4255560"/>
            <a:ext cx="0" cy="1776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47440" y="4110120"/>
            <a:ext cx="43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477120" y="2971800"/>
            <a:ext cx="2666880" cy="307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đạt mức lương cao hơn thì hạn chế thành viên ở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ới đơn giá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Điều này giúp nghiệp đoàn tối đa hóa tô kinh t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648320" y="36576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20968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95680" y="6172200"/>
            <a:ext cx="381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00200" y="3429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8001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AO ĐỘNG ĐQ M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85800" y="1752480"/>
            <a:ext cx="8458200" cy="4291920"/>
            <a:chOff x="685800" y="1752480"/>
            <a:chExt cx="8458200" cy="4291920"/>
          </a:xfrm>
        </p:grpSpPr>
        <p:sp>
          <p:nvSpPr>
            <p:cNvPr id="394" name=""/>
            <p:cNvSpPr/>
            <p:nvPr/>
          </p:nvSpPr>
          <p:spPr>
            <a:xfrm flipV="1">
              <a:off x="1371600" y="1752480"/>
              <a:ext cx="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71600" y="55627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52480" y="2286000"/>
              <a:ext cx="304812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523880" y="2285640"/>
              <a:ext cx="281952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828800" y="3809520"/>
              <a:ext cx="3276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19720" y="2133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1480" y="3657600"/>
              <a:ext cx="1905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A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00600" y="487692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48120" y="342900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86200" y="41911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371240" y="4495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371240" y="4191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5638680"/>
              <a:ext cx="41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Đơn vị lao độ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5800" y="1981080"/>
              <a:ext cx="609480" cy="29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i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96080" y="281952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05720" y="2133720"/>
              <a:ext cx="2438280" cy="357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Hãng thuê L* khi ME=MRP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tương ứng với 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và trả mức lương W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14200"/>
            <a:ext cx="84103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AO ĐỘNG ĐỘC QUYỀ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G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0880" y="1828800"/>
            <a:ext cx="8393760" cy="4733640"/>
            <a:chOff x="380880" y="1828800"/>
            <a:chExt cx="8393760" cy="4733640"/>
          </a:xfrm>
        </p:grpSpPr>
        <p:sp>
          <p:nvSpPr>
            <p:cNvPr id="412" name=""/>
            <p:cNvSpPr/>
            <p:nvPr/>
          </p:nvSpPr>
          <p:spPr>
            <a:xfrm>
              <a:off x="2209680" y="1962000"/>
              <a:ext cx="0" cy="426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03560" y="6218280"/>
              <a:ext cx="5395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1560" y="6248520"/>
              <a:ext cx="1693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65360" y="1828800"/>
              <a:ext cx="333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NI-Time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2846520" y="2617920"/>
              <a:ext cx="5195880" cy="2769840"/>
              <a:chOff x="2846520" y="2617920"/>
              <a:chExt cx="5195880" cy="2769840"/>
            </a:xfrm>
          </p:grpSpPr>
          <p:sp>
            <p:nvSpPr>
              <p:cNvPr id="417" name=""/>
              <p:cNvSpPr/>
              <p:nvPr/>
            </p:nvSpPr>
            <p:spPr>
              <a:xfrm>
                <a:off x="3075120" y="2617920"/>
                <a:ext cx="3909960" cy="169992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792840" y="4414680"/>
                <a:ext cx="12495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= 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846520" y="2846520"/>
                <a:ext cx="3071520" cy="215712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10320" y="5024520"/>
                <a:ext cx="5364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1900080" y="54133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47440" y="46116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47440" y="380844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47440" y="300672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47440" y="22050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4344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6088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9612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2787480" y="1900080"/>
              <a:ext cx="4557240" cy="3633480"/>
              <a:chOff x="2787480" y="1900080"/>
              <a:chExt cx="4557240" cy="363348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2787480" y="2256480"/>
                <a:ext cx="2300760" cy="282636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3318840" y="3007800"/>
                <a:ext cx="3591360" cy="2525760"/>
              </a:xfrm>
              <a:prstGeom prst="line">
                <a:avLst/>
              </a:prstGeom>
              <a:ln w="507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10520" y="2651040"/>
                <a:ext cx="93420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032800" y="1900080"/>
                <a:ext cx="4863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1747440" y="3195720"/>
              <a:ext cx="3406680" cy="3366720"/>
              <a:chOff x="1747440" y="3195720"/>
              <a:chExt cx="3406680" cy="3366720"/>
            </a:xfrm>
          </p:grpSpPr>
          <p:sp>
            <p:nvSpPr>
              <p:cNvPr id="435" name=""/>
              <p:cNvSpPr/>
              <p:nvPr/>
            </p:nvSpPr>
            <p:spPr>
              <a:xfrm>
                <a:off x="4719600" y="6199200"/>
                <a:ext cx="434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47440" y="31957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24080" y="3429000"/>
                <a:ext cx="271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4952880" y="3494160"/>
                <a:ext cx="0" cy="2766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876920" y="33526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2224080" y="3124080"/>
              <a:ext cx="2195640" cy="3136680"/>
              <a:chOff x="2224080" y="3124080"/>
              <a:chExt cx="2195640" cy="3136680"/>
            </a:xfrm>
          </p:grpSpPr>
          <p:sp>
            <p:nvSpPr>
              <p:cNvPr id="441" name=""/>
              <p:cNvSpPr/>
              <p:nvPr/>
            </p:nvSpPr>
            <p:spPr>
              <a:xfrm>
                <a:off x="4267080" y="4724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24080" y="3200400"/>
                <a:ext cx="2030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4343400" y="3188880"/>
                <a:ext cx="0" cy="307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267080" y="31240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24080" y="4800600"/>
                <a:ext cx="210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80880" y="3425760"/>
              <a:ext cx="1452600" cy="1378080"/>
              <a:chOff x="380880" y="3425760"/>
              <a:chExt cx="1452600" cy="1378080"/>
            </a:xfrm>
          </p:grpSpPr>
          <p:sp>
            <p:nvSpPr>
              <p:cNvPr id="447" name=""/>
              <p:cNvSpPr/>
              <p:nvPr/>
            </p:nvSpPr>
            <p:spPr>
              <a:xfrm>
                <a:off x="1504080" y="3425760"/>
                <a:ext cx="325080" cy="1378080"/>
              </a:xfrm>
              <a:custGeom>
                <a:avLst/>
                <a:gdLst/>
                <a:ahLst/>
                <a:rect l="l" t="t" r="r" b="b"/>
                <a:pathLst>
                  <a:path w="241" h="868">
                    <a:moveTo>
                      <a:pt x="240" y="0"/>
                    </a:moveTo>
                    <a:lnTo>
                      <a:pt x="216" y="0"/>
                    </a:lnTo>
                    <a:lnTo>
                      <a:pt x="194" y="5"/>
                    </a:lnTo>
                    <a:lnTo>
                      <a:pt x="174" y="14"/>
                    </a:lnTo>
                    <a:lnTo>
                      <a:pt x="155" y="23"/>
                    </a:lnTo>
                    <a:lnTo>
                      <a:pt x="141" y="33"/>
                    </a:lnTo>
                    <a:lnTo>
                      <a:pt x="129" y="46"/>
                    </a:lnTo>
                    <a:lnTo>
                      <a:pt x="122" y="60"/>
                    </a:lnTo>
                    <a:lnTo>
                      <a:pt x="120" y="74"/>
                    </a:lnTo>
                    <a:lnTo>
                      <a:pt x="120" y="360"/>
                    </a:lnTo>
                    <a:lnTo>
                      <a:pt x="118" y="374"/>
                    </a:lnTo>
                    <a:lnTo>
                      <a:pt x="111" y="388"/>
                    </a:lnTo>
                    <a:lnTo>
                      <a:pt x="100" y="401"/>
                    </a:lnTo>
                    <a:lnTo>
                      <a:pt x="85" y="411"/>
                    </a:lnTo>
                    <a:lnTo>
                      <a:pt x="67" y="420"/>
                    </a:lnTo>
                    <a:lnTo>
                      <a:pt x="46" y="429"/>
                    </a:lnTo>
                    <a:lnTo>
                      <a:pt x="24" y="434"/>
                    </a:lnTo>
                    <a:lnTo>
                      <a:pt x="0" y="434"/>
                    </a:lnTo>
                    <a:lnTo>
                      <a:pt x="24" y="434"/>
                    </a:lnTo>
                    <a:lnTo>
                      <a:pt x="46" y="438"/>
                    </a:lnTo>
                    <a:lnTo>
                      <a:pt x="67" y="448"/>
                    </a:lnTo>
                    <a:lnTo>
                      <a:pt x="85" y="457"/>
                    </a:lnTo>
                    <a:lnTo>
                      <a:pt x="100" y="466"/>
                    </a:lnTo>
                    <a:lnTo>
                      <a:pt x="111" y="480"/>
                    </a:lnTo>
                    <a:lnTo>
                      <a:pt x="118" y="494"/>
                    </a:lnTo>
                    <a:lnTo>
                      <a:pt x="120" y="507"/>
                    </a:lnTo>
                    <a:lnTo>
                      <a:pt x="120" y="793"/>
                    </a:lnTo>
                    <a:lnTo>
                      <a:pt x="122" y="807"/>
                    </a:lnTo>
                    <a:lnTo>
                      <a:pt x="129" y="821"/>
                    </a:lnTo>
                    <a:lnTo>
                      <a:pt x="141" y="835"/>
                    </a:lnTo>
                    <a:lnTo>
                      <a:pt x="155" y="844"/>
                    </a:lnTo>
                    <a:lnTo>
                      <a:pt x="174" y="853"/>
                    </a:lnTo>
                    <a:lnTo>
                      <a:pt x="194" y="862"/>
                    </a:lnTo>
                    <a:lnTo>
                      <a:pt x="216" y="867"/>
                    </a:lnTo>
                    <a:lnTo>
                      <a:pt x="240" y="8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80880" y="3881520"/>
                <a:ext cx="145260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ức lương có th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1756440" y="3535200"/>
              <a:ext cx="4110840" cy="365760"/>
              <a:chOff x="1756440" y="3535200"/>
              <a:chExt cx="4110840" cy="365760"/>
            </a:xfrm>
          </p:grpSpPr>
          <p:sp>
            <p:nvSpPr>
              <p:cNvPr id="450" name=""/>
              <p:cNvSpPr/>
              <p:nvPr/>
            </p:nvSpPr>
            <p:spPr>
              <a:xfrm>
                <a:off x="2224080" y="3809880"/>
                <a:ext cx="3478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715000" y="3733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56440" y="3535200"/>
                <a:ext cx="42372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ỘC QUYỀN SONG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971520" y="1676520"/>
            <a:ext cx="5171760" cy="4312080"/>
            <a:chOff x="3971520" y="1676520"/>
            <a:chExt cx="5171760" cy="4312080"/>
          </a:xfrm>
        </p:grpSpPr>
        <p:sp>
          <p:nvSpPr>
            <p:cNvPr id="455" name=""/>
            <p:cNvSpPr/>
            <p:nvPr/>
          </p:nvSpPr>
          <p:spPr>
            <a:xfrm>
              <a:off x="4484160" y="2116080"/>
              <a:ext cx="0" cy="359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80200" y="5703840"/>
              <a:ext cx="358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93880" y="5529600"/>
              <a:ext cx="1049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71520" y="1676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59440" y="2669040"/>
              <a:ext cx="2596680" cy="14320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25440" y="4184280"/>
              <a:ext cx="10152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MR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06440" y="2862720"/>
              <a:ext cx="2040480" cy="18176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09040" y="4698360"/>
              <a:ext cx="457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85720" y="50245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84560" y="43498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84560" y="367272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84560" y="29980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77080" y="232056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640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7944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6408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4868280" y="2366280"/>
              <a:ext cx="1527840" cy="23814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222160" y="2997720"/>
              <a:ext cx="2384280" cy="212868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72360" y="2697480"/>
              <a:ext cx="8478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(A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59400" y="2063880"/>
              <a:ext cx="410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5096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84560" y="315684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93880" y="3353040"/>
              <a:ext cx="1805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6306120" y="3407400"/>
              <a:ext cx="0" cy="23335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54640" y="328968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51440" y="444564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93880" y="3160800"/>
              <a:ext cx="13478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900760" y="3149640"/>
              <a:ext cx="0" cy="2590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51440" y="309564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3880" y="4508640"/>
              <a:ext cx="139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3880" y="3674880"/>
              <a:ext cx="23097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13000" y="360972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90680" y="3441960"/>
              <a:ext cx="3643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342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i không có quyền lực độc quyền của công đo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uê L = 20 tại MRP = ME và w = $10/giờ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ục tiêu của công đo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R = 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ại L = 25 và w = $19/gi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153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LAO ĐỘ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Cầu thứ ph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hụ thuộc vào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Đường cầu lao động củ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ãng dốc xuố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 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khi thị trường hàng hóa l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ạnh tranh hoàn h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29200" y="2473200"/>
            <a:ext cx="4067280" cy="3252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ẦU L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KN: CÇu L§ lµ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đại lượng phản ánh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sè l­î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L§ mµ ng­êi chñ s½n lßng vµ cã kh¶ n¨ng thu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­ín ë c¸c møc tr¶ c«ng (l­¬ng)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nhau 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1 kho¶ng tgian n®Þnh(c¸c yÕu tè kh¸c kh«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æ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Çu vÒ L§ lµ cÇu thø ph¸t(cÇu dÉn xuÊ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§­êng cÇu vÒ L§ còng dèc xuèng vµ ph¶n ¸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luËt cÇu vÒ L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    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D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Đ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(↑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24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.VnTime"/>
              </a:rPr>
              <a:t>CÇu thø ph¸t(dÉn xuÊt</a:t>
            </a:r>
            <a:r>
              <a:rPr b="0" lang="de-DE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ph¸t sinh sau vµ phô thuéc vµo cÇu hµng ho¸, dÞch v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Cầu lđ là cầu thứ phát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v× nã phô thuéc vµo v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­îc dÉn xuÊt tõ møc s¶n l­îng ®Çu ra ví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P ®Çu vµo cña DN mµ môc tiªu lµ II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AX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uèn II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AX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th× c¸c DN l¹i dùa vµo cÇu cñ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ng­êi TD ®Ó X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+ L­îng H2 mµ DN ph¶i cung cho t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+ Ch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í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 cho L§(møc tiÒn c«ng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ẬT CẦU VỀ LAO Đ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3733920" cy="4191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D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Đ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(↑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ức lương (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y đổi dẫn đ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ó sự vận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ọc theo đườ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ầu ( I đến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333760" y="-1372320"/>
            <a:ext cx="548568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3733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5257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3733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6477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49528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64008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80988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3429000"/>
            <a:ext cx="533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791320" y="6629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64008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46483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48006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327672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171840" y="4723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ỚI HẠN GIÁ CẢ SL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* gi¸ trÞ t­ liÖu TD tèi thiÓu mµ 1 L§ cÇ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cã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cã ®iÒu tiÕt: TLTDmin (lương quy ®Þn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kh«ng cã ®iÒu tiÕt: (tiÒn c«ng)min m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ng­êi L§ chÊp nh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* giíi h¹n tèi ®a gi¸ c¶ SL§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≤ M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19920" y="459756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P và M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doanh thu cận bi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K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doanh thu cận biên là doanh thu thu thêm được khi SD thêm 1 đơn vị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ông thứ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MRP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R.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2.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hiện vật cận biê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K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hiện vật cận biên là sp tăng thêm khi SD thêm 1 đơn vị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ông thứ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MPP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KL: nếu là thị trường CTHH =&gt;MRP = MPP.P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13840"/>
            <a:ext cx="89154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guyên tắc thuê</a:t>
            </a:r>
            <a:r>
              <a:rPr b="0" lang="en-US" sz="5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o độ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 W: thuê thêm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 W: thuê ít lao động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h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W: số lượng lao động đạt tối ưu tại đó tối đa hóa lợi nhu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CM: Để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Đ Q tại  MR = M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MC = W/ MP =&gt; MC = MR =&gt; W = MR.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MRP =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.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R.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=&gt; KL:  W =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VNI-Times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8:29:25Z</dcterms:created>
  <dc:creator>Mem nhun</dc:creator>
  <dc:description/>
  <dc:language>en-US</dc:language>
  <cp:lastModifiedBy>Retestrak</cp:lastModifiedBy>
  <dcterms:modified xsi:type="dcterms:W3CDTF">2008-05-26T08:30:24Z</dcterms:modified>
  <cp:revision>85</cp:revision>
  <dc:subject/>
  <dc:title>Slide 1</dc:title>
</cp:coreProperties>
</file>