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7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50EA-23A4-4D78-BA12-D33189B6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7684-7AC8-4472-A812-58620248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093-0277-4857-9845-F5B8090F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C31A-75F5-4ED4-A569-F8FD6A3C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8CF-6DD5-4BB1-B64F-F39D9E97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F0CA-C858-42BD-95EC-89607C02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A4D-D3D1-46B1-922A-EBBDE7FE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96F-A941-4399-ACDB-D09D2920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922-1FC1-4D2B-9A69-3BBAD505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33B-87E6-4FA3-AE09-0F9AE416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A84-876D-476E-B302-325EEDA1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9066-2479-4F39-8BFD-46CFD260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D780-ED17-48CC-955E-01106678D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ương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ẤU TRÚC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9880" y="2209680"/>
            <a:ext cx="51055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hái niệ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ác tiêu thức 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ấu trúc 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TH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Tr không hoàn h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2895480"/>
          <a:ext cx="297180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95480"/>
                    <a:ext cx="297180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CẠNH TRANH HOÀN H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ô số người mua, người bán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ản phẩm đồng nhấ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ông tin hoàn hả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a nhập và rút lui tự 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hông cần hình thức quảng c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của DN CTH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D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lt;&lt;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&gt; DN CTHH k có SM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à “người” chấp nhận giá cả 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≡ P = MR = 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AR = TR/Q = P.Q/Q=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 của DN là D nằm ng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CẦU VÀ DOANH THU CẬN BIÊN CỦA HÃNG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057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4114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1981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41148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2362320"/>
            <a:ext cx="160020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523880" y="2438280"/>
            <a:ext cx="198144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3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371600" y="3048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304812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06440" y="263196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920" y="385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86560" y="156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96200" y="3927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05280" y="1488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71600" y="2479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8280" y="2784600"/>
            <a:ext cx="45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27600" y="4156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80640" y="266688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1520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98080" y="4038480"/>
            <a:ext cx="189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10400" y="339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6268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7560" y="4503600"/>
            <a:ext cx="85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ị trường CTHH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ãng CTHH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Đường cầu D nằm ngang tại mứ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á cân bằng của thị trườ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“người chấp nhận giá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R=MC =&gt; P = MR =&gt; P = MC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ỐI ĐA HÓA LỢI NHUẬN ĐỐI VỚI HÃNG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0574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4495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3352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91480" y="179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68200" y="430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21640" y="301320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53800" y="29368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572000" y="989640"/>
            <a:ext cx="259056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96240" y="20224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2666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84120" y="4495680"/>
            <a:ext cx="172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5764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019560" y="33526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019920" y="3352680"/>
            <a:ext cx="3045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019560" y="33526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866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102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102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9343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7856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523880"/>
            <a:ext cx="472428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anh nghiệp so sánh giữa P v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 tại mỗi mức sản lượ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&gt;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s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&lt;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s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ại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P =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i tắ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 hãng CTHH chấp nhận giá thị trường và chọn sản lượng Q* khi MC=P nhằm thu đượ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ÒA VỐ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=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=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H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 MC =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H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FC/(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AV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44828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4800600" y="1294560"/>
            <a:ext cx="44186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76920" y="989640"/>
            <a:ext cx="426672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26668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2895480"/>
            <a:ext cx="3047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C = AT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aramond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81280" y="3733920"/>
            <a:ext cx="381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81680" y="6248520"/>
            <a:ext cx="381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YẾT ĐỊNH SX CỦA DN CTH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RONG NGẮN H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81080" y="541008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981080" y="17524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25909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647960" y="2590920"/>
            <a:ext cx="75960" cy="281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980720" y="38098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52680" y="160020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3429000"/>
            <a:ext cx="7621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3880" y="1600200"/>
            <a:ext cx="3812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5562720"/>
            <a:ext cx="533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36576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23880" y="2514600"/>
            <a:ext cx="381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1752480"/>
            <a:ext cx="2819160" cy="495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ãng lựa chọ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ản lượng Q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o nguyên tắ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 = 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ax = TR-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 Q* (P - ATC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 &gt; A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7400" y="30481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66880" y="2819520"/>
            <a:ext cx="60984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281952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8954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3429000"/>
            <a:ext cx="1522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34290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9200" y="2057400"/>
            <a:ext cx="380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4419720"/>
            <a:ext cx="15228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556272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2590920"/>
            <a:ext cx="2743200" cy="1218960"/>
          </a:xfrm>
          <a:custGeom>
            <a:avLst/>
            <a:gdLst/>
            <a:ahLst/>
            <a:rect l="l" t="t" r="r" b="b"/>
            <a:pathLst>
              <a:path w="1728" h="768">
                <a:moveTo>
                  <a:pt x="0" y="0"/>
                </a:moveTo>
                <a:lnTo>
                  <a:pt x="1728" y="0"/>
                </a:lnTo>
                <a:lnTo>
                  <a:pt x="1728" y="768"/>
                </a:lnTo>
                <a:lnTo>
                  <a:pt x="0" y="768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62320" y="1905120"/>
            <a:ext cx="2666880" cy="3682800"/>
          </a:xfrm>
          <a:custGeom>
            <a:avLst/>
            <a:gdLst/>
            <a:ahLst/>
            <a:rect l="l" t="t" r="r" b="b"/>
            <a:pathLst>
              <a:path w="1680" h="2320">
                <a:moveTo>
                  <a:pt x="0" y="1536"/>
                </a:moveTo>
                <a:cubicBezTo>
                  <a:pt x="76" y="1928"/>
                  <a:pt x="152" y="2320"/>
                  <a:pt x="432" y="2064"/>
                </a:cubicBezTo>
                <a:cubicBezTo>
                  <a:pt x="712" y="1808"/>
                  <a:pt x="1196" y="904"/>
                  <a:pt x="168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62320" y="3429000"/>
            <a:ext cx="2743200" cy="1384200"/>
          </a:xfrm>
          <a:custGeom>
            <a:avLst/>
            <a:gdLst/>
            <a:ahLst/>
            <a:rect l="l" t="t" r="r" b="b"/>
            <a:pathLst>
              <a:path w="1728" h="872">
                <a:moveTo>
                  <a:pt x="0" y="336"/>
                </a:moveTo>
                <a:cubicBezTo>
                  <a:pt x="216" y="604"/>
                  <a:pt x="432" y="872"/>
                  <a:pt x="720" y="816"/>
                </a:cubicBezTo>
                <a:cubicBezTo>
                  <a:pt x="1008" y="760"/>
                  <a:pt x="1368" y="380"/>
                  <a:pt x="1728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124080" y="205740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ẾP TỤC 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 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P&lt;A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MC =&gt;Q =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52460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58200" y="26668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3886200"/>
            <a:ext cx="457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6400800"/>
            <a:ext cx="6098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1447920"/>
            <a:ext cx="304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944320" y="990720"/>
            <a:ext cx="28944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3e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077320" y="33526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010280" y="3276720"/>
            <a:ext cx="0" cy="761760"/>
          </a:xfrm>
          <a:prstGeom prst="line">
            <a:avLst/>
          </a:prstGeom>
          <a:ln w="3816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114440" y="47242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723200" y="1751760"/>
            <a:ext cx="335520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88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88632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4951800" y="2059920"/>
            <a:ext cx="30452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585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5853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6095880" y="1751760"/>
            <a:ext cx="274248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3e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114440" y="3276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72428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91520" y="51814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05720" y="3352680"/>
            <a:ext cx="75960" cy="2743200"/>
          </a:xfrm>
          <a:custGeom>
            <a:avLst/>
            <a:gdLst>
              <a:gd name="textAreaLeft" fmla="*/ 48600 w 75960"/>
              <a:gd name="textAreaRight" fmla="*/ 76320 w 759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5334120"/>
            <a:ext cx="6098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86600" y="335268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48720" y="4343400"/>
            <a:ext cx="60948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38880" y="4114800"/>
            <a:ext cx="6098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3505320"/>
            <a:ext cx="53352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800600" y="3581280"/>
            <a:ext cx="53352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4120" y="35812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791320" y="3657240"/>
            <a:ext cx="533160" cy="762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24480" y="3581280"/>
            <a:ext cx="53352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19520" y="4648320"/>
            <a:ext cx="7617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657600" y="4114440"/>
            <a:ext cx="9907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3505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24280" y="34290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365760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05520" y="3505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342900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3581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43600" y="3429000"/>
            <a:ext cx="15228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24480" y="34290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358128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2133720"/>
            <a:ext cx="106668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aramond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028840" y="297180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ÓNG CỬA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Kh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= AV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ì DN lỗ toàn bộ 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Nếu P &lt; AV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ì DN lỗ toàn bộ 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à lỗ thêm 1 phần 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52460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4800600" y="1294560"/>
            <a:ext cx="44186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801320" y="989640"/>
            <a:ext cx="426600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48720" y="3124080"/>
            <a:ext cx="533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944320" y="762120"/>
            <a:ext cx="28944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24680" y="220968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7010280" y="3047760"/>
            <a:ext cx="0" cy="99036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114440" y="3048120"/>
            <a:ext cx="289548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114440" y="4038480"/>
            <a:ext cx="289548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14800" y="3048120"/>
            <a:ext cx="0" cy="1066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1828800"/>
            <a:ext cx="129564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129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FC=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572000" y="25909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48520" y="34290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4876920"/>
            <a:ext cx="609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15238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8200" y="63244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29000" y="38862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632448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76720" y="274320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6172200" y="762480"/>
            <a:ext cx="258984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3657600"/>
            <a:ext cx="38124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91120" y="3200400"/>
            <a:ext cx="30456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358128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05520" y="320040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27672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77120" y="312408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373392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1320" y="3657600"/>
            <a:ext cx="3808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10280" y="40384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0" y="3048120"/>
            <a:ext cx="76320" cy="99036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ĐSX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3886200" cy="56386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QĐSX: P = 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 tại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òavốn: MC=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Tiếp tục sx k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P &lt; 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đóng cửa sx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.S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≤ 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91120" y="617220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191120" y="6094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00600" y="3886200"/>
            <a:ext cx="1994040" cy="2095560"/>
          </a:xfrm>
          <a:custGeom>
            <a:avLst/>
            <a:gdLst/>
            <a:ahLst/>
            <a:rect l="l" t="t" r="r" b="b"/>
            <a:pathLst>
              <a:path w="2600" h="3912">
                <a:moveTo>
                  <a:pt x="0" y="3064"/>
                </a:moveTo>
                <a:cubicBezTo>
                  <a:pt x="192" y="3488"/>
                  <a:pt x="384" y="3912"/>
                  <a:pt x="768" y="3496"/>
                </a:cubicBezTo>
                <a:cubicBezTo>
                  <a:pt x="1152" y="3080"/>
                  <a:pt x="2008" y="1136"/>
                  <a:pt x="2304" y="568"/>
                </a:cubicBezTo>
                <a:cubicBezTo>
                  <a:pt x="2600" y="0"/>
                  <a:pt x="2528" y="120"/>
                  <a:pt x="2544" y="88"/>
                </a:cubicBezTo>
                <a:cubicBezTo>
                  <a:pt x="2560" y="56"/>
                  <a:pt x="2480" y="216"/>
                  <a:pt x="2400" y="376"/>
                </a:cubicBezTo>
              </a:path>
            </a:pathLst>
          </a:custGeom>
          <a:noFill/>
          <a:ln w="57240">
            <a:solidFill>
              <a:srgbClr val="0099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53080" y="1523880"/>
            <a:ext cx="2438640" cy="1016280"/>
          </a:xfrm>
          <a:custGeom>
            <a:avLst/>
            <a:gdLst/>
            <a:ahLst/>
            <a:rect l="l" t="t" r="r" b="b"/>
            <a:pathLst>
              <a:path w="1536" h="640">
                <a:moveTo>
                  <a:pt x="0" y="0"/>
                </a:moveTo>
                <a:cubicBezTo>
                  <a:pt x="160" y="304"/>
                  <a:pt x="320" y="608"/>
                  <a:pt x="576" y="624"/>
                </a:cubicBezTo>
                <a:cubicBezTo>
                  <a:pt x="832" y="640"/>
                  <a:pt x="1184" y="368"/>
                  <a:pt x="1536" y="9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2666880"/>
            <a:ext cx="2895840" cy="1346400"/>
          </a:xfrm>
          <a:custGeom>
            <a:avLst/>
            <a:gdLst/>
            <a:ahLst/>
            <a:rect l="l" t="t" r="r" b="b"/>
            <a:pathLst>
              <a:path w="1824" h="848">
                <a:moveTo>
                  <a:pt x="0" y="192"/>
                </a:moveTo>
                <a:cubicBezTo>
                  <a:pt x="160" y="520"/>
                  <a:pt x="320" y="848"/>
                  <a:pt x="624" y="816"/>
                </a:cubicBezTo>
                <a:cubicBezTo>
                  <a:pt x="928" y="784"/>
                  <a:pt x="1376" y="392"/>
                  <a:pt x="1824" y="0"/>
                </a:cubicBezTo>
              </a:path>
            </a:pathLst>
          </a:custGeom>
          <a:noFill/>
          <a:ln w="38160">
            <a:solidFill>
              <a:srgbClr val="43e9e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33920" y="609480"/>
            <a:ext cx="3808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10480" y="6324480"/>
            <a:ext cx="5335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72400" y="3049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05920" y="1295280"/>
            <a:ext cx="5331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29600" y="3276720"/>
            <a:ext cx="6858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05920" y="457200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191120" y="1752480"/>
            <a:ext cx="3657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924680" y="18288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190760" y="251460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67480" y="25146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90760" y="327672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86600" y="327672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190760" y="3962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05720" y="39625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705720" y="456840"/>
            <a:ext cx="1981080" cy="350532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1600200"/>
            <a:ext cx="380880" cy="220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53080" y="6324480"/>
            <a:ext cx="16765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aramond"/>
              </a:rPr>
              <a:t>*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Đường cung của DN CTHH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ong ngắn hạ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DN X§ q*cạnh tranh t­¬ng øng víi sù thay ®æi cña P th«ng qua ®­êng MC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C ®ãng vai trß nh­ ®­êng cung ng¾n h¹n, nh­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khi P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AVCmin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DN chÊm døt S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­êng cung cña DN c¹nh tranh lµ mét phÇn cña ®­êng MC tÝnh tõ ®iÓm AVCmin trë l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P</a:t>
            </a:r>
            <a:r>
              <a:rPr b="0" lang="de-DE" sz="3600" spc="-1" strike="noStrike" baseline="30000">
                <a:solidFill>
                  <a:srgbClr val="000000"/>
                </a:solidFill>
                <a:latin typeface=".VnTime"/>
              </a:rPr>
              <a:t>S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= MC (P&gt; AVC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IN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HÁI NIỆ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0387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ẶNG DƯ TIÊU DÙNG VÀ THẶNG DƯ SẢN XUẤT TRONG NGẮN H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18288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2280" y="1793880"/>
            <a:ext cx="426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ường cầu D phản ánh 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ại miền MU&gt;P người tiêu dùng có lợ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gười tiêu dùng thu được thặng dư tiêu dùng từ tất cả các đơn vị trừ đơn vị cuối cù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ặng dư tiêu dùng là diện tích dưới đường  D, trên mức g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3248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48320" y="1828800"/>
            <a:ext cx="43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ường cung S phản ánh 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ại miền MC&lt;P người sản xuất có lợ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gười sản xuất thu được thặng dư sản xuất từ tất cả các đơn vị trừ đơn vị cuối cù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ặng dư sản xuất là diện tích trên đường cung, dưới mức g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63080" y="4800600"/>
            <a:ext cx="2432520" cy="1831320"/>
            <a:chOff x="163080" y="4800600"/>
            <a:chExt cx="2432520" cy="1831320"/>
          </a:xfrm>
        </p:grpSpPr>
        <p:sp>
          <p:nvSpPr>
            <p:cNvPr id="438" name=""/>
            <p:cNvSpPr/>
            <p:nvPr/>
          </p:nvSpPr>
          <p:spPr>
            <a:xfrm>
              <a:off x="761760" y="50641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1760" y="62071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1760" y="567396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1760" y="5216760"/>
              <a:ext cx="10670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77240" y="57499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=M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3080" y="544536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43720" y="6172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948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61760" y="536904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61760" y="544500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38080" y="559764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38080" y="552132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76680" y="50292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1066680" y="54450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735080" y="4800600"/>
            <a:ext cx="2661840" cy="1907280"/>
            <a:chOff x="4735080" y="4800600"/>
            <a:chExt cx="2661840" cy="1907280"/>
          </a:xfrm>
        </p:grpSpPr>
        <p:sp>
          <p:nvSpPr>
            <p:cNvPr id="453" name=""/>
            <p:cNvSpPr/>
            <p:nvPr/>
          </p:nvSpPr>
          <p:spPr>
            <a:xfrm>
              <a:off x="5181480" y="50641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81480" y="62830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5181480" y="521604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5445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45040" y="491148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=M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35080" y="521640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6600" y="6248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3884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48680" y="56386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10080" y="582588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0960" y="54450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62360" y="54450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33760" y="54450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81480" y="552132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181480" y="5749920"/>
              <a:ext cx="152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2286000" y="4952880"/>
            <a:ext cx="2057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S =(P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.Q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19320" y="571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548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6324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943600" y="6400800"/>
            <a:ext cx="457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5181480"/>
            <a:ext cx="213372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S=(P – C).Q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ẶNG DƯ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ặng dư sx: 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/1đvsp = P – 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/tbộsp(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TR – V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dt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ưới P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sánh PS với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 = TR – 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TR – TC = TR – VC – F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 -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C =&gt;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S – F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" y="43434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51814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0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ÃY TRẢ LỜI CÂU HỎ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Nđóng cửa S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hi PS ≤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/S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380988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0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S và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PS và đóng cửa S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v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= TR – V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; TC = VC +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VC –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PS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S và đóng cửa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= TR – VC = Q(P – AV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ì DN đ/c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R  ≤   VC =&gt; TR – VC ≤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PS  ≤   0 thì DN đ/c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0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1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4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7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0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3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6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9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5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8" dur="5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ường cung ngắn hạn của t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TH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∑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 = 1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95480" y="548640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895480" y="25905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666880" y="988560"/>
            <a:ext cx="1981080" cy="335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18" y="8"/>
                </a:moveTo>
                <a:arcTo wR="10800" hR="10800" stAng="-5266964" swAng="5266964"/>
                <a:lnTo>
                  <a:pt x="10800" y="10800"/>
                </a:lnTo>
                <a:close/>
              </a:path>
              <a:path fill="none" w="21600" h="21600">
                <a:moveTo>
                  <a:pt x="11218" y="8"/>
                </a:moveTo>
                <a:arcTo wR="10800" hR="10800" stAng="-5266964" swAng="5266964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048120" y="761040"/>
            <a:ext cx="19807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4343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48769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95480" y="3124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267440" y="684720"/>
            <a:ext cx="243792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24280" y="4343400"/>
            <a:ext cx="9144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200040" y="3351960"/>
            <a:ext cx="152496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7448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74481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65760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4832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272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48320" y="3124080"/>
            <a:ext cx="0" cy="23623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3124080"/>
            <a:ext cx="0" cy="2362320"/>
          </a:xfrm>
          <a:prstGeom prst="line">
            <a:avLst/>
          </a:prstGeom>
          <a:ln w="93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124080"/>
            <a:ext cx="0" cy="236232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26668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81680" y="25909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02000" y="259092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15200" y="55627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56386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76920" y="5715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56386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62520" y="4952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2320" y="42670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0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uế/đvsp của DN trong ngắn hạn: t/đv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886200" cy="5257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C + t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VC +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VC.Q+t.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VC + t.Q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VC’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C+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VC– t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495680" y="1752120"/>
            <a:ext cx="0" cy="4343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029200" y="1905120"/>
            <a:ext cx="2666880" cy="3695760"/>
          </a:xfrm>
          <a:custGeom>
            <a:avLst/>
            <a:gdLst/>
            <a:ahLst/>
            <a:rect l="l" t="t" r="r" b="b"/>
            <a:pathLst>
              <a:path w="1680" h="2328">
                <a:moveTo>
                  <a:pt x="0" y="1584"/>
                </a:moveTo>
                <a:cubicBezTo>
                  <a:pt x="172" y="1956"/>
                  <a:pt x="344" y="2328"/>
                  <a:pt x="624" y="2064"/>
                </a:cubicBezTo>
                <a:cubicBezTo>
                  <a:pt x="904" y="1800"/>
                  <a:pt x="1292" y="900"/>
                  <a:pt x="1680" y="0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2882880"/>
            <a:ext cx="2743200" cy="927000"/>
          </a:xfrm>
          <a:custGeom>
            <a:avLst/>
            <a:gdLst/>
            <a:ahLst/>
            <a:rect l="l" t="t" r="r" b="b"/>
            <a:pathLst>
              <a:path w="1728" h="584">
                <a:moveTo>
                  <a:pt x="0" y="0"/>
                </a:moveTo>
                <a:cubicBezTo>
                  <a:pt x="264" y="284"/>
                  <a:pt x="528" y="568"/>
                  <a:pt x="816" y="576"/>
                </a:cubicBezTo>
                <a:cubicBezTo>
                  <a:pt x="1104" y="584"/>
                  <a:pt x="1416" y="316"/>
                  <a:pt x="1728" y="48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86400" y="3657600"/>
            <a:ext cx="2895480" cy="762120"/>
          </a:xfrm>
          <a:custGeom>
            <a:avLst/>
            <a:gdLst/>
            <a:ahLst/>
            <a:rect l="l" t="t" r="r" b="b"/>
            <a:pathLst>
              <a:path w="1824" h="480">
                <a:moveTo>
                  <a:pt x="0" y="0"/>
                </a:moveTo>
                <a:cubicBezTo>
                  <a:pt x="280" y="240"/>
                  <a:pt x="560" y="480"/>
                  <a:pt x="864" y="480"/>
                </a:cubicBezTo>
                <a:cubicBezTo>
                  <a:pt x="1168" y="480"/>
                  <a:pt x="1496" y="240"/>
                  <a:pt x="1824" y="0"/>
                </a:cubicBezTo>
              </a:path>
            </a:pathLst>
          </a:custGeom>
          <a:noFill/>
          <a:ln w="5724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2286000"/>
            <a:ext cx="2819160" cy="3720960"/>
          </a:xfrm>
          <a:custGeom>
            <a:avLst/>
            <a:gdLst/>
            <a:ahLst/>
            <a:rect l="l" t="t" r="r" b="b"/>
            <a:pathLst>
              <a:path w="1776" h="2344">
                <a:moveTo>
                  <a:pt x="1776" y="0"/>
                </a:moveTo>
                <a:cubicBezTo>
                  <a:pt x="1556" y="488"/>
                  <a:pt x="1336" y="976"/>
                  <a:pt x="1152" y="1344"/>
                </a:cubicBezTo>
                <a:cubicBezTo>
                  <a:pt x="968" y="1712"/>
                  <a:pt x="864" y="2072"/>
                  <a:pt x="672" y="2208"/>
                </a:cubicBezTo>
                <a:cubicBezTo>
                  <a:pt x="480" y="2344"/>
                  <a:pt x="240" y="2252"/>
                  <a:pt x="0" y="216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38880" y="2971800"/>
            <a:ext cx="76320" cy="312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20120" y="2209680"/>
            <a:ext cx="7596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495680" y="29718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229600" y="3962520"/>
            <a:ext cx="6858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305920" y="259092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VC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077320" y="175248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24480" y="1600200"/>
            <a:ext cx="12956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=MC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38480" y="1447920"/>
            <a:ext cx="304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58200" y="640080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62520" y="2666880"/>
            <a:ext cx="380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495680" y="16002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96080" y="22096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34320" y="380988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0" y="38098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924680" y="2362320"/>
            <a:ext cx="2286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62920" y="6324480"/>
            <a:ext cx="761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0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ế/đvsp của ngành trong ngắn h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15400" cy="579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 –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724280" y="3124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724280" y="5562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32448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428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29400" y="48006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24280" y="5181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24280" y="4800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943600" y="4266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24480" y="4800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91120" y="4572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4114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00800" y="41911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15000" y="5715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3400" y="31240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248520" y="5715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48720" y="5638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781680" y="34290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15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86400" y="365760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029200" y="35053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38680" y="3809520"/>
            <a:ext cx="16765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6629400" y="37339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T: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ính: FC;VC;AVC;AFC;ATC;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=T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C=TC-F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-169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C=FC/Q=169/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C=VC/Q=Q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C=TC/Q=AVC+AFC=Q+1+169/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=TC’=2Q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P=55, tín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TR-TC;TR=P.Q;P=55;P=MC=&gt;55=Q+1=&gt;Q=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=54.54+54+169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TR-TC=&gt;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2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2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2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20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20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200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2000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0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2000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2000"/>
                                        <p:tgtEl>
                                          <p:spTgt spid="5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54" dur="1" fill="hold"/>
                                  <p:tgtEl>
                                    <p:spTgt spid="56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T: CTHH tiế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XĐ P và Q hòa vố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=ATC=&gt;2Q+1=Q+1+169/Q=&gt;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=MC=2Q+1=2.13+1=27=&gt;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hi nào hãng phải đóng cửa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≤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Q=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1=&gt;P≤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30592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T: CTHH tiế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0" y="533520"/>
          <a:ext cx="9144000" cy="124920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838080"/>
                <a:gridCol w="838440"/>
                <a:gridCol w="60948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0" y="1752480"/>
          <a:ext cx="9144000" cy="5105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=TC-F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C=V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CF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C=T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=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C/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 đóng c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=180=&gt;Q.lợi nhu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ỘC QUY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5562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uyên nhân dẫn đến Đ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Đ SX của DNĐQ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y tắc định gí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ức mạnh thị trườ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ổn thất X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ĐQ không có đường c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ính sách phân biệt gi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00800" y="2209680"/>
            <a:ext cx="762120" cy="76212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96" y="432"/>
                </a:moveTo>
                <a:lnTo>
                  <a:pt x="0" y="192"/>
                </a:lnTo>
                <a:lnTo>
                  <a:pt x="48" y="0"/>
                </a:lnTo>
                <a:lnTo>
                  <a:pt x="384" y="192"/>
                </a:lnTo>
                <a:lnTo>
                  <a:pt x="480" y="480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10280" y="2209680"/>
            <a:ext cx="594000" cy="736560"/>
          </a:xfrm>
          <a:custGeom>
            <a:avLst/>
            <a:gdLst/>
            <a:ahLst/>
            <a:rect l="l" t="t" r="r" b="b"/>
            <a:pathLst>
              <a:path w="374" h="464">
                <a:moveTo>
                  <a:pt x="102" y="464"/>
                </a:moveTo>
                <a:cubicBezTo>
                  <a:pt x="42" y="374"/>
                  <a:pt x="77" y="404"/>
                  <a:pt x="12" y="362"/>
                </a:cubicBezTo>
                <a:cubicBezTo>
                  <a:pt x="8" y="349"/>
                  <a:pt x="0" y="323"/>
                  <a:pt x="0" y="323"/>
                </a:cubicBezTo>
                <a:lnTo>
                  <a:pt x="182" y="0"/>
                </a:lnTo>
                <a:lnTo>
                  <a:pt x="374" y="0"/>
                </a:lnTo>
                <a:lnTo>
                  <a:pt x="326" y="288"/>
                </a:lnTo>
                <a:lnTo>
                  <a:pt x="278" y="432"/>
                </a:lnTo>
                <a:lnTo>
                  <a:pt x="102" y="464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2743200"/>
            <a:ext cx="1025640" cy="633240"/>
          </a:xfrm>
          <a:custGeom>
            <a:avLst/>
            <a:gdLst/>
            <a:ahLst/>
            <a:rect l="l" t="t" r="r" b="b"/>
            <a:pathLst>
              <a:path w="646" h="399">
                <a:moveTo>
                  <a:pt x="0" y="169"/>
                </a:moveTo>
                <a:cubicBezTo>
                  <a:pt x="54" y="186"/>
                  <a:pt x="96" y="166"/>
                  <a:pt x="153" y="156"/>
                </a:cubicBezTo>
                <a:cubicBezTo>
                  <a:pt x="205" y="0"/>
                  <a:pt x="152" y="117"/>
                  <a:pt x="537" y="117"/>
                </a:cubicBezTo>
                <a:lnTo>
                  <a:pt x="646" y="207"/>
                </a:lnTo>
                <a:lnTo>
                  <a:pt x="502" y="351"/>
                </a:lnTo>
                <a:lnTo>
                  <a:pt x="310" y="399"/>
                </a:lnTo>
                <a:lnTo>
                  <a:pt x="0" y="169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934320" y="3048120"/>
            <a:ext cx="647640" cy="1179360"/>
          </a:xfrm>
          <a:custGeom>
            <a:avLst/>
            <a:gdLst/>
            <a:ahLst/>
            <a:rect l="l" t="t" r="r" b="b"/>
            <a:pathLst>
              <a:path w="408" h="743">
                <a:moveTo>
                  <a:pt x="342" y="266"/>
                </a:moveTo>
                <a:cubicBezTo>
                  <a:pt x="330" y="532"/>
                  <a:pt x="408" y="486"/>
                  <a:pt x="304" y="534"/>
                </a:cubicBezTo>
                <a:cubicBezTo>
                  <a:pt x="293" y="578"/>
                  <a:pt x="275" y="622"/>
                  <a:pt x="253" y="662"/>
                </a:cubicBezTo>
                <a:cubicBezTo>
                  <a:pt x="208" y="743"/>
                  <a:pt x="232" y="739"/>
                  <a:pt x="189" y="739"/>
                </a:cubicBezTo>
                <a:lnTo>
                  <a:pt x="48" y="576"/>
                </a:lnTo>
                <a:lnTo>
                  <a:pt x="0" y="288"/>
                </a:lnTo>
                <a:lnTo>
                  <a:pt x="48" y="0"/>
                </a:lnTo>
                <a:lnTo>
                  <a:pt x="144" y="144"/>
                </a:lnTo>
                <a:lnTo>
                  <a:pt x="342" y="26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13600" y="2971800"/>
            <a:ext cx="736560" cy="822240"/>
          </a:xfrm>
          <a:custGeom>
            <a:avLst/>
            <a:gdLst/>
            <a:ahLst/>
            <a:rect l="l" t="t" r="r" b="b"/>
            <a:pathLst>
              <a:path w="464" h="518">
                <a:moveTo>
                  <a:pt x="464" y="390"/>
                </a:moveTo>
                <a:cubicBezTo>
                  <a:pt x="447" y="407"/>
                  <a:pt x="432" y="428"/>
                  <a:pt x="412" y="442"/>
                </a:cubicBezTo>
                <a:cubicBezTo>
                  <a:pt x="401" y="450"/>
                  <a:pt x="384" y="446"/>
                  <a:pt x="374" y="454"/>
                </a:cubicBezTo>
                <a:cubicBezTo>
                  <a:pt x="362" y="464"/>
                  <a:pt x="363" y="488"/>
                  <a:pt x="348" y="493"/>
                </a:cubicBezTo>
                <a:cubicBezTo>
                  <a:pt x="319" y="503"/>
                  <a:pt x="160" y="518"/>
                  <a:pt x="118" y="518"/>
                </a:cubicBezTo>
                <a:cubicBezTo>
                  <a:pt x="83" y="456"/>
                  <a:pt x="0" y="362"/>
                  <a:pt x="105" y="326"/>
                </a:cubicBezTo>
                <a:cubicBezTo>
                  <a:pt x="128" y="292"/>
                  <a:pt x="139" y="261"/>
                  <a:pt x="156" y="224"/>
                </a:cubicBezTo>
                <a:lnTo>
                  <a:pt x="454" y="0"/>
                </a:lnTo>
                <a:lnTo>
                  <a:pt x="464" y="39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3048120"/>
            <a:ext cx="762120" cy="304560"/>
          </a:xfrm>
          <a:custGeom>
            <a:avLst/>
            <a:gdLst/>
            <a:ahLst/>
            <a:rect l="l" t="t" r="r" b="b"/>
            <a:pathLst>
              <a:path w="480" h="192">
                <a:moveTo>
                  <a:pt x="288" y="192"/>
                </a:moveTo>
                <a:lnTo>
                  <a:pt x="48" y="96"/>
                </a:lnTo>
                <a:lnTo>
                  <a:pt x="0" y="0"/>
                </a:lnTo>
                <a:cubicBezTo>
                  <a:pt x="146" y="0"/>
                  <a:pt x="292" y="0"/>
                  <a:pt x="438" y="0"/>
                </a:cubicBezTo>
                <a:lnTo>
                  <a:pt x="480" y="96"/>
                </a:lnTo>
                <a:lnTo>
                  <a:pt x="288" y="192"/>
                </a:lnTo>
                <a:close/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819520"/>
            <a:ext cx="977760" cy="380880"/>
          </a:xfrm>
          <a:custGeom>
            <a:avLst/>
            <a:gdLst/>
            <a:ahLst/>
            <a:rect l="l" t="t" r="r" b="b"/>
            <a:pathLst>
              <a:path w="616" h="240">
                <a:moveTo>
                  <a:pt x="422" y="240"/>
                </a:moveTo>
                <a:cubicBezTo>
                  <a:pt x="467" y="194"/>
                  <a:pt x="477" y="197"/>
                  <a:pt x="534" y="177"/>
                </a:cubicBezTo>
                <a:cubicBezTo>
                  <a:pt x="616" y="97"/>
                  <a:pt x="558" y="175"/>
                  <a:pt x="522" y="127"/>
                </a:cubicBezTo>
                <a:cubicBezTo>
                  <a:pt x="514" y="117"/>
                  <a:pt x="530" y="102"/>
                  <a:pt x="534" y="90"/>
                </a:cubicBezTo>
                <a:cubicBezTo>
                  <a:pt x="496" y="77"/>
                  <a:pt x="462" y="44"/>
                  <a:pt x="422" y="40"/>
                </a:cubicBezTo>
                <a:cubicBezTo>
                  <a:pt x="397" y="37"/>
                  <a:pt x="371" y="40"/>
                  <a:pt x="346" y="40"/>
                </a:cubicBezTo>
                <a:lnTo>
                  <a:pt x="192" y="0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08840" y="2806560"/>
            <a:ext cx="533160" cy="266760"/>
          </a:xfrm>
          <a:custGeom>
            <a:avLst/>
            <a:gdLst/>
            <a:ahLst/>
            <a:rect l="l" t="t" r="r" b="b"/>
            <a:pathLst>
              <a:path w="336" h="168">
                <a:moveTo>
                  <a:pt x="88" y="8"/>
                </a:moveTo>
                <a:cubicBezTo>
                  <a:pt x="40" y="0"/>
                  <a:pt x="0" y="80"/>
                  <a:pt x="40" y="104"/>
                </a:cubicBezTo>
                <a:cubicBezTo>
                  <a:pt x="80" y="128"/>
                  <a:pt x="320" y="168"/>
                  <a:pt x="328" y="152"/>
                </a:cubicBezTo>
                <a:cubicBezTo>
                  <a:pt x="336" y="136"/>
                  <a:pt x="136" y="16"/>
                  <a:pt x="88" y="8"/>
                </a:cubicBezTo>
                <a:close/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37200" y="2971800"/>
            <a:ext cx="517680" cy="219240"/>
          </a:xfrm>
          <a:custGeom>
            <a:avLst/>
            <a:gdLst/>
            <a:ahLst/>
            <a:rect l="l" t="t" r="r" b="b"/>
            <a:pathLst>
              <a:path w="326" h="215">
                <a:moveTo>
                  <a:pt x="0" y="213"/>
                </a:moveTo>
                <a:cubicBezTo>
                  <a:pt x="100" y="209"/>
                  <a:pt x="202" y="215"/>
                  <a:pt x="301" y="200"/>
                </a:cubicBezTo>
                <a:cubicBezTo>
                  <a:pt x="316" y="198"/>
                  <a:pt x="326" y="178"/>
                  <a:pt x="326" y="163"/>
                </a:cubicBezTo>
                <a:cubicBezTo>
                  <a:pt x="326" y="92"/>
                  <a:pt x="306" y="91"/>
                  <a:pt x="263" y="62"/>
                </a:cubicBezTo>
                <a:cubicBezTo>
                  <a:pt x="248" y="16"/>
                  <a:pt x="257" y="37"/>
                  <a:pt x="238" y="0"/>
                </a:cubicBezTo>
              </a:path>
            </a:pathLst>
          </a:custGeom>
          <a:solidFill>
            <a:srgbClr val="0099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124760" y="3124080"/>
            <a:ext cx="1231920" cy="3416400"/>
          </a:xfrm>
          <a:custGeom>
            <a:avLst/>
            <a:gdLst/>
            <a:ahLst/>
            <a:rect l="l" t="t" r="r" b="b"/>
            <a:pathLst>
              <a:path w="776" h="2152">
                <a:moveTo>
                  <a:pt x="24" y="48"/>
                </a:moveTo>
                <a:cubicBezTo>
                  <a:pt x="48" y="96"/>
                  <a:pt x="296" y="264"/>
                  <a:pt x="360" y="384"/>
                </a:cubicBezTo>
                <a:cubicBezTo>
                  <a:pt x="424" y="504"/>
                  <a:pt x="376" y="568"/>
                  <a:pt x="408" y="768"/>
                </a:cubicBezTo>
                <a:cubicBezTo>
                  <a:pt x="440" y="968"/>
                  <a:pt x="528" y="1368"/>
                  <a:pt x="552" y="1584"/>
                </a:cubicBezTo>
                <a:cubicBezTo>
                  <a:pt x="576" y="1800"/>
                  <a:pt x="536" y="1976"/>
                  <a:pt x="552" y="2064"/>
                </a:cubicBezTo>
                <a:cubicBezTo>
                  <a:pt x="568" y="2152"/>
                  <a:pt x="632" y="2144"/>
                  <a:pt x="648" y="2112"/>
                </a:cubicBezTo>
                <a:cubicBezTo>
                  <a:pt x="664" y="2080"/>
                  <a:pt x="648" y="1952"/>
                  <a:pt x="648" y="1872"/>
                </a:cubicBezTo>
                <a:cubicBezTo>
                  <a:pt x="648" y="1792"/>
                  <a:pt x="656" y="1728"/>
                  <a:pt x="648" y="1632"/>
                </a:cubicBezTo>
                <a:cubicBezTo>
                  <a:pt x="640" y="1536"/>
                  <a:pt x="616" y="1384"/>
                  <a:pt x="600" y="1296"/>
                </a:cubicBezTo>
                <a:cubicBezTo>
                  <a:pt x="584" y="1208"/>
                  <a:pt x="568" y="1160"/>
                  <a:pt x="552" y="1104"/>
                </a:cubicBezTo>
                <a:cubicBezTo>
                  <a:pt x="536" y="1048"/>
                  <a:pt x="472" y="1024"/>
                  <a:pt x="504" y="960"/>
                </a:cubicBezTo>
                <a:cubicBezTo>
                  <a:pt x="536" y="896"/>
                  <a:pt x="712" y="784"/>
                  <a:pt x="744" y="720"/>
                </a:cubicBezTo>
                <a:cubicBezTo>
                  <a:pt x="776" y="656"/>
                  <a:pt x="720" y="560"/>
                  <a:pt x="696" y="576"/>
                </a:cubicBezTo>
                <a:cubicBezTo>
                  <a:pt x="672" y="592"/>
                  <a:pt x="632" y="768"/>
                  <a:pt x="600" y="816"/>
                </a:cubicBezTo>
                <a:cubicBezTo>
                  <a:pt x="568" y="864"/>
                  <a:pt x="528" y="912"/>
                  <a:pt x="504" y="864"/>
                </a:cubicBezTo>
                <a:cubicBezTo>
                  <a:pt x="480" y="816"/>
                  <a:pt x="480" y="632"/>
                  <a:pt x="456" y="528"/>
                </a:cubicBezTo>
                <a:cubicBezTo>
                  <a:pt x="432" y="424"/>
                  <a:pt x="400" y="312"/>
                  <a:pt x="360" y="240"/>
                </a:cubicBezTo>
                <a:cubicBezTo>
                  <a:pt x="320" y="168"/>
                  <a:pt x="264" y="128"/>
                  <a:pt x="216" y="96"/>
                </a:cubicBezTo>
                <a:cubicBezTo>
                  <a:pt x="168" y="64"/>
                  <a:pt x="0" y="0"/>
                  <a:pt x="24" y="48"/>
                </a:cubicBezTo>
                <a:close/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9400" y="4267080"/>
            <a:ext cx="2577960" cy="2413080"/>
          </a:xfrm>
          <a:custGeom>
            <a:avLst/>
            <a:gdLst/>
            <a:ahLst/>
            <a:rect l="l" t="t" r="r" b="b"/>
            <a:pathLst>
              <a:path w="1624" h="1520">
                <a:moveTo>
                  <a:pt x="0" y="96"/>
                </a:moveTo>
                <a:cubicBezTo>
                  <a:pt x="96" y="100"/>
                  <a:pt x="192" y="104"/>
                  <a:pt x="336" y="192"/>
                </a:cubicBezTo>
                <a:cubicBezTo>
                  <a:pt x="480" y="280"/>
                  <a:pt x="728" y="480"/>
                  <a:pt x="864" y="624"/>
                </a:cubicBezTo>
                <a:cubicBezTo>
                  <a:pt x="1000" y="768"/>
                  <a:pt x="1104" y="944"/>
                  <a:pt x="1152" y="1056"/>
                </a:cubicBezTo>
                <a:cubicBezTo>
                  <a:pt x="1200" y="1168"/>
                  <a:pt x="1168" y="1224"/>
                  <a:pt x="1152" y="1296"/>
                </a:cubicBezTo>
                <a:cubicBezTo>
                  <a:pt x="1136" y="1368"/>
                  <a:pt x="1128" y="1456"/>
                  <a:pt x="1056" y="1488"/>
                </a:cubicBezTo>
                <a:cubicBezTo>
                  <a:pt x="984" y="1520"/>
                  <a:pt x="840" y="1520"/>
                  <a:pt x="720" y="1488"/>
                </a:cubicBezTo>
                <a:cubicBezTo>
                  <a:pt x="600" y="1456"/>
                  <a:pt x="344" y="1472"/>
                  <a:pt x="336" y="1296"/>
                </a:cubicBezTo>
                <a:cubicBezTo>
                  <a:pt x="328" y="1120"/>
                  <a:pt x="480" y="600"/>
                  <a:pt x="672" y="432"/>
                </a:cubicBezTo>
                <a:cubicBezTo>
                  <a:pt x="864" y="264"/>
                  <a:pt x="1352" y="264"/>
                  <a:pt x="1488" y="288"/>
                </a:cubicBezTo>
                <a:cubicBezTo>
                  <a:pt x="1624" y="312"/>
                  <a:pt x="1528" y="544"/>
                  <a:pt x="1488" y="576"/>
                </a:cubicBezTo>
                <a:cubicBezTo>
                  <a:pt x="1448" y="608"/>
                  <a:pt x="1256" y="576"/>
                  <a:pt x="1248" y="480"/>
                </a:cubicBezTo>
                <a:cubicBezTo>
                  <a:pt x="1240" y="384"/>
                  <a:pt x="1340" y="192"/>
                  <a:pt x="144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29400" y="4051440"/>
            <a:ext cx="2438280" cy="2819160"/>
          </a:xfrm>
          <a:custGeom>
            <a:avLst/>
            <a:gdLst/>
            <a:ahLst/>
            <a:rect l="l" t="t" r="r" b="b"/>
            <a:pathLst>
              <a:path w="1536" h="1776">
                <a:moveTo>
                  <a:pt x="0" y="232"/>
                </a:moveTo>
                <a:cubicBezTo>
                  <a:pt x="52" y="116"/>
                  <a:pt x="104" y="0"/>
                  <a:pt x="288" y="136"/>
                </a:cubicBezTo>
                <a:cubicBezTo>
                  <a:pt x="472" y="272"/>
                  <a:pt x="1016" y="800"/>
                  <a:pt x="1104" y="1048"/>
                </a:cubicBezTo>
                <a:cubicBezTo>
                  <a:pt x="1192" y="1296"/>
                  <a:pt x="936" y="1608"/>
                  <a:pt x="816" y="1624"/>
                </a:cubicBezTo>
                <a:cubicBezTo>
                  <a:pt x="696" y="1640"/>
                  <a:pt x="392" y="1336"/>
                  <a:pt x="384" y="1144"/>
                </a:cubicBezTo>
                <a:cubicBezTo>
                  <a:pt x="376" y="952"/>
                  <a:pt x="592" y="632"/>
                  <a:pt x="768" y="472"/>
                </a:cubicBezTo>
                <a:cubicBezTo>
                  <a:pt x="944" y="312"/>
                  <a:pt x="1344" y="176"/>
                  <a:pt x="1440" y="184"/>
                </a:cubicBezTo>
                <a:cubicBezTo>
                  <a:pt x="1536" y="192"/>
                  <a:pt x="1344" y="432"/>
                  <a:pt x="1344" y="520"/>
                </a:cubicBezTo>
                <a:cubicBezTo>
                  <a:pt x="1344" y="608"/>
                  <a:pt x="1416" y="712"/>
                  <a:pt x="1440" y="712"/>
                </a:cubicBezTo>
                <a:cubicBezTo>
                  <a:pt x="1464" y="712"/>
                  <a:pt x="1496" y="568"/>
                  <a:pt x="1488" y="520"/>
                </a:cubicBezTo>
                <a:cubicBezTo>
                  <a:pt x="1480" y="472"/>
                  <a:pt x="1432" y="464"/>
                  <a:pt x="1392" y="424"/>
                </a:cubicBezTo>
                <a:cubicBezTo>
                  <a:pt x="1352" y="384"/>
                  <a:pt x="1336" y="272"/>
                  <a:pt x="1248" y="280"/>
                </a:cubicBezTo>
                <a:cubicBezTo>
                  <a:pt x="1160" y="288"/>
                  <a:pt x="976" y="344"/>
                  <a:pt x="864" y="472"/>
                </a:cubicBezTo>
                <a:cubicBezTo>
                  <a:pt x="752" y="600"/>
                  <a:pt x="592" y="848"/>
                  <a:pt x="576" y="1048"/>
                </a:cubicBezTo>
                <a:cubicBezTo>
                  <a:pt x="560" y="1248"/>
                  <a:pt x="648" y="1568"/>
                  <a:pt x="768" y="1672"/>
                </a:cubicBezTo>
                <a:cubicBezTo>
                  <a:pt x="888" y="1776"/>
                  <a:pt x="1208" y="1712"/>
                  <a:pt x="1296" y="1672"/>
                </a:cubicBezTo>
                <a:cubicBezTo>
                  <a:pt x="1384" y="1632"/>
                  <a:pt x="1288" y="1544"/>
                  <a:pt x="1296" y="1432"/>
                </a:cubicBezTo>
                <a:cubicBezTo>
                  <a:pt x="1304" y="1320"/>
                  <a:pt x="1376" y="1120"/>
                  <a:pt x="1344" y="1000"/>
                </a:cubicBezTo>
                <a:cubicBezTo>
                  <a:pt x="1312" y="880"/>
                  <a:pt x="1184" y="792"/>
                  <a:pt x="1104" y="712"/>
                </a:cubicBezTo>
                <a:cubicBezTo>
                  <a:pt x="1024" y="632"/>
                  <a:pt x="904" y="552"/>
                  <a:pt x="864" y="520"/>
                </a:cubicBezTo>
              </a:path>
            </a:pathLst>
          </a:custGeom>
          <a:solidFill>
            <a:srgbClr val="66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324480" y="4800600"/>
            <a:ext cx="457200" cy="762120"/>
          </a:xfrm>
          <a:custGeom>
            <a:avLst/>
            <a:gdLst/>
            <a:ahLst/>
            <a:rect l="l" t="t" r="r" b="b"/>
            <a:pathLst>
              <a:path w="288" h="480">
                <a:moveTo>
                  <a:pt x="96" y="480"/>
                </a:moveTo>
                <a:lnTo>
                  <a:pt x="0" y="288"/>
                </a:lnTo>
                <a:lnTo>
                  <a:pt x="96" y="48"/>
                </a:lnTo>
                <a:lnTo>
                  <a:pt x="240" y="0"/>
                </a:lnTo>
                <a:lnTo>
                  <a:pt x="240" y="96"/>
                </a:lnTo>
                <a:lnTo>
                  <a:pt x="288" y="288"/>
                </a:lnTo>
                <a:lnTo>
                  <a:pt x="192" y="384"/>
                </a:lnTo>
                <a:lnTo>
                  <a:pt x="192" y="480"/>
                </a:lnTo>
                <a:lnTo>
                  <a:pt x="96" y="48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62680" y="5791320"/>
            <a:ext cx="1200240" cy="990360"/>
          </a:xfrm>
          <a:custGeom>
            <a:avLst/>
            <a:gdLst>
              <a:gd name="textAreaLeft" fmla="*/ 281880 w 1200240"/>
              <a:gd name="textAreaRight" fmla="*/ 917280 w 1200240"/>
              <a:gd name="textAreaTop" fmla="*/ 116280 h 990360"/>
              <a:gd name="textAreaBottom" fmla="*/ 621360 h 99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00720" y="5881680"/>
            <a:ext cx="434880" cy="595440"/>
          </a:xfrm>
          <a:custGeom>
            <a:avLst/>
            <a:gdLst/>
            <a:ahLst/>
            <a:rect l="l" t="t" r="r" b="b"/>
            <a:pathLst>
              <a:path w="274" h="375">
                <a:moveTo>
                  <a:pt x="176" y="1"/>
                </a:moveTo>
                <a:cubicBezTo>
                  <a:pt x="44" y="45"/>
                  <a:pt x="140" y="0"/>
                  <a:pt x="76" y="52"/>
                </a:cubicBezTo>
                <a:cubicBezTo>
                  <a:pt x="64" y="62"/>
                  <a:pt x="52" y="70"/>
                  <a:pt x="38" y="77"/>
                </a:cubicBezTo>
                <a:cubicBezTo>
                  <a:pt x="26" y="83"/>
                  <a:pt x="0" y="89"/>
                  <a:pt x="0" y="89"/>
                </a:cubicBezTo>
                <a:cubicBezTo>
                  <a:pt x="8" y="102"/>
                  <a:pt x="11" y="121"/>
                  <a:pt x="25" y="127"/>
                </a:cubicBezTo>
                <a:cubicBezTo>
                  <a:pt x="57" y="140"/>
                  <a:pt x="93" y="133"/>
                  <a:pt x="126" y="139"/>
                </a:cubicBezTo>
                <a:cubicBezTo>
                  <a:pt x="167" y="146"/>
                  <a:pt x="163" y="141"/>
                  <a:pt x="163" y="164"/>
                </a:cubicBezTo>
                <a:lnTo>
                  <a:pt x="159" y="375"/>
                </a:lnTo>
                <a:cubicBezTo>
                  <a:pt x="191" y="311"/>
                  <a:pt x="226" y="248"/>
                  <a:pt x="255" y="183"/>
                </a:cubicBezTo>
                <a:cubicBezTo>
                  <a:pt x="264" y="163"/>
                  <a:pt x="274" y="102"/>
                  <a:pt x="238" y="102"/>
                </a:cubicBezTo>
                <a:lnTo>
                  <a:pt x="176" y="1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fill="hold">
                      <p:stCondLst>
                        <p:cond delay="0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5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0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0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5" dur="500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HÁI NIỆM VÀ PHÂN LOẠ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 Độc quyền là DN đảm nhận hoặc toà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ộ việc mua, hoặc toàn bộ việc bán m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ại hàng hóa nào đó trên thị trường v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ông có hàng hóa thay thế gần g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mua: đảm nhận toàn bộ việc m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bán: đảm nhận toàn bộ việc b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song phương: (1M) X (1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0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1120" y="279360"/>
            <a:ext cx="751680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NGUYÊN NHÂN DẪN ĐẾN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380880" y="1447920"/>
          <a:ext cx="86108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6108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guyên nhân dẫn đến Đ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nh KT theo qm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ằng phát minh sáng ch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ểm soát được các ytố đvà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ợi thế tự nhiê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y định của nhà nướ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fill="hold">
                      <p:stCondLst>
                        <p:cond delay="0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5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0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5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ủa thị trường Đ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 có SP thay thế gần gũ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ào cản rất c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nghiêng xuống về phía phả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 &gt; MC (ấn định 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 &lt; D trừ điểm đầu t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aQ + b =&gt; MR = 2aQ +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0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Ấn định giá (P &gt; MC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ãng có sức mạnh thị trường lớ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Là người ấn định giá (P &gt; M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: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ại MR = M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=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(P.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+ Q.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)/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P(1 + 1/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&lt; 0 =&gt; 1/E &lt;0 =&gt; (1 + 1/E)&lt;1 =&gt; P(1 + 1/E) &lt; 1.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&lt; P =&gt; P &gt; 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0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VÀ DOANH THU B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của nhà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ính là đường cầu của thị trườ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ốc xuống dưới về phía phả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anh thu biên luôn nằm dướ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trừ điểm đầu t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anh thu biên có độ dốc lớn gấ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ần đường cầ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0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ĐỒ THỊ ĐƯỜNG D VÀ DOANH THU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aQ+b,TR=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Q=a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Q=&gt;MR=TR’=2aQ+b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10080" y="25290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27960" y="35956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95960" y="36576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3828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09880" y="5638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828800" y="3124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4800600" y="396216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285640" y="3962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0" y="3962520"/>
            <a:ext cx="2514600" cy="1600200"/>
          </a:xfrm>
          <a:custGeom>
            <a:avLst/>
            <a:gdLst/>
            <a:ahLst/>
            <a:rect l="l" t="t" r="r" b="b"/>
            <a:pathLst>
              <a:path w="1584" h="1008">
                <a:moveTo>
                  <a:pt x="0" y="1008"/>
                </a:moveTo>
                <a:lnTo>
                  <a:pt x="0" y="0"/>
                </a:lnTo>
                <a:lnTo>
                  <a:pt x="1584" y="0"/>
                </a:lnTo>
                <a:lnTo>
                  <a:pt x="158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cc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34290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1599840" y="4114440"/>
            <a:ext cx="10666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0" y="563868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09960" y="2971800"/>
            <a:ext cx="2552760" cy="2324160"/>
          </a:xfrm>
          <a:custGeom>
            <a:avLst/>
            <a:gdLst/>
            <a:ahLst/>
            <a:rect l="l" t="t" r="r" b="b"/>
            <a:pathLst>
              <a:path w="1608" h="1464">
                <a:moveTo>
                  <a:pt x="24" y="1008"/>
                </a:moveTo>
                <a:cubicBezTo>
                  <a:pt x="12" y="1236"/>
                  <a:pt x="0" y="1464"/>
                  <a:pt x="264" y="1296"/>
                </a:cubicBezTo>
                <a:cubicBezTo>
                  <a:pt x="528" y="1128"/>
                  <a:pt x="1068" y="564"/>
                  <a:pt x="160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5" dur="indefinite" restart="never" nodeType="tmRoot">
          <p:childTnLst>
            <p:seq>
              <p:cTn id="1936" dur="indefinite" nodeType="mainSeq">
                <p:childTnLst>
                  <p:par>
                    <p:cTn id="1937" fill="hold">
                      <p:stCondLst>
                        <p:cond delay="0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ác tiêu thức phân loạ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ố lượng người bán và mu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ính chất của sản phẩ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ông tin K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ào cả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ình thức cạnh tranh phi gi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8040" y="76320"/>
            <a:ext cx="79581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Đ SX của ĐN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0880" y="6397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&gt; MC; (Q) = (MR) X(MC),(P) = (Q) X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= Q(P-ATC)&gt;0 KHI P &gt;A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03440" y="275760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29000" y="266688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200400" y="2362320"/>
            <a:ext cx="2286000" cy="313668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19720" y="426708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30760" y="47386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286000" y="4038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222264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600200" y="32004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0" y="3429000"/>
            <a:ext cx="1676520" cy="609480"/>
          </a:xfrm>
          <a:custGeom>
            <a:avLst/>
            <a:gdLst/>
            <a:ahLst/>
            <a:rect l="l" t="t" r="r" b="b"/>
            <a:pathLst>
              <a:path w="1056" h="384">
                <a:moveTo>
                  <a:pt x="768" y="0"/>
                </a:moveTo>
                <a:lnTo>
                  <a:pt x="0" y="0"/>
                </a:lnTo>
                <a:lnTo>
                  <a:pt x="0" y="384"/>
                </a:lnTo>
                <a:lnTo>
                  <a:pt x="1056" y="384"/>
                </a:lnTo>
                <a:lnTo>
                  <a:pt x="768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581280" y="3429000"/>
            <a:ext cx="457200" cy="533520"/>
          </a:xfrm>
          <a:custGeom>
            <a:avLst/>
            <a:gdLst/>
            <a:ahLst/>
            <a:rect l="l" t="t" r="r" b="b"/>
            <a:pathLst>
              <a:path w="288" h="336">
                <a:moveTo>
                  <a:pt x="0" y="0"/>
                </a:moveTo>
                <a:lnTo>
                  <a:pt x="288" y="0"/>
                </a:lnTo>
                <a:lnTo>
                  <a:pt x="288" y="336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2895480" y="259056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4038480"/>
            <a:ext cx="152640" cy="152640"/>
          </a:xfrm>
          <a:prstGeom prst="flowChartConnector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286000" y="45720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76520" y="4495680"/>
            <a:ext cx="457200" cy="5335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5" dur="indefinite" restart="never" nodeType="tmRoot">
          <p:childTnLst>
            <p:seq>
              <p:cTn id="1966" dur="indefinite" nodeType="mainSeq">
                <p:childTnLst>
                  <p:par>
                    <p:cTn id="1967" fill="hold">
                      <p:stCondLst>
                        <p:cond delay="0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0760" y="274320"/>
            <a:ext cx="78850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ưu ý: khi P = ATC =&gt;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&gt;MC; (P) = (Q)  X 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03440" y="220968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05320" y="205740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52680" y="2209680"/>
            <a:ext cx="1828800" cy="328932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48320" y="35812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86160" y="36576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352680" y="222264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447920" y="31240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,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495680" y="3352680"/>
            <a:ext cx="152640" cy="22860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0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0760" y="274680"/>
            <a:ext cx="78850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ưu ý: khi P &lt; ATC =&gt;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lt;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48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&gt;MC; (P) = (Q) X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03440" y="236232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86200" y="182880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200400" y="2362320"/>
            <a:ext cx="2286000" cy="313668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029200" y="34290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414760" y="35053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38480" y="2666880"/>
            <a:ext cx="76320" cy="289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28600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352680" y="19051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00200" y="32004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00200" y="25146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00600" y="3200400"/>
            <a:ext cx="152280" cy="15228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86000" y="2666880"/>
            <a:ext cx="1752480" cy="762120"/>
          </a:xfrm>
          <a:custGeom>
            <a:avLst/>
            <a:gdLst/>
            <a:ahLst/>
            <a:rect l="l" t="t" r="r" b="b"/>
            <a:pathLst>
              <a:path w="1104" h="480">
                <a:moveTo>
                  <a:pt x="0" y="0"/>
                </a:moveTo>
                <a:lnTo>
                  <a:pt x="0" y="480"/>
                </a:lnTo>
                <a:lnTo>
                  <a:pt x="1104" y="480"/>
                </a:lnTo>
                <a:lnTo>
                  <a:pt x="110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0" y="2209680"/>
            <a:ext cx="2438280" cy="33530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0" y="2209680"/>
            <a:ext cx="4876920" cy="33530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3581280" y="2209680"/>
            <a:ext cx="0" cy="6098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0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Đ P bán, L, DWL và của nhà 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0" y="149364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 =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 /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 = P(1 + 1/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để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ì MR = MC =&gt; P = MC/(1 + 1/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ức mạnh thị trường: L (Lern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 = (P – MC)/P = - 1/E, (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ừ P = MC/(1 + 1/E) =&gt; (P – MC)/P = - 1/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ổn thất XH: DWL = (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Q*)(P* - MC)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 MC =&gt; 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; Q* =&gt; M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T4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25" dur="indefinite" restart="never" nodeType="tmRoot">
          <p:childTnLst>
            <p:seq>
              <p:cTn id="2026" dur="indefinite" nodeType="mainSeq">
                <p:childTnLst>
                  <p:par>
                    <p:cTn id="2027" fill="hold">
                      <p:stCondLst>
                        <p:cond delay="0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5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0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0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5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0" dur="50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5" dur="500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0" dur="500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0760" y="274320"/>
            <a:ext cx="78850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ỔN THẤT XÃ HỘI: D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523880" y="43578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2209680"/>
            <a:ext cx="1828800" cy="328932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67280" y="3505320"/>
            <a:ext cx="3202200" cy="405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WL=(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C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–Q*)(P*-MC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23623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31240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038480" y="3429000"/>
            <a:ext cx="381240" cy="1066680"/>
          </a:xfrm>
          <a:custGeom>
            <a:avLst/>
            <a:gdLst/>
            <a:ahLst/>
            <a:rect l="l" t="t" r="r" b="b"/>
            <a:pathLst>
              <a:path w="240" h="672">
                <a:moveTo>
                  <a:pt x="0" y="672"/>
                </a:moveTo>
                <a:lnTo>
                  <a:pt x="0" y="0"/>
                </a:lnTo>
                <a:lnTo>
                  <a:pt x="240" y="192"/>
                </a:lnTo>
                <a:lnTo>
                  <a:pt x="0" y="672"/>
                </a:lnTo>
                <a:close/>
              </a:path>
            </a:pathLst>
          </a:custGeom>
          <a:solidFill>
            <a:srgbClr val="cc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191120" y="2819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286000" y="45720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495680" y="37339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343400" y="5638680"/>
            <a:ext cx="609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0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0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Q bán không có đường c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)=(MR)X(MC), (P)=(Q)X(D)=&gt;Không có qhệ 1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thay đổi =&gt; Q = const; P = const =&gt; Q thay đổ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1430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43000" y="5562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4724280" y="2590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4280" y="5562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09680" y="4267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24280" y="3505320"/>
            <a:ext cx="1143000" cy="1904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209680" y="38858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419112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35812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5800" y="26668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5760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43000" y="4267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43000" y="3276720"/>
            <a:ext cx="2743200" cy="1752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410080" y="3809880"/>
            <a:ext cx="1981440" cy="144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 flipV="1">
            <a:off x="5562360" y="419112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943600" y="4191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14800" y="4572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038480" y="39625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666880" y="3276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81680" y="4267080"/>
            <a:ext cx="152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81680" y="3429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410080" y="5715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43400" y="251460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5942880" y="57150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848720" y="5638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3429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019920" y="518148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4114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724280" y="3505320"/>
            <a:ext cx="2057400" cy="1676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3276720"/>
            <a:ext cx="1447920" cy="213336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81480" y="3733920"/>
            <a:ext cx="1143000" cy="152388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048480" y="1522800"/>
            <a:ext cx="365688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-684720" y="913680"/>
            <a:ext cx="380880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71600" y="4038480"/>
            <a:ext cx="228600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295280" y="4267080"/>
            <a:ext cx="1447920" cy="990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114264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2057400" y="57150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00600" y="4343400"/>
            <a:ext cx="533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76520" y="320040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90920" y="4800600"/>
            <a:ext cx="533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429000" y="41148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4648320"/>
            <a:ext cx="457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133720" y="4876920"/>
            <a:ext cx="152280" cy="7596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133720" y="4191120"/>
            <a:ext cx="7596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867280" y="4724280"/>
            <a:ext cx="76320" cy="15264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943600" y="4114800"/>
            <a:ext cx="7632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181" dur="indefinite" restart="never" nodeType="tmRoot">
          <p:childTnLst>
            <p:seq>
              <p:cTn id="2182" dur="indefinite" nodeType="mainSeq">
                <p:childTnLst>
                  <p:par>
                    <p:cTn id="2183" fill="hold">
                      <p:stCondLst>
                        <p:cond delay="0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0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9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3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0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3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uế đánh vào từng đvsp đvới DNĐ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10666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C + t, do AV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AVC + t ;MR = 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TR  – TC – t .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172200" y="36720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005520" y="3214800"/>
            <a:ext cx="144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=MC 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659400" y="5653080"/>
            <a:ext cx="4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14800" y="34290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228564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52480" y="48006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600200" y="3352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676520" y="2895480"/>
            <a:ext cx="533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09880" y="3200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286000" y="3886200"/>
            <a:ext cx="396252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286000" y="3429000"/>
            <a:ext cx="3733920" cy="1295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33720" y="4724280"/>
            <a:ext cx="75960" cy="533520"/>
          </a:xfrm>
          <a:custGeom>
            <a:avLst/>
            <a:gdLst>
              <a:gd name="textAreaLeft" fmla="*/ 48600 w 75960"/>
              <a:gd name="textAreaRight" fmla="*/ 7632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385" dur="indefinite" restart="never" nodeType="tmRoot">
          <p:childTnLst>
            <p:seq>
              <p:cTn id="2386" dur="indefinite" nodeType="mainSeq">
                <p:childTnLst>
                  <p:par>
                    <p:cTn id="2387" fill="hold">
                      <p:stCondLst>
                        <p:cond delay="0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9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Ị TRƯỜ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ẠNH TRANH KHÔNG HOÀNH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80880" y="31240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ạnh tranh độc quyề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ộc quyền tập đoà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05" dur="indefinite" restart="never" nodeType="tmRoot">
          <p:childTnLst>
            <p:seq>
              <p:cTn id="2406" dur="indefinite" nodeType="mainSeq">
                <p:childTnLst>
                  <p:par>
                    <p:cTn id="2407" fill="hold">
                      <p:stCondLst>
                        <p:cond delay="0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7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ị trường cạnh tranh độc quy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: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Thị trường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CT§Q lµ t2 trong ®ã c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nhiÒu DNb¸n nh÷ng sp cã thÓ thay thÕ gÇ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gòi, nh­ng kh«ng ph¶i lµ hoµn h¶o vµ ®­î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ph©n biÖt b»ng sù dÞ biÖt ho¸ sp, mçi 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hØ cã kh¶ n¨ng kiÓm so¸t ®­îc gi¸ c¶, 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ña DN m×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VD: ®å uèng, mü phÈm, nước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ội đầu,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...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451" dur="indefinite" restart="never" nodeType="tmRoot">
          <p:childTnLst>
            <p:seq>
              <p:cTn id="2452" dur="indefinite" nodeType="mainSeq">
                <p:childTnLst>
                  <p:par>
                    <p:cTn id="2453" fill="hold">
                      <p:stCondLst>
                        <p:cond delay="0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5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3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3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9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loại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ạnh tranh hoàn hả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ạnh tranh không hoàn hả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- Cạnh tranh độc quyề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- Độc quyền tập đòa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Độc quyề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thị trường CT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 giống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Có nhiều người mua và b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rào cản thấ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 giống độc quy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p có sự dị biệt hóa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út ít sức mạnh thị trường =&gt; P &gt; M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Đường cầu nghiêng xuống về phía ph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MR &lt; D(trừ điểm đầu tiê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P=aQ+b=&gt;MR=2aQ+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39" dur="indefinite" restart="never" nodeType="tmRoot">
          <p:childTnLst>
            <p:seq>
              <p:cTn id="2540" dur="indefinite" nodeType="mainSeq">
                <p:childTnLst>
                  <p:par>
                    <p:cTn id="2541" fill="hold">
                      <p:stCondLst>
                        <p:cond delay="0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4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8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6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7" dur="5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6" dur="5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5" dur="500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4" dur="500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3" dur="500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2" dur="500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7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1" dur="500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0" dur="500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4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1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4" dur="5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7" dur="5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0" dur="500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3" dur="500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6" dur="500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9" dur="500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2" dur="500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5" dur="500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THỊ TRƯỜNG v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D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962520" y="2133720"/>
            <a:ext cx="31680" cy="3902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962520" y="6019920"/>
            <a:ext cx="487656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657800" y="4222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&l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91800" y="34290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&g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16320" y="422280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962520" y="3124080"/>
            <a:ext cx="4647960" cy="2590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65440" y="1981080"/>
            <a:ext cx="2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434480" y="29718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5720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397400" y="609588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990720" y="2971800"/>
            <a:ext cx="106668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52680" y="32767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28600" y="3200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8600" y="4114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21640" y="609588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99036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99072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248520" y="4343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24280" y="3581280"/>
            <a:ext cx="0" cy="2438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990720" y="205704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990720" y="6019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447920" y="4343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38080" y="61722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95280" y="32767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43000" y="3505320"/>
            <a:ext cx="0" cy="2514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19320" y="6248520"/>
            <a:ext cx="380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4038120" y="4419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7" dur="indefinite" restart="never" nodeType="tmRoot">
          <p:childTnLst>
            <p:seq>
              <p:cTn id="2668" dur="indefinite" nodeType="mainSeq">
                <p:childTnLst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3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6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9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4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7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0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3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8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1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4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7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8" fill="hold">
                      <p:stCondLst>
                        <p:cond delay="indefinite"/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2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ĐSX trong ngắn hạn và dài h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5960" y="1143000"/>
            <a:ext cx="89154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) = (MR)X(MC), (P)=(Q) X (D)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Q(P – 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2209680"/>
            <a:ext cx="31680" cy="3826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6019920"/>
            <a:ext cx="3389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979240" y="30225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66400" y="33829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67480" y="422280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75240" y="3276720"/>
            <a:ext cx="1452600" cy="270324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62520" y="2971800"/>
            <a:ext cx="2895480" cy="30481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565440" y="2743200"/>
            <a:ext cx="2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800600" y="3429000"/>
            <a:ext cx="1838160" cy="1039680"/>
          </a:xfrm>
          <a:custGeom>
            <a:avLst/>
            <a:gdLst/>
            <a:ahLst/>
            <a:rect l="l" t="t" r="r" b="b"/>
            <a:pathLst>
              <a:path w="1824" h="760">
                <a:moveTo>
                  <a:pt x="0" y="240"/>
                </a:moveTo>
                <a:cubicBezTo>
                  <a:pt x="256" y="500"/>
                  <a:pt x="512" y="760"/>
                  <a:pt x="816" y="720"/>
                </a:cubicBezTo>
                <a:cubicBezTo>
                  <a:pt x="1120" y="680"/>
                  <a:pt x="1472" y="340"/>
                  <a:pt x="18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28360" y="3306600"/>
            <a:ext cx="2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41148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572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202000" y="521172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90720" y="2971800"/>
            <a:ext cx="251460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95480" y="3870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0880" y="4343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5720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007960" y="6049800"/>
            <a:ext cx="64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99072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99072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105520" y="4191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62520" y="2971800"/>
            <a:ext cx="1523880" cy="3048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990720" y="213336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90720" y="6019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828800" y="3962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600200" y="281952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76920" y="2819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990720" y="3962520"/>
            <a:ext cx="838080" cy="6094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lnTo>
                  <a:pt x="0" y="0"/>
                </a:lnTo>
                <a:lnTo>
                  <a:pt x="528" y="0"/>
                </a:lnTo>
                <a:lnTo>
                  <a:pt x="528" y="384"/>
                </a:lnTo>
                <a:lnTo>
                  <a:pt x="0" y="384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990720" y="2971800"/>
            <a:ext cx="121896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752480" y="4343400"/>
            <a:ext cx="1371600" cy="45720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0" y="0"/>
                </a:moveTo>
                <a:cubicBezTo>
                  <a:pt x="60" y="192"/>
                  <a:pt x="120" y="384"/>
                  <a:pt x="288" y="384"/>
                </a:cubicBezTo>
                <a:cubicBezTo>
                  <a:pt x="456" y="384"/>
                  <a:pt x="732" y="192"/>
                  <a:pt x="1008" y="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70080" y="3581280"/>
            <a:ext cx="1930320" cy="1930680"/>
          </a:xfrm>
          <a:custGeom>
            <a:avLst/>
            <a:gdLst/>
            <a:ahLst/>
            <a:rect l="l" t="t" r="r" b="b"/>
            <a:pathLst>
              <a:path w="1312" h="1312">
                <a:moveTo>
                  <a:pt x="64" y="960"/>
                </a:moveTo>
                <a:cubicBezTo>
                  <a:pt x="32" y="1136"/>
                  <a:pt x="0" y="1312"/>
                  <a:pt x="208" y="1152"/>
                </a:cubicBezTo>
                <a:cubicBezTo>
                  <a:pt x="416" y="992"/>
                  <a:pt x="864" y="496"/>
                  <a:pt x="1312" y="0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666880" y="33526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1600200" y="3200400"/>
            <a:ext cx="1522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81080" y="4724280"/>
            <a:ext cx="152640" cy="152640"/>
          </a:xfrm>
          <a:prstGeom prst="flowChartConnector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410080" y="4343400"/>
            <a:ext cx="152640" cy="152280"/>
          </a:xfrm>
          <a:prstGeom prst="flowChartConnector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676520" y="6172200"/>
            <a:ext cx="380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6" dur="indefinite" restart="never" nodeType="tmRoot">
          <p:childTnLst>
            <p:seq>
              <p:cTn id="2717" dur="indefinite" nodeType="mainSeq">
                <p:childTnLst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2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5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8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3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6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2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7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0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3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6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1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4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7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Q tập đo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KN: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§QT§ lµ t2 trong ®ã chØ cã vµi DN b¸n nh÷ng sp ®ång nhÊt hoÆc ph©n biÖ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Ph©n lo¹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+ §QT§ thuÇn tuý: sx sp gièng nh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VD: ngµnh xi m¨ng, ngµnh giÊy,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dịch vụ mạng điện thoại di động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,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+ §QT§ ph©n biÖt: sx sp kh¸c nh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VD: « t«,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xe máy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,..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8" dur="indefinite" restart="never" nodeType="tmRoot">
          <p:childTnLst>
            <p:seq>
              <p:cTn id="2769" dur="indefinite" nodeType="mainSeq">
                <p:childTnLst>
                  <p:par>
                    <p:cTn id="2770" fill="hold">
                      <p:stCondLst>
                        <p:cond delay="0"/>
                      </p:stCondLst>
                      <p:childTnLst>
                        <p:par>
                          <p:cTn id="2771" fill="hold">
                            <p:stCondLst>
                              <p:cond delay="0"/>
                            </p:stCondLst>
                            <p:childTnLst>
                              <p:par>
                                <p:cTn id="27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ĐQ tập đo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ột số hãng lớn chia nhau tỷ phần th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ường (vì thị trường chỉ còn bao gồm 1 số hãng ctranh trực tiế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ác hãng ĐQTĐ phụ thuộc nhau rất chặt ch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 có thể đồng  nhất hoặc phân biệ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ông tin thiếu nhiề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ào cản rất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808" dur="indefinite" restart="never" nodeType="tmRoot">
          <p:childTnLst>
            <p:seq>
              <p:cTn id="2809" dur="indefinite" nodeType="mainSeq">
                <p:childTnLst>
                  <p:par>
                    <p:cTn id="2810" fill="hold">
                      <p:stCondLst>
                        <p:cond delay="0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3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4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5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7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8" fill="hold">
                      <p:stCondLst>
                        <p:cond delay="indefinite"/>
                      </p:stCondLst>
                      <p:childTnLst>
                        <p:par>
                          <p:cTn id="2829" fill="hold">
                            <p:stCondLst>
                              <p:cond delay="0"/>
                            </p:stCondLst>
                            <p:childTnLst>
                              <p:par>
                                <p:cTn id="28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6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1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5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4" dur="500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fill="hold">
                      <p:stCondLst>
                        <p:cond delay="indefinite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3" dur="500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2" dur="500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1" dur="500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5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2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5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8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1" dur="500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4" dur="500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7" dur="500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0" dur="500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DN phụ thuộc nh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DN phụ thuộc nhau rất chặt chẽ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à đối mặt với vấn đề không chắc chắ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Đsx của 1DN sẽ có ảnh hưởng trực tiếp đến QĐsx của các DN còn l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ốc độ phản ứng rất nhanh: nếu hãng ĐQTĐ điển hình thay đổi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Việc phản ứng có độ trễ khi hãng ĐQTĐ thay đổi kỹ thuật về kiểu dáng, thương hiệu,… cần phải có thời g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2" dur="indefinite" restart="never" nodeType="tmRoot">
          <p:childTnLst>
            <p:seq>
              <p:cTn id="2913" dur="indefinite" nodeType="mainSeq">
                <p:childTnLst>
                  <p:par>
                    <p:cTn id="2914" fill="hold">
                      <p:stCondLst>
                        <p:cond delay="0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ào cản rất c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uật phá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ế nhập khẩ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ản quyền ĐQ công ngh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ính KT của qm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Lợi thế CP tuyệt đố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CP hãng gia nhập &gt; CP hãng trong ngà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Xu hướng ảhưởng Roy: đầu nhỏ =&gt; khuyếch đ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D: ngSX =&gt; bán buôn =&gt; bán lẻ=&gt; ng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uyến mại =&gt; ôm hàng  =&gt; D giả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37" dur="indefinite" restart="never" nodeType="tmRoot">
          <p:childTnLst>
            <p:seq>
              <p:cTn id="2938" dur="indefinite" nodeType="mainSeq">
                <p:childTnLst>
                  <p:par>
                    <p:cTn id="2939" fill="hold">
                      <p:stCondLst>
                        <p:cond delay="0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3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5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7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2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7" dur="5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2" dur="5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7" dur="500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2" dur="500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7" dur="500"/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2" dur="500"/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7" dur="500"/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2" dur="500"/>
                                        <p:tgtEl>
                                          <p:spTgt spid="8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YẾT ĐỊNH SX- CÂN BẰNG N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guyên tắ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ân bằng Nash là cb không hợp t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ỗi DN luôn chọn cho mình hành động tốt nhất có th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ỗi khi ra QĐ luôn tính đến hành động của đối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oi đối thủ cũng thông minh như mình và hành động như m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993" dur="indefinite" restart="never" nodeType="tmRoot">
          <p:childTnLst>
            <p:seq>
              <p:cTn id="2994" dur="indefinite" nodeType="mainSeq">
                <p:childTnLst>
                  <p:par>
                    <p:cTn id="2995" fill="hold">
                      <p:stCondLst>
                        <p:cond delay="0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0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2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fill="hold">
                      <p:stCondLst>
                        <p:cond delay="indefinite"/>
                      </p:stCondLst>
                      <p:childTnLst>
                        <p:par>
                          <p:cTn id="3014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7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1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fill="hold">
                      <p:stCondLst>
                        <p:cond delay="indefinite"/>
                      </p:stCondLst>
                      <p:childTnLst>
                        <p:par>
                          <p:cTn id="3023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6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8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0" dur="500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5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8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9" dur="500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4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8" dur="500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2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4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6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9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2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5" dur="500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8" dur="500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1" dur="500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 TRẬN: GIẢ SỬ CÓ 2 D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THẤ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CA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THẤ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 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CA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 0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  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5" name=""/>
          <p:cNvSpPr/>
          <p:nvPr/>
        </p:nvSpPr>
        <p:spPr>
          <a:xfrm>
            <a:off x="457200" y="1676520"/>
            <a:ext cx="27432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905120" y="1752480"/>
            <a:ext cx="1143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33520" y="236232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K HỢP TÁ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ể có tổng lợi nhuận tối đa thì cả 2 đều phải đặt P cao: nếu đặt P cao thì rất rễ bị phá vỡ vì mỗ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 luôn chọn cho mình hành động tốt nhất (đặt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ấp để chiếm thị phần) =&gt; luôn tự phá hủy mì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cả 2 phải hợp tá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điều kiện hợp t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ó sức mạnh tương đư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ùng có l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ật pháp cho phé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073" dur="indefinite" restart="never" nodeType="tmRoot">
          <p:childTnLst>
            <p:seq>
              <p:cTn id="3074" dur="indefinite" nodeType="mainSeq">
                <p:childTnLst>
                  <p:par>
                    <p:cTn id="3075" fill="hold">
                      <p:stCondLst>
                        <p:cond delay="0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9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3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4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7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1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5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8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3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5" fill="hold">
                      <p:stCondLst>
                        <p:cond delay="indefinite"/>
                      </p:stCondLst>
                      <p:childTnLst>
                        <p:par>
                          <p:cTn id="3126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2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6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7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0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4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5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8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9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2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6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7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ẢNG PHÂN LOẠI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209680"/>
            <a:ext cx="8381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7913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1148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2004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952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3520" y="1523880"/>
            <a:ext cx="92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C¸c lo¹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15238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VÝ dô       Sè l­î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ngM,b¸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13360" y="1523880"/>
            <a:ext cx="100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/chất của 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5238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Søc m¹n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thị trườ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2400" y="14479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ả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á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3880" y="2189160"/>
            <a:ext cx="89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¹n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a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200400"/>
            <a:ext cx="106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¹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a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1240" y="417528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ĐOÀ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6160" y="5181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§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.VnTim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gsả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goại t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86640" y="3075120"/>
            <a:ext cx="158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ước gé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®Çu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ướ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ải kh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4038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Xi mă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dÇu, « t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09760" y="4917960"/>
            <a:ext cx="10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§iÖ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­í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6800" y="236232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V« s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17640" y="34290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hiÒ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21960" y="426708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Mét s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90000" y="51055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Mé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86200" y="236232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§ång nhÊ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21480" y="3238560"/>
            <a:ext cx="117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ị</a:t>
            </a:r>
            <a:r>
              <a:rPr b="0" lang="en-US" sz="2400" spc="-1" strike="noStrike">
                <a:solidFill>
                  <a:srgbClr val="000000"/>
                </a:solidFill>
                <a:latin typeface=".VnArial"/>
              </a:rPr>
              <a:t> biÖ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óa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98160" y="403848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ố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hácnh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77920" y="50292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Duy nhÊ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02520" y="2362320"/>
            <a:ext cx="101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Kh«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6160" y="3429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ThÊ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5920" y="43434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46640" y="5105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RÊt 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50160" y="321624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ấ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ầ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41148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2286000"/>
            <a:ext cx="76176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ô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44792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15238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ô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 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236232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à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3352680"/>
            <a:ext cx="6858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267080"/>
            <a:ext cx="6098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iề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10552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ấ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5029200"/>
            <a:ext cx="8380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0760" y="274680"/>
            <a:ext cx="788508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ính cứng nhắc của gi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562360" y="281952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19200" y="2209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2717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0" y="2133720"/>
            <a:ext cx="1828800" cy="12952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286000" y="2209680"/>
            <a:ext cx="1828800" cy="236232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114800" y="34290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181480" y="4495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3352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14800" y="3429000"/>
            <a:ext cx="1143000" cy="1447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114800" y="4952880"/>
            <a:ext cx="457200" cy="91440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381240" y="-1143720"/>
            <a:ext cx="53337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4865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48654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1218960" y="-151560"/>
            <a:ext cx="396252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851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85178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990720"/>
            <a:ext cx="7848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&gt;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E&gt;1=&gt;P tăng =&gt;TR giảm,  P&lt;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E&lt;1=&gt;P giảm =&gt;TR giả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3" dur="indefinite" restart="never" nodeType="tmRoot">
          <p:childTnLst>
            <p:seq>
              <p:cTn id="3164" dur="indefinite" nodeType="mainSeq">
                <p:childTnLst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0" fill="hold">
                      <p:stCondLst>
                        <p:cond delay="indefinite"/>
                      </p:stCondLst>
                      <p:childTnLst>
                        <p:par>
                          <p:cTn id="3171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fill="hold">
                      <p:stCondLst>
                        <p:cond delay="indefinite"/>
                      </p:stCondLst>
                      <p:childTnLst>
                        <p:par>
                          <p:cTn id="3176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5" fill="hold">
                      <p:stCondLst>
                        <p:cond delay="indefinite"/>
                      </p:stCondLst>
                      <p:childTnLst>
                        <p:par>
                          <p:cTn id="3186" fill="hold">
                            <p:stCondLst>
                              <p:cond delay="0"/>
                            </p:stCondLst>
                            <p:childTnLst>
                              <p:par>
                                <p:cTn id="3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fill="hold">
                      <p:stCondLst>
                        <p:cond delay="indefinite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fill="hold">
                      <p:stCondLst>
                        <p:cond delay="indefinite"/>
                      </p:stCondLst>
                      <p:childTnLst>
                        <p:par>
                          <p:cTn id="3226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0" fill="hold">
                      <p:stCondLst>
                        <p:cond delay="indefinite"/>
                      </p:stCondLst>
                      <p:childTnLst>
                        <p:par>
                          <p:cTn id="3231" fill="hold">
                            <p:stCondLst>
                              <p:cond delay="0"/>
                            </p:stCondLst>
                            <p:childTnLst>
                              <p:par>
                                <p:cTn id="3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Ố LƯỢNG NGƯỜI THAM G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3430080"/>
            <a:ext cx="9143640" cy="684360"/>
            <a:chOff x="0" y="3430080"/>
            <a:chExt cx="9143640" cy="684360"/>
          </a:xfrm>
        </p:grpSpPr>
        <p:sp>
          <p:nvSpPr>
            <p:cNvPr id="104" name=""/>
            <p:cNvSpPr/>
            <p:nvPr/>
          </p:nvSpPr>
          <p:spPr>
            <a:xfrm flipV="1">
              <a:off x="0" y="3926160"/>
              <a:ext cx="9143640" cy="187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0" y="3429720"/>
              <a:ext cx="9143640" cy="49680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256360" y="2216160"/>
            <a:ext cx="1373040" cy="2812680"/>
            <a:chOff x="5256360" y="2216160"/>
            <a:chExt cx="1373040" cy="2812680"/>
          </a:xfrm>
        </p:grpSpPr>
        <p:sp>
          <p:nvSpPr>
            <p:cNvPr id="107" name=""/>
            <p:cNvSpPr/>
            <p:nvPr/>
          </p:nvSpPr>
          <p:spPr>
            <a:xfrm>
              <a:off x="5256360" y="2216160"/>
              <a:ext cx="1373040" cy="2812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6360" y="2216160"/>
              <a:ext cx="1373040" cy="2812680"/>
            </a:xfrm>
            <a:prstGeom prst="ellipse">
              <a:avLst/>
            </a:prstGeom>
            <a:solidFill>
              <a:srgbClr val="ffff0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46720" y="2398680"/>
              <a:ext cx="1191600" cy="2444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46720" y="2405160"/>
              <a:ext cx="1191600" cy="2444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05760" y="2522520"/>
              <a:ext cx="1073520" cy="21992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5422680" y="2557080"/>
              <a:ext cx="1039680" cy="2133360"/>
              <a:chOff x="5422680" y="2557080"/>
              <a:chExt cx="1039680" cy="2133360"/>
            </a:xfrm>
          </p:grpSpPr>
          <p:sp>
            <p:nvSpPr>
              <p:cNvPr id="113" name=""/>
              <p:cNvSpPr/>
              <p:nvPr/>
            </p:nvSpPr>
            <p:spPr>
              <a:xfrm>
                <a:off x="5422680" y="2557080"/>
                <a:ext cx="1039680" cy="21333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35640" y="2568960"/>
                <a:ext cx="1014840" cy="2080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46440" y="2589480"/>
                <a:ext cx="964800" cy="1944000"/>
              </a:xfrm>
              <a:prstGeom prst="ellipse">
                <a:avLst/>
              </a:prstGeom>
              <a:solidFill>
                <a:srgbClr val="ffff0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02960" y="2643840"/>
                <a:ext cx="857880" cy="1577880"/>
              </a:xfrm>
              <a:prstGeom prst="ellipse">
                <a:avLst/>
              </a:prstGeom>
              <a:solidFill>
                <a:srgbClr val="ffff0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7083360" y="27288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27288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0880" y="277812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30880" y="281952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88120" y="283680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238880" y="2895480"/>
            <a:ext cx="1158840" cy="1165320"/>
            <a:chOff x="7238880" y="2895480"/>
            <a:chExt cx="1158840" cy="1165320"/>
          </a:xfrm>
        </p:grpSpPr>
        <p:sp>
          <p:nvSpPr>
            <p:cNvPr id="123" name=""/>
            <p:cNvSpPr/>
            <p:nvPr/>
          </p:nvSpPr>
          <p:spPr>
            <a:xfrm>
              <a:off x="7238880" y="2895480"/>
              <a:ext cx="1158840" cy="116532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53280" y="2901960"/>
              <a:ext cx="1131120" cy="113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65520" y="2913120"/>
              <a:ext cx="1075320" cy="1062000"/>
            </a:xfrm>
            <a:prstGeom prst="ellipse">
              <a:avLst/>
            </a:prstGeom>
            <a:solidFill>
              <a:srgbClr val="66ff3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28520" y="2942640"/>
              <a:ext cx="956160" cy="861840"/>
            </a:xfrm>
            <a:prstGeom prst="ellipse">
              <a:avLst/>
            </a:prstGeom>
            <a:solidFill>
              <a:srgbClr val="66ff33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819520" y="2216160"/>
            <a:ext cx="2285640" cy="3421800"/>
            <a:chOff x="2819520" y="2216160"/>
            <a:chExt cx="2285640" cy="3421800"/>
          </a:xfrm>
        </p:grpSpPr>
        <p:sp>
          <p:nvSpPr>
            <p:cNvPr id="128" name=""/>
            <p:cNvSpPr/>
            <p:nvPr/>
          </p:nvSpPr>
          <p:spPr>
            <a:xfrm>
              <a:off x="2819520" y="2216160"/>
              <a:ext cx="2285640" cy="3421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9520" y="2216160"/>
              <a:ext cx="2285640" cy="3421800"/>
            </a:xfrm>
            <a:prstGeom prst="ellipse">
              <a:avLst/>
            </a:prstGeom>
            <a:solidFill>
              <a:srgbClr val="ff660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0360" y="2438640"/>
              <a:ext cx="1983960" cy="2973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70360" y="2446200"/>
              <a:ext cx="1983960" cy="2973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68640" y="2589120"/>
              <a:ext cx="1787040" cy="26755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096720" y="2630880"/>
              <a:ext cx="1731240" cy="2595600"/>
              <a:chOff x="3096720" y="2630880"/>
              <a:chExt cx="1731240" cy="2595600"/>
            </a:xfrm>
          </p:grpSpPr>
          <p:sp>
            <p:nvSpPr>
              <p:cNvPr id="134" name=""/>
              <p:cNvSpPr/>
              <p:nvPr/>
            </p:nvSpPr>
            <p:spPr>
              <a:xfrm>
                <a:off x="3096720" y="2630880"/>
                <a:ext cx="1731240" cy="259560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18320" y="2645280"/>
                <a:ext cx="1689840" cy="25311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36680" y="2670120"/>
                <a:ext cx="1606680" cy="2365200"/>
              </a:xfrm>
              <a:prstGeom prst="ellipse">
                <a:avLst/>
              </a:prstGeom>
              <a:solidFill>
                <a:srgbClr val="ff660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30640" y="2736360"/>
                <a:ext cx="1428120" cy="1919520"/>
              </a:xfrm>
              <a:prstGeom prst="ellipse">
                <a:avLst/>
              </a:prstGeom>
              <a:solidFill>
                <a:srgbClr val="ff660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-380880" y="1828800"/>
            <a:ext cx="2818800" cy="4418640"/>
            <a:chOff x="-380880" y="1828800"/>
            <a:chExt cx="2818800" cy="4418640"/>
          </a:xfrm>
        </p:grpSpPr>
        <p:sp>
          <p:nvSpPr>
            <p:cNvPr id="139" name=""/>
            <p:cNvSpPr/>
            <p:nvPr/>
          </p:nvSpPr>
          <p:spPr>
            <a:xfrm>
              <a:off x="-380880" y="1828800"/>
              <a:ext cx="2818800" cy="441864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380880" y="1828800"/>
              <a:ext cx="2818800" cy="4418640"/>
            </a:xfrm>
            <a:prstGeom prst="ellipse">
              <a:avLst/>
            </a:prstGeom>
            <a:solidFill>
              <a:srgbClr val="ff33cc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194760" y="2116080"/>
              <a:ext cx="2446560" cy="38397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194760" y="2125800"/>
              <a:ext cx="2446560" cy="3839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3440" y="2310480"/>
              <a:ext cx="2203920" cy="345528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-38880" y="2364480"/>
              <a:ext cx="2134440" cy="3351960"/>
              <a:chOff x="-38880" y="2364480"/>
              <a:chExt cx="2134440" cy="3351960"/>
            </a:xfrm>
          </p:grpSpPr>
          <p:sp>
            <p:nvSpPr>
              <p:cNvPr id="145" name=""/>
              <p:cNvSpPr/>
              <p:nvPr/>
            </p:nvSpPr>
            <p:spPr>
              <a:xfrm>
                <a:off x="-38880" y="2364480"/>
                <a:ext cx="2134440" cy="3351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-11520" y="2383200"/>
                <a:ext cx="2083680" cy="32688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440" y="2415240"/>
                <a:ext cx="1981080" cy="3054240"/>
              </a:xfrm>
              <a:prstGeom prst="ellipse">
                <a:avLst/>
              </a:prstGeom>
              <a:solidFill>
                <a:srgbClr val="ff33c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6360" y="2500920"/>
                <a:ext cx="1761120" cy="2478960"/>
              </a:xfrm>
              <a:prstGeom prst="ellipse">
                <a:avLst/>
              </a:prstGeom>
              <a:solidFill>
                <a:srgbClr val="ff33cc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 rot="3925800">
            <a:off x="-16920" y="374976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VÔ CÙ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3925800">
            <a:off x="3184560" y="370224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NHIỀ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3925800">
            <a:off x="5504400" y="3257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 S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3925800">
            <a:off x="7580520" y="3237480"/>
            <a:ext cx="53352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72600" y="148752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TH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75080" y="14875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TĐ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32480" y="148752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ĐQT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4880" y="1523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Đ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705360" y="1752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648320" y="16765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438280" y="1752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ÔNG TIN KINH T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16765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318456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Ị TRƯỜ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0876400">
            <a:off x="3544920" y="466740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76520" y="3448080"/>
            <a:ext cx="1704960" cy="170640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21040" y="345744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3505320"/>
            <a:ext cx="1584360" cy="1555560"/>
          </a:xfrm>
          <a:prstGeom prst="ellipse">
            <a:avLst/>
          </a:prstGeom>
          <a:solidFill>
            <a:srgbClr val="ff0066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3505320"/>
            <a:ext cx="1828800" cy="1828800"/>
          </a:xfrm>
          <a:prstGeom prst="ellipse">
            <a:avLst/>
          </a:prstGeom>
          <a:solidFill>
            <a:srgbClr val="ff0066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93400" y="3962520"/>
            <a:ext cx="1060200" cy="825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20826600">
            <a:off x="1701720" y="405720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00200" y="3048120"/>
            <a:ext cx="1371240" cy="1441080"/>
            <a:chOff x="1600200" y="3048120"/>
            <a:chExt cx="1371240" cy="1441080"/>
          </a:xfrm>
        </p:grpSpPr>
        <p:sp>
          <p:nvSpPr>
            <p:cNvPr id="171" name=""/>
            <p:cNvSpPr/>
            <p:nvPr/>
          </p:nvSpPr>
          <p:spPr>
            <a:xfrm>
              <a:off x="1600200" y="3048120"/>
              <a:ext cx="1371240" cy="14410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17840" y="3056400"/>
              <a:ext cx="1337400" cy="1404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31160" y="3070080"/>
              <a:ext cx="1271880" cy="1313640"/>
            </a:xfrm>
            <a:prstGeom prst="ellipse">
              <a:avLst/>
            </a:prstGeom>
            <a:solidFill>
              <a:srgbClr val="ffcc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02800" y="3106800"/>
              <a:ext cx="1131840" cy="1065240"/>
            </a:xfrm>
            <a:prstGeom prst="ellipse">
              <a:avLst/>
            </a:pr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20800" y="3554280"/>
              <a:ext cx="10936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IẾ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523880" y="23018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1676520"/>
            <a:ext cx="1023840" cy="1023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1676520"/>
            <a:ext cx="1000080" cy="100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676520"/>
            <a:ext cx="950760" cy="933480"/>
          </a:xfrm>
          <a:prstGeom prst="ellipse">
            <a:avLst/>
          </a:prstGeom>
          <a:solidFill>
            <a:srgbClr val="ff33cc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1600200"/>
            <a:ext cx="1371600" cy="1371600"/>
          </a:xfrm>
          <a:prstGeom prst="ellipse">
            <a:avLst/>
          </a:prstGeom>
          <a:solidFill>
            <a:srgbClr val="ff33c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990720" cy="7038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HIỀ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90720" y="1828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13120" y="12952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1295280"/>
            <a:ext cx="665280" cy="66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1219320"/>
            <a:ext cx="633600" cy="622080"/>
          </a:xfrm>
          <a:prstGeom prst="ellipse">
            <a:avLst/>
          </a:prstGeom>
          <a:solidFill>
            <a:srgbClr val="ff66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1295280"/>
            <a:ext cx="563400" cy="503280"/>
          </a:xfrm>
          <a:prstGeom prst="ellipse">
            <a:avLst/>
          </a:prstGeom>
          <a:solidFill>
            <a:srgbClr val="ff66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1295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ất 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ỨC MẠNH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33160" y="1598760"/>
            <a:ext cx="7495560" cy="5258520"/>
            <a:chOff x="533160" y="1598760"/>
            <a:chExt cx="7495560" cy="5258520"/>
          </a:xfrm>
        </p:grpSpPr>
        <p:sp>
          <p:nvSpPr>
            <p:cNvPr id="190" name=""/>
            <p:cNvSpPr/>
            <p:nvPr/>
          </p:nvSpPr>
          <p:spPr>
            <a:xfrm flipH="1">
              <a:off x="533520" y="6849360"/>
              <a:ext cx="1995840" cy="216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33160" y="5791320"/>
              <a:ext cx="257508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33520" y="4694040"/>
              <a:ext cx="302472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33160" y="3613320"/>
              <a:ext cx="353916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33160" y="2526480"/>
              <a:ext cx="405324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33520" y="1598760"/>
              <a:ext cx="4505040" cy="216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9480" y="1598760"/>
              <a:ext cx="1440" cy="9277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9480" y="252648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9480" y="362376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9480" y="472104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9480" y="5818320"/>
              <a:ext cx="1440" cy="101268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0920" y="1857600"/>
              <a:ext cx="194760" cy="31428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0920" y="2930040"/>
              <a:ext cx="194760" cy="314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0920" y="4000680"/>
              <a:ext cx="194760" cy="314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0920" y="5073120"/>
              <a:ext cx="194760" cy="314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0920" y="6145560"/>
              <a:ext cx="194760" cy="314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560320" y="1598760"/>
              <a:ext cx="5468400" cy="5258520"/>
              <a:chOff x="2560320" y="1598760"/>
              <a:chExt cx="5468400" cy="5258520"/>
            </a:xfrm>
          </p:grpSpPr>
          <p:sp>
            <p:nvSpPr>
              <p:cNvPr id="207" name=""/>
              <p:cNvSpPr/>
              <p:nvPr/>
            </p:nvSpPr>
            <p:spPr>
              <a:xfrm>
                <a:off x="7064280" y="5243760"/>
                <a:ext cx="964440" cy="1611360"/>
              </a:xfrm>
              <a:custGeom>
                <a:avLst/>
                <a:gdLst/>
                <a:ahLst/>
                <a:rect l="l" t="t" r="r" b="b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solidFill>
                <a:srgbClr val="ffcc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97360" y="5243760"/>
                <a:ext cx="4493880" cy="686520"/>
              </a:xfrm>
              <a:custGeom>
                <a:avLst/>
                <a:gdLst/>
                <a:ahLst/>
                <a:rect l="l" t="t" r="r" b="b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60320" y="5926680"/>
                <a:ext cx="4960800" cy="930600"/>
              </a:xfrm>
              <a:custGeom>
                <a:avLst/>
                <a:gdLst/>
                <a:ahLst/>
                <a:rect l="l" t="t" r="r" b="b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ffcc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560640" y="4331520"/>
                <a:ext cx="852480" cy="1459080"/>
              </a:xfrm>
              <a:custGeom>
                <a:avLst/>
                <a:gdLst/>
                <a:ahLst/>
                <a:rect l="l" t="t" r="r" b="b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07840" y="4331520"/>
                <a:ext cx="3376080" cy="513720"/>
              </a:xfrm>
              <a:custGeom>
                <a:avLst/>
                <a:gdLst/>
                <a:ahLst/>
                <a:rect l="l" t="t" r="r" b="b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80880" y="4843440"/>
                <a:ext cx="3919320" cy="947160"/>
              </a:xfrm>
              <a:custGeom>
                <a:avLst/>
                <a:gdLst/>
                <a:ahLst/>
                <a:rect l="l" t="t" r="r" b="b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solidFill>
                <a:srgbClr val="ff6699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57000" y="3428640"/>
                <a:ext cx="746280" cy="1267560"/>
              </a:xfrm>
              <a:custGeom>
                <a:avLst/>
                <a:gdLst/>
                <a:ahLst/>
                <a:rect l="l" t="t" r="r" b="b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solidFill>
                <a:srgbClr val="ff0066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15800" y="3428640"/>
                <a:ext cx="2253960" cy="342720"/>
              </a:xfrm>
              <a:custGeom>
                <a:avLst/>
                <a:gdLst/>
                <a:ahLst/>
                <a:rect l="l" t="t" r="r" b="b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81640" y="3769200"/>
                <a:ext cx="2916720" cy="926640"/>
              </a:xfrm>
              <a:custGeom>
                <a:avLst/>
                <a:gdLst/>
                <a:ahLst/>
                <a:rect l="l" t="t" r="r" b="b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solidFill>
                <a:srgbClr val="ff0066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547600" y="2512800"/>
                <a:ext cx="642600" cy="1103760"/>
              </a:xfrm>
              <a:custGeom>
                <a:avLst/>
                <a:gdLst/>
                <a:ahLst/>
                <a:rect l="l" t="t" r="r" b="b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32040" y="2512800"/>
                <a:ext cx="1124640" cy="165240"/>
              </a:xfrm>
              <a:custGeom>
                <a:avLst/>
                <a:gdLst/>
                <a:ahLst/>
                <a:rect l="l" t="t" r="r" b="b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089600" y="2676600"/>
                <a:ext cx="1899360" cy="939960"/>
              </a:xfrm>
              <a:custGeom>
                <a:avLst/>
                <a:gdLst/>
                <a:ahLst/>
                <a:rect l="l" t="t" r="r" b="b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034240" y="1598760"/>
                <a:ext cx="543240" cy="934560"/>
              </a:xfrm>
              <a:custGeom>
                <a:avLst/>
                <a:gdLst/>
                <a:ahLst/>
                <a:rect l="l" t="t" r="r" b="b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solidFill>
                <a:srgbClr val="00ae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94680" y="1598760"/>
                <a:ext cx="880560" cy="934560"/>
              </a:xfrm>
              <a:custGeom>
                <a:avLst/>
                <a:gdLst/>
                <a:ahLst/>
                <a:rect l="l" t="t" r="r" b="b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solidFill>
                <a:srgbClr val="00ae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42080" y="2095920"/>
                <a:ext cx="192960" cy="314280"/>
              </a:xfrm>
              <a:prstGeom prst="rect">
                <a:avLst/>
              </a:prstGeom>
              <a:solidFill>
                <a:srgbClr val="00ae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9120" y="3004200"/>
                <a:ext cx="1311480" cy="398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ẤT CA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78560" y="4074480"/>
                <a:ext cx="732240" cy="39888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Arial"/>
                  </a:rPr>
                  <a:t>CA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13040" y="5146560"/>
                <a:ext cx="858960" cy="3988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Arial"/>
                  </a:rPr>
                  <a:t>THẤ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571640" y="6294960"/>
                <a:ext cx="940320" cy="368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8cf4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0066"/>
                    </a:solidFill>
                    <a:latin typeface="Arial"/>
                  </a:rPr>
                  <a:t>K. C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1T14:59:00Z</dcterms:created>
  <dc:creator>Kee-Cheok Cheong</dc:creator>
  <dc:description/>
  <cp:keywords/>
  <dc:language>en-US</dc:language>
  <cp:lastModifiedBy>Chu Kien</cp:lastModifiedBy>
  <cp:lastPrinted>1996-11-25T14:50:16Z</cp:lastPrinted>
  <dcterms:modified xsi:type="dcterms:W3CDTF">2009-11-02T01:07:21Z</dcterms:modified>
  <cp:revision>152</cp:revision>
  <dc:subject>Macroeconomic Management &amp; Policy</dc:subject>
  <dc:title>MICROECONOMIC CONCEPTS</dc:title>
</cp:coreProperties>
</file>