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7F097-AA13-4B37-BE62-4DA9FAB18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5A7B6-6082-4D09-A0BA-5D64BB868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80E7A-529F-4D32-A2D3-0A5D7A9D5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48E01-D75E-4022-B1F4-17C9804C5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DE499-3946-4075-831C-3A042E1B6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846A3-99AA-4693-84CD-02C3DEEE9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17FC7-D3B4-4FB2-8BD9-9B00F9D7F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E3758-4FD3-43D3-BF0B-38B98E319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E9032-0E11-4E73-BA54-BF1034328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47208-AC07-4311-9767-28D4FC0A0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5"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DDFA2-FA77-494A-9B11-1AD5F1382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F037B-6FD8-4A3C-84E8-81D1CDDC3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0B6DA-74F8-4076-A85B-D81E0CD65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DD842-D7BB-4951-8598-34829C35C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27279-1B8A-4FD9-B4DD-893ED6AB3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0"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626D9C-103B-4C50-A4C2-307944EBD1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5"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8BA0D-901E-4160-B9F3-A3F72D7C3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E47A4-42AF-4147-A237-97269E383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CC91E-ADC6-43C7-B634-CFEAB18AD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064F1-0A9C-46FA-9A13-85FD032F1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2672A-F648-498E-8BAE-81EAFA559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6A4C4-E2CB-4BB3-B436-05141D6E0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81ED1-C954-4829-8D86-004FC8AA5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19A9E-7646-4F49-9C6A-3AE80DA94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864B-FF0E-4C85-B232-5A2AC5686BE3}"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A4B8-B46C-4F4F-894B-267E372A0A34}"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04920" y="2298600"/>
            <a:ext cx="8610480" cy="4373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BÀI GIẢNG ĐIỆN TỬ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KINH TẾ THƯƠNG MẠI</a:t>
            </a:r>
            <a:endParaRPr b="0" lang="en-US" sz="40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À NỘI - 2015</a:t>
            </a:r>
            <a:endParaRPr b="0" lang="en-US" sz="1800" spc="-1" strike="noStrike">
              <a:solidFill>
                <a:srgbClr val="000000"/>
              </a:solidFill>
              <a:latin typeface="Times New Roman"/>
            </a:endParaRPr>
          </a:p>
        </p:txBody>
      </p:sp>
      <p:sp>
        <p:nvSpPr>
          <p:cNvPr id="112" name="Rectangle 3"/>
          <p:cNvSpPr/>
          <p:nvPr/>
        </p:nvSpPr>
        <p:spPr>
          <a:xfrm>
            <a:off x="1523880" y="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Times New Roman"/>
              </a:rPr>
              <a:t>TRƯỜNG ĐẠI HỌC KINH TẾ QUỐC DÂN</a:t>
            </a:r>
            <a:br>
              <a:rPr sz="2000"/>
            </a:br>
            <a:r>
              <a:rPr b="1" lang="en-US" sz="2000" spc="-1" strike="noStrike">
                <a:solidFill>
                  <a:srgbClr val="0000ff"/>
                </a:solidFill>
                <a:latin typeface="Times New Roman"/>
              </a:rPr>
              <a:t>VIỆN THƯƠNG MẠI VÀ KTQT</a:t>
            </a:r>
            <a:endParaRPr b="0" lang="en-US" sz="2000" spc="-1" strike="noStrike">
              <a:solidFill>
                <a:srgbClr val="000000"/>
              </a:solidFill>
              <a:latin typeface="Times New Roman"/>
            </a:endParaRPr>
          </a:p>
        </p:txBody>
      </p:sp>
      <p:pic>
        <p:nvPicPr>
          <p:cNvPr id="113" name="Picture 6" descr="Đại_học_Kinh_tế_Quốc_dân"/>
          <p:cNvPicPr/>
          <p:nvPr/>
        </p:nvPicPr>
        <p:blipFill>
          <a:blip r:embed="rId2"/>
          <a:stretch/>
        </p:blipFill>
        <p:spPr>
          <a:xfrm>
            <a:off x="0" y="0"/>
            <a:ext cx="1600200" cy="1219320"/>
          </a:xfrm>
          <a:prstGeom prst="rect">
            <a:avLst/>
          </a:prstGeom>
          <a:ln w="0">
            <a:noFill/>
          </a:ln>
        </p:spPr>
      </p:pic>
      <p:sp>
        <p:nvSpPr>
          <p:cNvPr id="2" name="PlaceHolder 1"/>
          <p:cNvSpPr>
            <a:spLocks noGrp="1"/>
          </p:cNvSpPr>
          <p:nvPr>
            <p:ph type="sldNum" idx="6"/>
          </p:nvPr>
        </p:nvSpPr>
        <p:spPr/>
        <p:txBody>
          <a:bodyPr/>
          <a:p>
            <a:fld id="{E36DEA49-95DB-4040-BEF3-E579EBB368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5" name=""/>
          <p:cNvGraphicFramePr/>
          <p:nvPr/>
        </p:nvGraphicFramePr>
        <p:xfrm>
          <a:off x="290520" y="2031840"/>
          <a:ext cx="8591400" cy="2322720"/>
        </p:xfrm>
        <a:graphic>
          <a:graphicData uri="http://schemas.openxmlformats.org/presentationml/2006/ole">
            <p:oleObj progId="Excel.Sheet.12" r:id="rId2" spid="">
              <p:embed/>
              <p:pic>
                <p:nvPicPr>
                  <p:cNvPr id="126" name="" descr=""/>
                  <p:cNvPicPr/>
                  <p:nvPr/>
                </p:nvPicPr>
                <p:blipFill>
                  <a:blip r:embed="rId3"/>
                  <a:stretch/>
                </p:blipFill>
                <p:spPr>
                  <a:xfrm>
                    <a:off x="290520" y="2031840"/>
                    <a:ext cx="8591400" cy="2322720"/>
                  </a:xfrm>
                  <a:prstGeom prst="rect">
                    <a:avLst/>
                  </a:prstGeom>
                  <a:ln w="0">
                    <a:noFill/>
                  </a:ln>
                </p:spPr>
              </p:pic>
            </p:oleObj>
          </a:graphicData>
        </a:graphic>
      </p:graphicFrame>
      <p:sp>
        <p:nvSpPr>
          <p:cNvPr id="127" name=""/>
          <p:cNvSpPr/>
          <p:nvPr/>
        </p:nvSpPr>
        <p:spPr>
          <a:xfrm>
            <a:off x="304920" y="517680"/>
            <a:ext cx="8610480" cy="70308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 sánh quốc tế về tốc độ tăng trưởng kinh tế</a:t>
            </a:r>
            <a:endParaRPr b="0" lang="en-US" sz="3200" spc="-1" strike="noStrike">
              <a:solidFill>
                <a:srgbClr val="000000"/>
              </a:solidFill>
              <a:latin typeface="Times New Roman"/>
            </a:endParaRPr>
          </a:p>
        </p:txBody>
      </p:sp>
      <p:sp>
        <p:nvSpPr>
          <p:cNvPr id="128" name=""/>
          <p:cNvSpPr/>
          <p:nvPr/>
        </p:nvSpPr>
        <p:spPr>
          <a:xfrm>
            <a:off x="457200" y="5715000"/>
            <a:ext cx="457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U:28</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025D0AC-DA1A-433C-9182-CC5556C292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457200" y="228600"/>
            <a:ext cx="830592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ẢNG MỘT SỐ CHỈ TIÊU PHÁT TRIỂN KINH TẾ TỔNG HỢP CỦA VIỆT NAM 2005 – 2013</a:t>
            </a:r>
            <a:endParaRPr b="0" lang="en-US" sz="2400" spc="-1" strike="noStrike">
              <a:solidFill>
                <a:srgbClr val="000000"/>
              </a:solidFill>
              <a:latin typeface="Times New Roman"/>
            </a:endParaRPr>
          </a:p>
        </p:txBody>
      </p:sp>
      <p:graphicFrame>
        <p:nvGraphicFramePr>
          <p:cNvPr id="130" name=""/>
          <p:cNvGraphicFramePr/>
          <p:nvPr/>
        </p:nvGraphicFramePr>
        <p:xfrm>
          <a:off x="189000" y="1752480"/>
          <a:ext cx="8520120" cy="3497400"/>
        </p:xfrm>
        <a:graphic>
          <a:graphicData uri="http://schemas.openxmlformats.org/presentationml/2006/ole">
            <p:oleObj progId="Excel.Sheet.12" r:id="rId2" spid="">
              <p:embed/>
              <p:pic>
                <p:nvPicPr>
                  <p:cNvPr id="131" name="" descr=""/>
                  <p:cNvPicPr/>
                  <p:nvPr/>
                </p:nvPicPr>
                <p:blipFill>
                  <a:blip r:embed="rId3"/>
                  <a:stretch/>
                </p:blipFill>
                <p:spPr>
                  <a:xfrm>
                    <a:off x="189000" y="1752480"/>
                    <a:ext cx="8520120" cy="3497400"/>
                  </a:xfrm>
                  <a:prstGeom prst="rect">
                    <a:avLst/>
                  </a:prstGeom>
                  <a:ln w="0">
                    <a:noFill/>
                  </a:ln>
                </p:spPr>
              </p:pic>
            </p:oleObj>
          </a:graphicData>
        </a:graphic>
      </p:graphicFrame>
      <p:sp>
        <p:nvSpPr>
          <p:cNvPr id="2" name="PlaceHolder 1"/>
          <p:cNvSpPr>
            <a:spLocks noGrp="1"/>
          </p:cNvSpPr>
          <p:nvPr>
            <p:ph type="sldNum" idx="3"/>
          </p:nvPr>
        </p:nvSpPr>
        <p:spPr/>
        <p:txBody>
          <a:bodyPr/>
          <a:p>
            <a:fld id="{7D654A3D-8005-4070-B877-00E209085B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04920" y="155520"/>
            <a:ext cx="8410320" cy="6537240"/>
          </a:xfrm>
          <a:prstGeom prst="rect">
            <a:avLst/>
          </a:prstGeom>
          <a:noFill/>
          <a:ln w="0">
            <a:noFill/>
          </a:ln>
        </p:spPr>
        <p:style>
          <a:lnRef idx="0"/>
          <a:fillRef idx="0"/>
          <a:effectRef idx="0"/>
          <a:fontRef idx="minor"/>
        </p:style>
        <p:txBody>
          <a:bodyPr lIns="90000" rIns="90000" tIns="46800" bIns="46800" anchor="t">
            <a:spAutoFit/>
          </a:bodyPr>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hân loại của Ngân hàng Thế giới về thu nhập các nước (2003)</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 Nước có thu nhập thấp dưới 765 USD</a:t>
            </a:r>
            <a:endParaRPr b="0" lang="en-US" sz="1600" spc="-1" strike="noStrike">
              <a:solidFill>
                <a:srgbClr val="000000"/>
              </a:solidFill>
              <a:latin typeface="Times New Roman"/>
            </a:endParaRPr>
          </a:p>
          <a:p>
            <a:pPr marL="57240" indent="-5724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 Nước có thu nhập trung bình thấp từ 766 – 3035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 Nước có thu nhập trung bình cao từ 3036 – 9.385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4. Nước có thu nhập cao trên 9.386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ệt Nam: </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0:  403 USD/người</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3: 481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7: 835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Arial"/>
              </a:rPr>
              <a:t>Nam 2009: 1009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0: 1064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1: 1375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2 :1540/ngu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3: 1960/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600" spc="-1" strike="noStrike">
                <a:solidFill>
                  <a:srgbClr val="000000"/>
                </a:solidFill>
                <a:latin typeface="Times New Roman"/>
              </a:rPr>
              <a:t>ASEAN:</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0: 1128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3: 1267 USD/người</a:t>
            </a:r>
            <a:endParaRPr b="0" lang="en-US" sz="1600" spc="-1" strike="noStrike">
              <a:solidFill>
                <a:srgbClr val="000000"/>
              </a:solidFill>
              <a:latin typeface="Times New Roman"/>
            </a:endParaRPr>
          </a:p>
          <a:p>
            <a:pPr marL="57240" indent="-57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am 2009:2009,6 USD/ngu?i</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CCD0A93-AB03-4516-BA9E-7FBE4A8780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228600" y="268200"/>
            <a:ext cx="8610480" cy="6140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RIẾT LÝ KINH DOANH CỦA NỀN KINH TẾ  HÀNG HÓA </a:t>
            </a:r>
            <a:endParaRPr b="0" lang="en-US" sz="24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Times New Roman"/>
              </a:rPr>
              <a:t>Từ triết lý sản xuất vì giá trị sử dụng chuyển sang triết lý sản xuất để bán kiếm lời (hoặc mua hàng hóa để bán kiếm lời)</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CÓ 4 LUẬN ĐIỂM QUAN TRỌNG</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Khách hàng của doanh nghiệp bao giờ cũng ưa thích những sản phẩm phù hợp nhu cầu và thị hiếu  của họ =&gt; doanh nghiệp mnốn tồn tại phát triển phải tìm cái thị trường cần để bán (sản xuất)</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Khách hàng của doanh nghiệp bao giờ cũng ưa thích những sản phẩm có chất lượng cao nhưng giá lại hạ =&gt; khách hàng họ có sự cạnh tranh ể tìm đến thị trường có hàng tốt và rẻ.</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Doanh nghiệp sẽ không bán hết sản phẩm nếu doanh nghiệp không tổ chức tốt các dịch vụ trước, trong và sau khi bán.</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Nhiệm vụ của doanh nghiệp (nhà sản xuất – người bán) là phải luôn luôn củng cố thị trường và mở rộng thị trường mới =&gt; doanh nghiệp phải giữ “chữ tín” với khách hàn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3BA1256-F198-4FDC-9D0C-95B77819EF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228600" y="268200"/>
            <a:ext cx="8610480" cy="51613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THÀNH TỰU 7 NĂM GIA NHẬP WTO</a:t>
            </a:r>
            <a:r>
              <a:rPr b="0" lang="en-US" sz="2000" spc="-1" strike="noStrike">
                <a:solidFill>
                  <a:srgbClr val="ff3300"/>
                </a:solidFill>
                <a:latin typeface=".VnSouthernH"/>
              </a:rPr>
              <a:t>  </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ối cảnh kinh tế</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ăm 2007 – 2014, kinh tế Việt Nam gặp nhiều thuận lợi cũng như đối mặt với nhiều khó khă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uận Lợi: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Ổn định về các mặt kinh tế - xã hội trong giai đoạn 2007-2014.</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ị trường xuất khẩu được mở rộng</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guồn lực các năm trước được chuyển sang và kinh nghiệm của gần 30 năm đổi mới.</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hó khăn: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ên tai, dịch bệnh thời tiết biến đổi thất thường.</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ủng hoảng kinh tế toàn cầu, nợ công lan rộng tác động đến kinh tế Việt Nam</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cả hàng hoá biến động khó dự báo và kiểm soát…</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CAFAA0A-D593-4047-B907-39ABD2BB26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52280" y="66600"/>
            <a:ext cx="8915400" cy="679716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nSouthern"/>
              </a:rPr>
              <a:t>2. Th</a:t>
            </a:r>
            <a:r>
              <a:rPr b="1" lang="en-US" sz="2200" spc="-1" strike="noStrike">
                <a:solidFill>
                  <a:srgbClr val="000000"/>
                </a:solidFill>
                <a:latin typeface="Times New Roman"/>
              </a:rPr>
              <a:t>ành tựu:</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inh tế Việt Nam vẫn duy trì được chuỗi tăng trưởng ở mức cao:</a:t>
            </a:r>
            <a:endParaRPr b="0" lang="en-US" sz="2200" spc="-1" strike="noStrike">
              <a:solidFill>
                <a:srgbClr val="000000"/>
              </a:solidFill>
              <a:latin typeface="Times New Roman"/>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2007: 8.46%,2008:6.18%,2009:5.2%, 2010: 6,78% bình quân 4 năm khoảng 6.6%,2011:5,89,2012:5,2, 2013:5,5, 2014: 5,8.</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ơ cấu kinh tế chuyển dịch theo hướng tích cực phù hợp theo yêu cầu phát triển</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hu vực sản xuất nông nghiệp đạt được kết quả cao, sản lượng lúa ước tính 2009: 39.2 triệu tấn, xuất khẩu gạo đạt mức kỷ lục là 6 triệu tấn, năm 2010: 39,9 triệu tấn thóc, 44,5 triệu tấn lương thực,2011:42,2 triệu tấn thóc,2012:43,1 ,2013:43,5 triệu tấn thóc</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hu vực dịch vụ có tốc độ tăng trưởng ổn định: 2007:8.85%, 2008: 7.18%, 2009: 6.5%, 2010: 7,5%,2011:7,0%,2012:6,3%</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ốn đầu tư xã hội có tốc độ tăng trưởng cao, 2009 đạt 42.7%, năm 2010: 41%, năm 2011: 40% bình quân 2006-2010: 42,7%,2011:34,6%,2012:29,5,2013:29,7%</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ác nguồn vốn FDI vẫn duy trì được ở mức cao đặc biệt là năm 2008, 2009; năm 2008 vốn đăng ký là 64.01 tỷ USD, 2009 là 21.5 tỷ USD,năm 2011 vốn ĐT thực hiện 11 tỷ USD,2012:11,5 tỷ và  nguồn ODA 2008: 5.4 tỷ USD, 2009: 5.8 tỷ USD, 2010: 8.06 tỷ USD.</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2758994A-8242-4B7C-9B0A-CE62B86F78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122400" y="152280"/>
            <a:ext cx="8869320" cy="61246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 Những yếu kém:</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Nhịp độ tăng tưởng kinh tế còn dưới mức khả năng phát triển của đất nước; chất lượng phát triển còn thấp năng lực cạnh tranh của nền kinh tế còn yếu.</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Chuyển dịch cơ cấu kinh tế chậm, chưa phát huy thế mạnh trong từng ngành, từng vùng, từng sản phẩm.</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Thâm hụt thương mại ở mức cao, 2009 là 12 tỷ USD=13%GDP, 2011:9,844 tỷ USD=10,2% đến năm 2012 lần đầu tiên Việt Nam xuất siêu được gần 800 triệu USD, và 2013 Việt Nam xuất siêu trên 800 triệu.</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Hàng tồn kho lớn, sức tiêu thụ thấp, doanh nghiệp khó tiếp cận với các nguồn vốn</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Thâm hụt ngân sách/Nợ tăng, công nợ/GDP lớ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02F623E1-DB98-4DB3-BFF2-243820953B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343080" y="284040"/>
            <a:ext cx="8410320" cy="6110640"/>
          </a:xfrm>
          <a:prstGeom prst="rect">
            <a:avLst/>
          </a:prstGeom>
          <a:noFill/>
          <a:ln w="0">
            <a:noFill/>
          </a:ln>
        </p:spPr>
        <p:style>
          <a:lnRef idx="0"/>
          <a:fillRef idx="0"/>
          <a:effectRef idx="0"/>
          <a:fontRef idx="minor"/>
        </p:style>
        <p:txBody>
          <a:bodyPr lIns="90000" rIns="90000" tIns="46800" bIns="46800" anchor="t">
            <a:spAutoFit/>
          </a:bodyPr>
          <a:p>
            <a:pPr marL="57240" indent="-5724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ành quả đổi mới to lớn nhưng sự hưởng lợi được chia theo 10 tầng lớp dân cư khác nhau theo thứ tự sau:</a:t>
            </a:r>
            <a:endParaRPr b="0" lang="en-US" sz="24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án bộ Đảng và chính quyền là người được lợi nhiều nhất.</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hủ doanh nghiệp tư nh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Văn nghệ sĩ, vận động viê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Là hộ cá thể ở thành phố</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Là giám đốc và người quản lý DNN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à nhân viên kỹ thuật chuyên mô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Là giáo viê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Là nông d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Là công nh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Là các thành phần khác</a:t>
            </a:r>
            <a:endParaRPr b="0" lang="en-US" sz="2000" spc="-1" strike="noStrike">
              <a:solidFill>
                <a:srgbClr val="000000"/>
              </a:solidFill>
              <a:latin typeface="Times New Roman"/>
            </a:endParaRPr>
          </a:p>
          <a:p>
            <a:pPr marL="57240" indent="-57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ện Điều tra XHH Trung Quốc 4/2004</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6EB00F3-C813-49B6-9D82-FBCE312C9F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50840" y="23760"/>
            <a:ext cx="8839080" cy="665136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1500"/>
              </a:spcBef>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iá tiền công của Việt Nam so với các nước (Dệt may)</a:t>
            </a:r>
            <a:endParaRPr b="0" lang="en-US" sz="2400" spc="-1" strike="noStrike">
              <a:solidFill>
                <a:srgbClr val="000000"/>
              </a:solidFill>
              <a:latin typeface="Times New Roman"/>
            </a:endParaRPr>
          </a:p>
          <a:p>
            <a:pPr marL="57240" indent="-57240" algn="r">
              <a:lnSpc>
                <a:spcPct val="160000"/>
              </a:lnSpc>
              <a:spcBef>
                <a:spcPts val="1500"/>
              </a:spcBef>
              <a:tabLst>
                <a:tab algn="l" pos="0"/>
                <a:tab algn="l" pos="257184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ền gia công lao động USD/giờ</a:t>
            </a:r>
            <a:endParaRPr b="0" lang="en-US" sz="24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Việt Nam: </a:t>
            </a:r>
            <a:r>
              <a:rPr b="0" lang="en-US" sz="2000" spc="-1" strike="noStrike">
                <a:solidFill>
                  <a:srgbClr val="000000"/>
                </a:solidFill>
                <a:latin typeface="Times New Roman"/>
              </a:rPr>
              <a:t>	</a:t>
            </a:r>
            <a:r>
              <a:rPr b="0" lang="en-US" sz="2000" spc="-1" strike="noStrike">
                <a:solidFill>
                  <a:srgbClr val="000000"/>
                </a:solidFill>
                <a:latin typeface="Times New Roman"/>
              </a:rPr>
              <a:t>0,16</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ndonexia:</a:t>
            </a:r>
            <a:r>
              <a:rPr b="0" lang="en-US" sz="2000" spc="-1" strike="noStrike">
                <a:solidFill>
                  <a:srgbClr val="000000"/>
                </a:solidFill>
                <a:latin typeface="Times New Roman"/>
              </a:rPr>
              <a:t>	</a:t>
            </a:r>
            <a:r>
              <a:rPr b="0" lang="en-US" sz="2000" spc="-1" strike="noStrike">
                <a:solidFill>
                  <a:srgbClr val="000000"/>
                </a:solidFill>
                <a:latin typeface="Times New Roman"/>
              </a:rPr>
              <a:t>0,32</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Malaixia: </a:t>
            </a:r>
            <a:r>
              <a:rPr b="0" lang="en-US" sz="2000" spc="-1" strike="noStrike">
                <a:solidFill>
                  <a:srgbClr val="000000"/>
                </a:solidFill>
                <a:latin typeface="Times New Roman"/>
              </a:rPr>
              <a:t>	</a:t>
            </a:r>
            <a:r>
              <a:rPr b="0" lang="en-US" sz="2000" spc="-1" strike="noStrike">
                <a:solidFill>
                  <a:srgbClr val="000000"/>
                </a:solidFill>
                <a:latin typeface="Times New Roman"/>
              </a:rPr>
              <a:t>1,13</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Pakistan: </a:t>
            </a:r>
            <a:r>
              <a:rPr b="0" lang="en-US" sz="2000" spc="-1" strike="noStrike">
                <a:solidFill>
                  <a:srgbClr val="000000"/>
                </a:solidFill>
                <a:latin typeface="Times New Roman"/>
              </a:rPr>
              <a:t>	</a:t>
            </a:r>
            <a:r>
              <a:rPr b="0" lang="en-US" sz="2000" spc="-1" strike="noStrike">
                <a:solidFill>
                  <a:srgbClr val="000000"/>
                </a:solidFill>
                <a:latin typeface="Times New Roman"/>
              </a:rPr>
              <a:t>0,37</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Ấn Độ: </a:t>
            </a:r>
            <a:r>
              <a:rPr b="0" lang="en-US" sz="2000" spc="-1" strike="noStrike">
                <a:solidFill>
                  <a:srgbClr val="000000"/>
                </a:solidFill>
                <a:latin typeface="Times New Roman"/>
              </a:rPr>
              <a:t>	</a:t>
            </a:r>
            <a:r>
              <a:rPr b="0" lang="en-US" sz="2000" spc="-1" strike="noStrike">
                <a:solidFill>
                  <a:srgbClr val="000000"/>
                </a:solidFill>
                <a:latin typeface="Times New Roman"/>
              </a:rPr>
              <a:t>0,58</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Trung Quốc: </a:t>
            </a:r>
            <a:r>
              <a:rPr b="0" lang="en-US" sz="2000" spc="-1" strike="noStrike">
                <a:solidFill>
                  <a:srgbClr val="000000"/>
                </a:solidFill>
                <a:latin typeface="Times New Roman"/>
              </a:rPr>
              <a:t>	</a:t>
            </a:r>
            <a:r>
              <a:rPr b="0" lang="en-US" sz="2000" spc="-1" strike="noStrike">
                <a:solidFill>
                  <a:srgbClr val="000000"/>
                </a:solidFill>
                <a:latin typeface="Times New Roman"/>
              </a:rPr>
              <a:t>0,70</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Singapo: </a:t>
            </a:r>
            <a:r>
              <a:rPr b="0" lang="en-US" sz="2000" spc="-1" strike="noStrike">
                <a:solidFill>
                  <a:srgbClr val="000000"/>
                </a:solidFill>
                <a:latin typeface="Times New Roman"/>
              </a:rPr>
              <a:t>	</a:t>
            </a:r>
            <a:r>
              <a:rPr b="0" lang="en-US" sz="2000" spc="-1" strike="noStrike">
                <a:solidFill>
                  <a:srgbClr val="000000"/>
                </a:solidFill>
                <a:latin typeface="Times New Roman"/>
              </a:rPr>
              <a:t>3,16</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ệt Nam thấp hơn các nước Đông Nam á: 2 – 18 lần)</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với các nước </a:t>
            </a:r>
            <a:r>
              <a:rPr b="0" lang="en-US" sz="2000" spc="-1" strike="noStrike">
                <a:solidFill>
                  <a:srgbClr val="000000"/>
                </a:solidFill>
                <a:latin typeface="Times New Roman"/>
              </a:rPr>
              <a:t>	</a:t>
            </a:r>
            <a:r>
              <a:rPr b="0" lang="en-US" sz="2000" spc="-1" strike="noStrike">
                <a:solidFill>
                  <a:srgbClr val="000000"/>
                </a:solidFill>
                <a:latin typeface="Times New Roman"/>
              </a:rPr>
              <a:t>Đức: 25,56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hật: 19,2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ỹ: 16,73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ì giá gia công Việt Nam: 0,16 – 0,19 USD/giờ – thấp hơn 100 – 150 lần</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36C3E07-B8D9-4037-9D41-AD7CF1FCCD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379440" y="220680"/>
            <a:ext cx="8610480" cy="630180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ố lượng doanh nghiệp tính đầu người</a:t>
            </a:r>
            <a:endParaRPr b="0" lang="en-US" sz="32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ế giới 50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riết Giang – Trung Quốc: 200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ustraylia 21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ức: 13người/1DN</a:t>
            </a:r>
            <a:endParaRPr b="0" lang="en-US" sz="2800" spc="-1" strike="noStrike">
              <a:solidFill>
                <a:srgbClr val="000000"/>
              </a:solidFill>
              <a:latin typeface="Times New Roman"/>
            </a:endParaRPr>
          </a:p>
          <a:p>
            <a:pPr marL="57240" indent="-57240" algn="just">
              <a:lnSpc>
                <a:spcPct val="16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ồng Kông: 5người/1DN</a:t>
            </a:r>
            <a:endParaRPr b="0" lang="en-US" sz="2800" spc="-1" strike="noStrike">
              <a:solidFill>
                <a:srgbClr val="000000"/>
              </a:solidFill>
              <a:latin typeface="Times New Roman"/>
            </a:endParaRPr>
          </a:p>
          <a:p>
            <a:pPr marL="57240" indent="-57240" algn="just">
              <a:lnSpc>
                <a:spcPct val="16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t Nam: 350 người/ DN</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C0510B6-2D13-479E-825C-560B55CCB5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1752480" y="53352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ỘI DUNG MÔN HỌC</a:t>
            </a:r>
            <a:endParaRPr b="0" lang="en-US" sz="4000" spc="-1" strike="noStrike">
              <a:solidFill>
                <a:srgbClr val="000000"/>
              </a:solidFill>
              <a:latin typeface="Times New Roman"/>
            </a:endParaRPr>
          </a:p>
        </p:txBody>
      </p:sp>
      <p:sp>
        <p:nvSpPr>
          <p:cNvPr id="115" name=""/>
          <p:cNvSpPr/>
          <p:nvPr/>
        </p:nvSpPr>
        <p:spPr>
          <a:xfrm>
            <a:off x="533520" y="1905120"/>
            <a:ext cx="8610480" cy="5031720"/>
          </a:xfrm>
          <a:prstGeom prst="rect">
            <a:avLst/>
          </a:prstGeom>
          <a:noFill/>
          <a:ln w="0">
            <a:noFill/>
          </a:ln>
        </p:spPr>
        <p:style>
          <a:lnRef idx="0"/>
          <a:fillRef idx="0"/>
          <a:effectRef idx="0"/>
          <a:fontRef idx="minor"/>
        </p:style>
        <p:txBody>
          <a:bodyPr lIns="90000" rIns="90000" tIns="46800" bIns="46800" anchor="t">
            <a:spAutoFit/>
          </a:bodyPr>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1: </a:t>
            </a:r>
            <a:r>
              <a:rPr b="1" lang="en-US" sz="1800" spc="-1" strike="noStrike">
                <a:solidFill>
                  <a:srgbClr val="000000"/>
                </a:solidFill>
                <a:latin typeface="Times New Roman"/>
              </a:rPr>
              <a:t>	</a:t>
            </a:r>
            <a:r>
              <a:rPr b="1" lang="en-US" sz="1800" spc="-1" strike="noStrike">
                <a:solidFill>
                  <a:srgbClr val="000000"/>
                </a:solidFill>
                <a:latin typeface="Times New Roman"/>
              </a:rPr>
              <a:t>TỔNG QUAN VỀ KINH DOANH DỊCH VỤ TRONG NỀN KTTT</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2: </a:t>
            </a:r>
            <a:r>
              <a:rPr b="1" lang="en-US" sz="1800" spc="-1" strike="noStrike">
                <a:solidFill>
                  <a:srgbClr val="000000"/>
                </a:solidFill>
                <a:latin typeface="Times New Roman"/>
              </a:rPr>
              <a:t>	</a:t>
            </a:r>
            <a:r>
              <a:rPr b="1" lang="en-US" sz="1800" spc="-1" strike="noStrike">
                <a:solidFill>
                  <a:srgbClr val="000000"/>
                </a:solidFill>
                <a:latin typeface="Times New Roman"/>
              </a:rPr>
              <a:t>THỊ TRƯỜNG VÀ THƯƠNG MẠI VIỆT NAM QUA CÁC THỜI KỲ PHÁT TRIỂN</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3: </a:t>
            </a:r>
            <a:r>
              <a:rPr b="1" lang="en-US" sz="1800" spc="-1" strike="noStrike">
                <a:solidFill>
                  <a:srgbClr val="000000"/>
                </a:solidFill>
                <a:latin typeface="Times New Roman"/>
              </a:rPr>
              <a:t>	</a:t>
            </a:r>
            <a:r>
              <a:rPr b="1" lang="en-US" sz="1800" spc="-1" strike="noStrike">
                <a:solidFill>
                  <a:srgbClr val="000000"/>
                </a:solidFill>
                <a:latin typeface="Times New Roman"/>
              </a:rPr>
              <a:t>CHÍNH SÁCH QUẢN LÝ THƯƠNG MẠI</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4: </a:t>
            </a:r>
            <a:r>
              <a:rPr b="1" lang="en-US" sz="1800" spc="-1" strike="noStrike">
                <a:solidFill>
                  <a:srgbClr val="000000"/>
                </a:solidFill>
                <a:latin typeface="Times New Roman"/>
              </a:rPr>
              <a:t>	</a:t>
            </a:r>
            <a:r>
              <a:rPr b="1" lang="en-US" sz="1800" spc="-1" strike="noStrike">
                <a:solidFill>
                  <a:srgbClr val="000000"/>
                </a:solidFill>
                <a:latin typeface="Times New Roman"/>
              </a:rPr>
              <a:t>TỔ CHỨC VÀ QUẢN LÝ HOẠT ĐỘNG THƯƠNG MẠI CỦA DNSX</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5: </a:t>
            </a:r>
            <a:r>
              <a:rPr b="1" lang="en-US" sz="1800" spc="-1" strike="noStrike">
                <a:solidFill>
                  <a:srgbClr val="000000"/>
                </a:solidFill>
                <a:latin typeface="Times New Roman"/>
              </a:rPr>
              <a:t>	</a:t>
            </a:r>
            <a:r>
              <a:rPr b="1" lang="en-US" sz="1800" spc="-1" strike="noStrike">
                <a:solidFill>
                  <a:srgbClr val="000000"/>
                </a:solidFill>
                <a:latin typeface="Times New Roman"/>
              </a:rPr>
              <a:t>QUẢN LÝ DỰ TRỮ SẢN XUẤT CỦA DOANH NGHIỆP</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6: </a:t>
            </a:r>
            <a:r>
              <a:rPr b="1" lang="en-US" sz="1800" spc="-1" strike="noStrike">
                <a:solidFill>
                  <a:srgbClr val="000000"/>
                </a:solidFill>
                <a:latin typeface="Times New Roman"/>
              </a:rPr>
              <a:t>	</a:t>
            </a:r>
            <a:r>
              <a:rPr b="1" lang="en-US" sz="1800" spc="-1" strike="noStrike">
                <a:solidFill>
                  <a:srgbClr val="000000"/>
                </a:solidFill>
                <a:latin typeface="Times New Roman"/>
              </a:rPr>
              <a:t>TỔ CHỨC KINH DOANH HÀNG HÓA  TRONG CƠ CHẾ THỊ TRƯỜNG</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7: </a:t>
            </a:r>
            <a:r>
              <a:rPr b="1" lang="en-US" sz="1800" spc="-1" strike="noStrike">
                <a:solidFill>
                  <a:srgbClr val="000000"/>
                </a:solidFill>
                <a:latin typeface="Times New Roman"/>
              </a:rPr>
              <a:t>	</a:t>
            </a:r>
            <a:r>
              <a:rPr b="1" lang="en-US" sz="1800" spc="-1" strike="noStrike">
                <a:solidFill>
                  <a:srgbClr val="000000"/>
                </a:solidFill>
                <a:latin typeface="Times New Roman"/>
              </a:rPr>
              <a:t>DỊCH VỤ THƯƠNG MẠI</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8: </a:t>
            </a:r>
            <a:r>
              <a:rPr b="1" lang="en-US" sz="1800" spc="-1" strike="noStrike">
                <a:solidFill>
                  <a:srgbClr val="000000"/>
                </a:solidFill>
                <a:latin typeface="Times New Roman"/>
              </a:rPr>
              <a:t>	</a:t>
            </a:r>
            <a:r>
              <a:rPr b="1" lang="en-US" sz="1800" spc="-1" strike="noStrike">
                <a:solidFill>
                  <a:srgbClr val="000000"/>
                </a:solidFill>
                <a:latin typeface="Times New Roman"/>
              </a:rPr>
              <a:t>LOGISTICS VÀ DỊCH VỤ LOGISTICS</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9:</a:t>
            </a:r>
            <a:r>
              <a:rPr b="1" lang="en-US" sz="1800" spc="-1" strike="noStrike">
                <a:solidFill>
                  <a:srgbClr val="000000"/>
                </a:solidFill>
                <a:latin typeface="Times New Roman"/>
              </a:rPr>
              <a:t>	</a:t>
            </a:r>
            <a:r>
              <a:rPr b="1" lang="en-US" sz="1800" spc="-1" strike="noStrike">
                <a:solidFill>
                  <a:srgbClr val="000000"/>
                </a:solidFill>
                <a:latin typeface="Times New Roman"/>
              </a:rPr>
              <a:t>HẠCH TOÁN KINH DOANH VÀ HIỆU QUẢ KINH TẾ TRONG TM</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D556B1C-401E-417E-8299-C5BE2C0704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228600" y="117360"/>
            <a:ext cx="8610480" cy="6537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ĐỂ THỰC HIỆN MỤC TIÊU ĐẾN NĂM 2020: “VIỆT NAM TRỞ THÀNH MỘT NƯỚC CÔNG NGHIỆP THEO HƯỚNG PHÁT TRIỂ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1</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Cơ sở hạ tầng thiếu thốn và yếu ké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u nhập trong nông nghiệp tăng chậ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Chưa huy động được nguồn lực trong nướ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Một hệ thống tài chính chậm phát triển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 Môi trường pháp lý và quy chế chưa thích hợp với nền kinh tế thị </a:t>
            </a:r>
            <a:r>
              <a:rPr b="0" lang="en-US" sz="2000" spc="-1" strike="noStrike">
                <a:solidFill>
                  <a:srgbClr val="000000"/>
                </a:solidFill>
                <a:latin typeface="Times New Roman"/>
              </a:rPr>
              <a:t>	</a:t>
            </a:r>
            <a:r>
              <a:rPr b="0" lang="en-US" sz="2000" spc="-1" strike="noStrike">
                <a:solidFill>
                  <a:srgbClr val="000000"/>
                </a:solidFill>
                <a:latin typeface="Times New Roman"/>
              </a:rPr>
              <a:t>    trường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2</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Buôn lậu</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am nhũng</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Quan hệ Việt – Mỹ</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DB921BB-7E37-41F2-9FDB-0C5B802C18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228600" y="324000"/>
            <a:ext cx="8610480" cy="6069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Kinh doanh và những nguyên tắc bảo đảm sự thành công của kinh doanh trên thương trường</a:t>
            </a:r>
            <a:endParaRPr b="0" lang="en-US" sz="24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 Kinh doanh </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nh doanh là việc thực hiện một, một số hoặc tất cả các công đoạn của quá trình đầu tư, từ  sản xuất đến tiêu thụ sản phẩm hoặc cung cấp dịch vụ trên thị trường nhằm mục đích sinh lời.</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ục tiêu của kinh doanh là: lợi nhuận (p)</a:t>
            </a:r>
            <a:endParaRPr b="0" lang="en-US" sz="1600" spc="-1" strike="noStrike">
              <a:solidFill>
                <a:srgbClr val="000000"/>
              </a:solidFill>
              <a:latin typeface="Times New Roman"/>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 = DT – CP</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Đối với DNTM thường có 5 mục tiêu:</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hách hàng</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Đổi mới</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hất lượng</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ạnh tranh</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ợi nhuận</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Quy tắc của thị trường, từ: P = DT – CP</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án ra nhiều hơn – Chi phí = Lợi nhuận nhiều hơn</a:t>
            </a:r>
            <a:endParaRPr b="0" lang="en-US" sz="1600" spc="-1" strike="noStrike">
              <a:solidFill>
                <a:srgbClr val="000000"/>
              </a:solidFill>
              <a:latin typeface="Times New Roman"/>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a:t>
            </a:r>
            <a:endParaRPr b="0" lang="en-US" sz="1600" spc="-1" strike="noStrike">
              <a:solidFill>
                <a:srgbClr val="000000"/>
              </a:solidFill>
              <a:latin typeface="Times New Roman"/>
            </a:endParaRPr>
          </a:p>
        </p:txBody>
      </p:sp>
      <p:graphicFrame>
        <p:nvGraphicFramePr>
          <p:cNvPr id="142" name=""/>
          <p:cNvGraphicFramePr/>
          <p:nvPr/>
        </p:nvGraphicFramePr>
        <p:xfrm>
          <a:off x="609480" y="6114960"/>
          <a:ext cx="6400800" cy="590760"/>
        </p:xfrm>
        <a:graphic>
          <a:graphicData uri="http://schemas.openxmlformats.org/presentationml/2006/ole">
            <p:oleObj progId="Excel.Sheet.12" r:id="rId2" spid="">
              <p:embed/>
              <p:pic>
                <p:nvPicPr>
                  <p:cNvPr id="143" name="" descr=""/>
                  <p:cNvPicPr/>
                  <p:nvPr/>
                </p:nvPicPr>
                <p:blipFill>
                  <a:blip r:embed="rId3"/>
                  <a:stretch/>
                </p:blipFill>
                <p:spPr>
                  <a:xfrm>
                    <a:off x="609480" y="6114960"/>
                    <a:ext cx="6400800" cy="590760"/>
                  </a:xfrm>
                  <a:prstGeom prst="rect">
                    <a:avLst/>
                  </a:prstGeom>
                  <a:ln w="0">
                    <a:noFill/>
                  </a:ln>
                </p:spPr>
              </p:pic>
            </p:oleObj>
          </a:graphicData>
        </a:graphic>
      </p:graphicFrame>
      <p:sp>
        <p:nvSpPr>
          <p:cNvPr id="2" name="PlaceHolder 1"/>
          <p:cNvSpPr>
            <a:spLocks noGrp="1"/>
          </p:cNvSpPr>
          <p:nvPr>
            <p:ph type="sldNum" idx="3"/>
          </p:nvPr>
        </p:nvSpPr>
        <p:spPr/>
        <p:txBody>
          <a:bodyPr/>
          <a:p>
            <a:fld id="{6F020AE9-293B-4207-A39F-7DA3BD0582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228600" y="324000"/>
            <a:ext cx="8610480" cy="578772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ạnh tranh: </a:t>
            </a:r>
            <a:endParaRPr b="0" lang="en-US" sz="24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eo C.Mác: “Cạnh tranh là sự ganh đua, sự đấu tranh gay gắt giữa các nhà tư bản nhằm giành giật những điều kiện thuận lợi trong sản xuất và tiêu thụ hàng hóa để thu được nhiều lợi nhuận siêu sạch”.</a:t>
            </a:r>
            <a:endParaRPr b="0" lang="en-US" sz="24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o từ điển kinh tế (1992) Anh:</a:t>
            </a:r>
            <a:endParaRPr b="0" lang="en-US" sz="2400" spc="-1" strike="noStrike">
              <a:solidFill>
                <a:srgbClr val="000000"/>
              </a:solidFill>
              <a:latin typeface="Times New Roman"/>
            </a:endParaRPr>
          </a:p>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ạnh tranh, đó là sự ganh đua, sự kinh dịch giữa các nhà kinh doanh trên thị trường nhằm tranh giành cùng một loại tài nguyên sản xuất hoặc cùng một loại khách hàng về phía mìn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Cạnh tranh là sự ganh đua giữa các nhà doanh nghiệp trong việc giành giật thị trường và khách hà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698280A-0DE2-4AA7-BCD7-8FE195723B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228600" y="324000"/>
            <a:ext cx="8610480" cy="531612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ốn chức năng của cạnh tranh</a:t>
            </a:r>
            <a:endParaRPr b="0" lang="en-US" sz="28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ạnh tranh làm giá thị trường giảm xuống</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ạnh tranh buộc các doanh nghiệp phải tối ưu hóa đầu vào</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ạnh tranh buộc các doanh nghiệp phải không ngừng ứng dụng các thành tựu khoa học kỹ thuật để nâng cao chất lượng sản phẩm, hạ giá bán trên thị trường =&gt; giữ chữ tín với khách hàng.</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ông cụ trước quyền thống trị về kinh tế trong lịch sử</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F76F6CE-A33C-40B0-B7FF-662C0AE776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28600" y="324000"/>
            <a:ext cx="8610480" cy="629676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ác nguyên tắc bảo đảm sự thành công của kinh doanh trên thương trường:</a:t>
            </a:r>
            <a:endParaRPr b="0" lang="en-US" sz="24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hải kinh doanh những hàng hóa,</a:t>
            </a:r>
            <a:r>
              <a:rPr b="0" lang="en-US" sz="2200" spc="-1" strike="noStrike">
                <a:solidFill>
                  <a:srgbClr val="000000"/>
                </a:solidFill>
                <a:latin typeface="Times New Roman"/>
              </a:rPr>
              <a:t> dịch vụ có chất lượng cao đáp ứng nhu cầu khách hàng.</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Trong kinh doanh, trước hết phải lôi cuốn khách hàng rồi sau đó mới nghĩ tới cạnh tranh.</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Trong kinh doanh, mỗi khi làm lợi cho mình thì đồng thời phải làm lợi cho khách hàng</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Nghiên cứu và tìm cho được thị trường đang lên và tìm cách chiếm lĩnh lấy thị trường đó.</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Đầu tư vào tài năng và nguồn lực nhất là nguồn lực về lao động để tạo ra nhiều giá trị sản phẩm dịch vụ.</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Nhận thức và nắm cho được nhu cầu thị trường để đáp ứng đầy đủ (tìm mọi cách đáp ứng cho được nhu cầu đó).</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2E65835B-C30C-4B81-B031-E8332AFC2A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228600" y="324000"/>
            <a:ext cx="8610480" cy="45972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Nghệ thuật kinh doanh </a:t>
            </a:r>
            <a:endParaRPr b="0" lang="en-US" sz="2400" spc="-1" strike="noStrike">
              <a:solidFill>
                <a:srgbClr val="000000"/>
              </a:solidFill>
              <a:latin typeface="Times New Roman"/>
            </a:endParaRPr>
          </a:p>
        </p:txBody>
      </p:sp>
      <p:sp>
        <p:nvSpPr>
          <p:cNvPr id="148" name=""/>
          <p:cNvSpPr/>
          <p:nvPr/>
        </p:nvSpPr>
        <p:spPr>
          <a:xfrm>
            <a:off x="2171880" y="1243080"/>
            <a:ext cx="1990440" cy="1895400"/>
          </a:xfrm>
          <a:prstGeom prst="ellipse">
            <a:avLst/>
          </a:prstGeom>
          <a:blipFill rotWithShape="0">
            <a:blip r:embed="rId2"/>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ức mạnh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ềm lự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anh nghiệp)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a:off x="6467400" y="1243080"/>
            <a:ext cx="1990800" cy="1895400"/>
          </a:xfrm>
          <a:prstGeom prst="ellipse">
            <a:avLst/>
          </a:prstGeom>
          <a:blipFill rotWithShape="0">
            <a:blip r:embed="rId3"/>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ài thao lượ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inh doanh </a:t>
            </a:r>
            <a:endParaRPr b="0" lang="en-US" sz="2000" spc="-1" strike="noStrike">
              <a:solidFill>
                <a:srgbClr val="000000"/>
              </a:solidFill>
              <a:latin typeface="Times New Roman"/>
            </a:endParaRPr>
          </a:p>
        </p:txBody>
      </p:sp>
      <p:sp>
        <p:nvSpPr>
          <p:cNvPr id="150" name=""/>
          <p:cNvSpPr/>
          <p:nvPr/>
        </p:nvSpPr>
        <p:spPr>
          <a:xfrm>
            <a:off x="4629240" y="4505400"/>
            <a:ext cx="1990800" cy="1895400"/>
          </a:xfrm>
          <a:prstGeom prst="ellipse">
            <a:avLst/>
          </a:prstGeom>
          <a:blipFill rotWithShape="0">
            <a:blip r:embed="rId4"/>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í mậ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inh doanh </a:t>
            </a:r>
            <a:endParaRPr b="0" lang="en-US" sz="2000" spc="-1" strike="noStrike">
              <a:solidFill>
                <a:srgbClr val="000000"/>
              </a:solidFill>
              <a:latin typeface="Times New Roman"/>
            </a:endParaRPr>
          </a:p>
        </p:txBody>
      </p:sp>
      <p:sp>
        <p:nvSpPr>
          <p:cNvPr id="151" name=""/>
          <p:cNvSpPr/>
          <p:nvPr/>
        </p:nvSpPr>
        <p:spPr>
          <a:xfrm>
            <a:off x="4181400" y="2209680"/>
            <a:ext cx="2295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591000" y="3105000"/>
            <a:ext cx="1247760" cy="172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6362640" y="3105000"/>
            <a:ext cx="1495440" cy="1695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28600" y="4645080"/>
            <a:ext cx="4543560" cy="107820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ức mạnh của doanh nghiệp, nhà kinh doanh </a:t>
            </a:r>
            <a:endParaRPr b="0" lang="en-US" sz="1600" spc="-1" strike="noStrike">
              <a:solidFill>
                <a:srgbClr val="000000"/>
              </a:solidFill>
              <a:latin typeface="Times New Roman"/>
            </a:endParaRPr>
          </a:p>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Tài thao lược kinh doanh </a:t>
            </a:r>
            <a:endParaRPr b="0" lang="en-US" sz="1600" spc="-1" strike="noStrike">
              <a:solidFill>
                <a:srgbClr val="000000"/>
              </a:solidFill>
              <a:latin typeface="Times New Roman"/>
            </a:endParaRPr>
          </a:p>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Bí mật trong kinh doanh </a:t>
            </a:r>
            <a:endParaRPr b="0" lang="en-US" sz="1600" spc="-1" strike="noStrike">
              <a:solidFill>
                <a:srgbClr val="000000"/>
              </a:solidFill>
              <a:latin typeface="Times New Roman"/>
            </a:endParaRPr>
          </a:p>
        </p:txBody>
      </p:sp>
      <p:sp>
        <p:nvSpPr>
          <p:cNvPr id="155" name=""/>
          <p:cNvSpPr/>
          <p:nvPr/>
        </p:nvSpPr>
        <p:spPr>
          <a:xfrm>
            <a:off x="3352680" y="3238560"/>
            <a:ext cx="4543560" cy="398880"/>
          </a:xfrm>
          <a:prstGeom prst="rect">
            <a:avLst/>
          </a:prstGeom>
          <a:noFill/>
          <a:ln w="0">
            <a:noFill/>
          </a:ln>
        </p:spPr>
        <p:style>
          <a:lnRef idx="0"/>
          <a:fillRef idx="0"/>
          <a:effectRef idx="0"/>
          <a:fontRef idx="minor"/>
        </p:style>
        <p:txBody>
          <a:bodyPr lIns="90000" rIns="90000" tIns="46800" bIns="46800" anchor="t">
            <a:spAutoFit/>
          </a:bodyPr>
          <a:p>
            <a:pPr marL="519120" indent="-51912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ghệ thuật kinh doanh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E6C5FE7-3A23-4722-AC48-9C4D77CE13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228600" y="324000"/>
            <a:ext cx="8610480" cy="60480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28600" y="324000"/>
            <a:ext cx="8610480" cy="4533120"/>
          </a:xfrm>
          <a:prstGeom prst="rect">
            <a:avLst/>
          </a:prstGeom>
          <a:noFill/>
          <a:ln w="0">
            <a:noFill/>
          </a:ln>
        </p:spPr>
        <p:style>
          <a:lnRef idx="0"/>
          <a:fillRef idx="0"/>
          <a:effectRef idx="0"/>
          <a:fontRef idx="minor"/>
        </p:style>
        <p:txBody>
          <a:bodyPr lIns="90000" rIns="90000" tIns="46800" bIns="46800" anchor="t">
            <a:spAutoFit/>
          </a:bodyPr>
          <a:p>
            <a:pPr marL="577800" indent="-5778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ẤN ĐỀ THỨ BA:</a:t>
            </a:r>
            <a:r>
              <a:rPr b="1"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577800" indent="-5778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NH TẾ THỊ TRƯỜNG GIẢI QUYẾT CÁC VẤN ĐỀ </a:t>
            </a:r>
            <a:endParaRPr b="0" lang="en-US" sz="2400" spc="-1" strike="noStrike">
              <a:solidFill>
                <a:srgbClr val="000000"/>
              </a:solidFill>
              <a:latin typeface="Times New Roman"/>
            </a:endParaRPr>
          </a:p>
          <a:p>
            <a:pPr marL="577800" indent="-5778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Ơ BẢN KINH DOANH CỦA DOANH NGHIỆP </a:t>
            </a:r>
            <a:endParaRPr b="0" lang="en-US" sz="2400" spc="-1" strike="noStrike">
              <a:solidFill>
                <a:srgbClr val="000000"/>
              </a:solidFill>
              <a:latin typeface="Times New Roman"/>
            </a:endParaRPr>
          </a:p>
          <a:p>
            <a:pPr marL="577800" indent="-5778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ghiên cứu lịch sử các phương án (kỹ thuật)</a:t>
            </a:r>
            <a:endParaRPr b="0" lang="en-US" sz="24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Nhiệm vụ của doanh nghiệp trong hệ thống thị trường </a:t>
            </a:r>
            <a:endParaRPr b="0" lang="en-US" sz="24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ợi ích của phát triển kinh doanh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1B05B03-7B96-44F4-B145-19286722DA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289080" y="82440"/>
            <a:ext cx="8610480" cy="656892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Các phương án giải quyết các vấn đề kinh doanh của doanh nghiệp </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ừ khi tồn tại xã hội loài người đến nay đã và đang tồn tại 3 phương án:</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hương án cổ truyền</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hương án chỉ huy</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hương án hệ thống thị trường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2BC163B-BD73-412F-ABFF-4364123EB3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231840" y="82440"/>
            <a:ext cx="8610480" cy="568692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iệm vụ của doanh nghiệp trong hệ thống thị trường: </a:t>
            </a:r>
            <a:endParaRPr b="0" lang="en-US" sz="28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Huy động và sử dụng có hiệu quả các nguồn lực để sản xuất kinh doanh các hàng hóa dịch vụ cần thiết nhằm thoả mãn nhu cầu xã hội (nguồn lực hữu hình, vô hình) </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Mọi hoạt động sản xuất kinh doanh đòi hỏi doanh nghiệp phải xác định được phương pháp sản xuất kinh doanh có hiệu quả nhất.</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anh nghiệp phải tổ chức tốt quá trình phân phối hàng hóa dịch vụ, kể cả các lợi ích trong doanh nghiệp.</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Không ngừng hoàn thiện bộ máy quản lý và m ạng lưới kinh doanh của doanh nghiệp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BB1CC42-74DB-40F3-A04E-4AC8A0AA0A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289080" y="318960"/>
            <a:ext cx="8610480" cy="5744160"/>
          </a:xfrm>
          <a:prstGeom prst="rect">
            <a:avLst/>
          </a:prstGeom>
          <a:noFill/>
          <a:ln w="0">
            <a:noFill/>
          </a:ln>
        </p:spPr>
        <p:style>
          <a:lnRef idx="0"/>
          <a:fillRef idx="0"/>
          <a:effectRef idx="0"/>
          <a:fontRef idx="minor"/>
        </p:style>
        <p:txBody>
          <a:bodyPr lIns="90000" rIns="90000" tIns="46800" bIns="46800" anchor="t">
            <a:spAutoFit/>
          </a:bodyPr>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Lợi ích của thương mại và logistics</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Các nhân tố ảnh hưởng trực tiếp đến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Quy mô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Mặt hàng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ủ thể kinh doanh</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uyên môn hóa sâu sắc</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ính sách mở cửa</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gt; KD = (Q)</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21BF2F6-3BDD-46B8-9A4D-ACE683E179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04920" y="2144880"/>
            <a:ext cx="8610480" cy="3689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BÀI 1</a:t>
            </a:r>
            <a:endParaRPr b="0" lang="en-US" sz="32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ỔNG QUAN VỀ KINH DOANH DỊCH VỤ TRONG NỀN KINH TẾ THỊ TRƯỜNG</a:t>
            </a:r>
            <a:endParaRPr b="0" lang="en-US" sz="2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À NỘI - 2014</a:t>
            </a:r>
            <a:endParaRPr b="0" lang="en-US" sz="1800" spc="-1" strike="noStrike">
              <a:solidFill>
                <a:srgbClr val="000000"/>
              </a:solidFill>
              <a:latin typeface="Times New Roman"/>
            </a:endParaRPr>
          </a:p>
        </p:txBody>
      </p:sp>
      <p:sp>
        <p:nvSpPr>
          <p:cNvPr id="117" name="Rectangle 3"/>
          <p:cNvSpPr/>
          <p:nvPr/>
        </p:nvSpPr>
        <p:spPr>
          <a:xfrm>
            <a:off x="1523880" y="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ff"/>
                </a:solidFill>
                <a:latin typeface="Times New Roman"/>
              </a:rPr>
              <a:t>TRƯỜNG ĐẠI HỌC KINH TẾ QUỐC DÂN</a:t>
            </a:r>
            <a:br>
              <a:rPr sz="2000"/>
            </a:br>
            <a:r>
              <a:rPr b="1" i="1" lang="en-US" sz="2000" spc="-1" strike="noStrike">
                <a:solidFill>
                  <a:srgbClr val="0000ff"/>
                </a:solidFill>
                <a:latin typeface="Times New Roman"/>
              </a:rPr>
              <a:t>VIỆN THƯƠNG MẠI VÀ KTQT</a:t>
            </a:r>
            <a:endParaRPr b="0" lang="en-US" sz="2000" spc="-1" strike="noStrike">
              <a:solidFill>
                <a:srgbClr val="000000"/>
              </a:solidFill>
              <a:latin typeface="Times New Roman"/>
            </a:endParaRPr>
          </a:p>
        </p:txBody>
      </p:sp>
      <p:pic>
        <p:nvPicPr>
          <p:cNvPr id="118" name="Picture 6" descr="Đại_học_Kinh_tế_Quốc_dân"/>
          <p:cNvPicPr/>
          <p:nvPr/>
        </p:nvPicPr>
        <p:blipFill>
          <a:blip r:embed="rId2"/>
          <a:stretch/>
        </p:blipFill>
        <p:spPr>
          <a:xfrm>
            <a:off x="0" y="0"/>
            <a:ext cx="1600200" cy="1219320"/>
          </a:xfrm>
          <a:prstGeom prst="rect">
            <a:avLst/>
          </a:prstGeom>
          <a:ln w="0">
            <a:noFill/>
          </a:ln>
        </p:spPr>
      </p:pic>
      <p:sp>
        <p:nvSpPr>
          <p:cNvPr id="2" name="PlaceHolder 1"/>
          <p:cNvSpPr>
            <a:spLocks noGrp="1"/>
          </p:cNvSpPr>
          <p:nvPr>
            <p:ph type="sldNum" idx="3"/>
          </p:nvPr>
        </p:nvSpPr>
        <p:spPr/>
        <p:txBody>
          <a:bodyPr/>
          <a:p>
            <a:fld id="{38BE8F23-90CA-4EE0-B72E-1DDFE834A5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466560" y="87480"/>
            <a:ext cx="8267760" cy="569016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ếu tố khoa học trở thành lực lượng sản xuất trực tiếp </a:t>
            </a:r>
            <a:endParaRPr b="0" lang="en-US" sz="2800" spc="-1" strike="noStrike">
              <a:solidFill>
                <a:srgbClr val="000000"/>
              </a:solidFill>
              <a:latin typeface="Times New Roman"/>
            </a:endParaRPr>
          </a:p>
          <a:p>
            <a:pPr marL="57240" indent="-57240" algn="just">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a:t>
            </a:r>
            <a:r>
              <a:rPr b="0" lang="en-US" sz="2800" spc="-1" strike="noStrike">
                <a:solidFill>
                  <a:srgbClr val="000000"/>
                </a:solidFill>
                <a:latin typeface="Times New Roman"/>
              </a:rPr>
              <a:t> dụng nhanh thành tựu khoa học vào sản xuất kinh doanh. Khoảng cách thời gian từ lúc xuất hiện ý tưởng khoa học, phát minh và phát triển đến lúc áp dụng rộng rãi vào sản xuất không ngừng rút ngắn lại và không còn khoảng cách</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A4EAAE0-FA44-4A08-AC2B-27FD8B1929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457200" y="228600"/>
            <a:ext cx="8458200" cy="635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Áp dụng nguyên tắc chụp ảnh mất hơn 100 năm (1727 – 1839)</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Thực hiện ý tưởng điện thoại mất hơn 50 năm (1820-1876)</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Kỹ thuật vô tuyến: 35 năm (1867-1902)</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Kỹ thuật Rada: 15 năm (1925 – 1940)</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Vô tuyến truyền hình: 12 năm (1922 – 1934)</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Bom nguyên tử: 6 năm (1939 – 1945)</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7. Kỹ thuật đài bán dẫn: 5 năm (1948 – 1953)</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8. Mạch vi điện tử: 3 năm (1958 – 1961)</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 Laze: 2 năm ………..</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iện nay không còn khoảng cách</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598B629B-6855-4C59-9BD6-4BD873DDE3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289080" y="82440"/>
            <a:ext cx="8610480" cy="654624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ợi ích thương mại và logistics</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Góc độ nền kinh tế quốc dân:</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húc đẩy sản xuất hàng hóa phát triển </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âng cao mức hưởng thụ, góp phần chuyển dịch cơ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ấu kinh tế</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Đáp ứng tốt mọi nhu cầu, gắn kinh tế trong nước với </a:t>
            </a:r>
            <a:r>
              <a:rPr b="0" lang="en-US" sz="2400" spc="-1" strike="noStrike">
                <a:solidFill>
                  <a:srgbClr val="000000"/>
                </a:solidFill>
                <a:latin typeface="Times New Roman"/>
              </a:rPr>
              <a:t>	</a:t>
            </a:r>
            <a:r>
              <a:rPr b="0" lang="en-US" sz="2400" spc="-1" strike="noStrike">
                <a:solidFill>
                  <a:srgbClr val="000000"/>
                </a:solidFill>
                <a:latin typeface="Times New Roman"/>
              </a:rPr>
              <a:t>   nền kinh tế thế giới và thực hiện chính sách mở cửa</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Góc độ doanh nghiệp:</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ai trò thương mại đầu vào (hậu cần vật tư)</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ai trò thương mại đầu ra (tiêu thụ sản phẩ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3800343-5770-4FCA-B8F5-1B371494F5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228600" y="123840"/>
            <a:ext cx="8610480" cy="1817640"/>
          </a:xfrm>
          <a:prstGeom prst="rect">
            <a:avLst/>
          </a:prstGeom>
          <a:noFill/>
          <a:ln w="0">
            <a:noFill/>
          </a:ln>
        </p:spPr>
        <p:style>
          <a:lnRef idx="0"/>
          <a:fillRef idx="0"/>
          <a:effectRef idx="0"/>
          <a:fontRef idx="minor"/>
        </p:style>
        <p:txBody>
          <a:bodyPr lIns="90000" rIns="90000" tIns="46800" bIns="46800" anchor="t">
            <a:spAutoFit/>
          </a:bodyPr>
          <a:p>
            <a:pPr marL="577800" indent="-57780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VẤN ĐỀ THỨ TƯ:</a:t>
            </a:r>
            <a:endParaRPr b="0" lang="en-US" sz="2800" spc="-1" strike="noStrike">
              <a:solidFill>
                <a:srgbClr val="000000"/>
              </a:solidFill>
              <a:latin typeface="Times New Roman"/>
            </a:endParaRPr>
          </a:p>
          <a:p>
            <a:pPr marL="577800" indent="-57780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ỮNG NỘI DUNG CƠ BẢN </a:t>
            </a:r>
            <a:endParaRPr b="0" lang="en-US" sz="2800" spc="-1" strike="noStrike">
              <a:solidFill>
                <a:srgbClr val="000000"/>
              </a:solidFill>
              <a:latin typeface="Times New Roman"/>
            </a:endParaRPr>
          </a:p>
          <a:p>
            <a:pPr marL="577800" indent="-57780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ỦA KINH DOANH</a:t>
            </a:r>
            <a:endParaRPr b="0" lang="en-US" sz="2800" spc="-1" strike="noStrike">
              <a:solidFill>
                <a:srgbClr val="000000"/>
              </a:solidFill>
              <a:latin typeface="Times New Roman"/>
            </a:endParaRPr>
          </a:p>
        </p:txBody>
      </p:sp>
      <p:sp>
        <p:nvSpPr>
          <p:cNvPr id="165" name=""/>
          <p:cNvSpPr/>
          <p:nvPr/>
        </p:nvSpPr>
        <p:spPr>
          <a:xfrm>
            <a:off x="1927080" y="3460680"/>
            <a:ext cx="5096160" cy="172728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rot="5468400">
            <a:off x="2189880" y="3209760"/>
            <a:ext cx="241560" cy="752760"/>
          </a:xfrm>
          <a:custGeom>
            <a:avLst/>
            <a:gdLst>
              <a:gd name="textAreaLeft" fmla="*/ 0 w 241560"/>
              <a:gd name="textAreaRight" fmla="*/ 87120 w 241560"/>
              <a:gd name="textAreaTop" fmla="*/ 19440 h 752760"/>
              <a:gd name="textAreaBottom" fmla="*/ 733320 h 75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613480" y="2820960"/>
            <a:ext cx="608040" cy="42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68" name=""/>
          <p:cNvSpPr/>
          <p:nvPr/>
        </p:nvSpPr>
        <p:spPr>
          <a:xfrm>
            <a:off x="6696000" y="3149640"/>
            <a:ext cx="6080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69" name=""/>
          <p:cNvSpPr/>
          <p:nvPr/>
        </p:nvSpPr>
        <p:spPr>
          <a:xfrm rot="5468400">
            <a:off x="6403680" y="3060720"/>
            <a:ext cx="171360" cy="971280"/>
          </a:xfrm>
          <a:custGeom>
            <a:avLst/>
            <a:gdLst>
              <a:gd name="textAreaLeft" fmla="*/ 0 w 171360"/>
              <a:gd name="textAreaRight" fmla="*/ 61920 w 171360"/>
              <a:gd name="textAreaTop" fmla="*/ 25200 h 971280"/>
              <a:gd name="textAreaBottom" fmla="*/ 946080 h 97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665440" y="3162240"/>
            <a:ext cx="6080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71" name=""/>
          <p:cNvSpPr/>
          <p:nvPr/>
        </p:nvSpPr>
        <p:spPr>
          <a:xfrm>
            <a:off x="5985000" y="3591000"/>
            <a:ext cx="1365120" cy="44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ầu vào</a:t>
            </a:r>
            <a:endParaRPr b="0" lang="en-US" sz="2000" spc="-1" strike="noStrike">
              <a:solidFill>
                <a:srgbClr val="000000"/>
              </a:solidFill>
              <a:latin typeface="Times New Roman"/>
            </a:endParaRPr>
          </a:p>
        </p:txBody>
      </p:sp>
      <p:sp>
        <p:nvSpPr>
          <p:cNvPr id="172" name=""/>
          <p:cNvSpPr/>
          <p:nvPr/>
        </p:nvSpPr>
        <p:spPr>
          <a:xfrm>
            <a:off x="1608120" y="3608280"/>
            <a:ext cx="1432080" cy="44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ầu ra</a:t>
            </a:r>
            <a:endParaRPr b="0" lang="en-US" sz="2000" spc="-1" strike="noStrike">
              <a:solidFill>
                <a:srgbClr val="000000"/>
              </a:solidFill>
              <a:latin typeface="Times New Roman"/>
            </a:endParaRPr>
          </a:p>
        </p:txBody>
      </p:sp>
      <p:sp>
        <p:nvSpPr>
          <p:cNvPr id="173" name=""/>
          <p:cNvSpPr/>
          <p:nvPr/>
        </p:nvSpPr>
        <p:spPr>
          <a:xfrm>
            <a:off x="3313080" y="3511440"/>
            <a:ext cx="2328840" cy="42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ưu thông hàng hóa </a:t>
            </a:r>
            <a:endParaRPr b="0" lang="en-US" sz="2000" spc="-1" strike="noStrike">
              <a:solidFill>
                <a:srgbClr val="000000"/>
              </a:solidFill>
              <a:latin typeface="Times New Roman"/>
            </a:endParaRPr>
          </a:p>
        </p:txBody>
      </p:sp>
      <p:sp>
        <p:nvSpPr>
          <p:cNvPr id="174" name=""/>
          <p:cNvSpPr/>
          <p:nvPr/>
        </p:nvSpPr>
        <p:spPr>
          <a:xfrm>
            <a:off x="2054160" y="4776840"/>
            <a:ext cx="4969080" cy="34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ối tượng quản lý của nhà nước </a:t>
            </a:r>
            <a:endParaRPr b="0" lang="en-US" sz="2000" spc="-1" strike="noStrike">
              <a:solidFill>
                <a:srgbClr val="000000"/>
              </a:solidFill>
              <a:latin typeface="Times New Roman"/>
            </a:endParaRPr>
          </a:p>
        </p:txBody>
      </p:sp>
      <p:sp>
        <p:nvSpPr>
          <p:cNvPr id="175" name=""/>
          <p:cNvSpPr/>
          <p:nvPr/>
        </p:nvSpPr>
        <p:spPr>
          <a:xfrm>
            <a:off x="1508040" y="3129120"/>
            <a:ext cx="60984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176" name=""/>
          <p:cNvSpPr/>
          <p:nvPr/>
        </p:nvSpPr>
        <p:spPr>
          <a:xfrm>
            <a:off x="2419200" y="3170160"/>
            <a:ext cx="2063880" cy="277920"/>
          </a:xfrm>
          <a:custGeom>
            <a:avLst/>
            <a:gdLst/>
            <a:ahLst/>
            <a:rect l="l" t="t" r="r" b="b"/>
            <a:pathLst>
              <a:path w="1920" h="287">
                <a:moveTo>
                  <a:pt x="0" y="287"/>
                </a:moveTo>
                <a:cubicBezTo>
                  <a:pt x="42" y="253"/>
                  <a:pt x="91" y="127"/>
                  <a:pt x="253" y="85"/>
                </a:cubicBezTo>
                <a:cubicBezTo>
                  <a:pt x="415" y="43"/>
                  <a:pt x="695" y="0"/>
                  <a:pt x="973" y="34"/>
                </a:cubicBezTo>
                <a:cubicBezTo>
                  <a:pt x="1251" y="68"/>
                  <a:pt x="1723" y="234"/>
                  <a:pt x="1920" y="287"/>
                </a:cubicBezTo>
              </a:path>
            </a:pathLst>
          </a:custGeom>
          <a:noFill/>
          <a:ln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08320" y="2960640"/>
            <a:ext cx="4251240" cy="495360"/>
          </a:xfrm>
          <a:custGeom>
            <a:avLst/>
            <a:gdLst/>
            <a:ahLst/>
            <a:rect l="l" t="t" r="r" b="b"/>
            <a:pathLst>
              <a:path w="4004" h="604">
                <a:moveTo>
                  <a:pt x="0" y="604"/>
                </a:moveTo>
                <a:cubicBezTo>
                  <a:pt x="88" y="537"/>
                  <a:pt x="190" y="306"/>
                  <a:pt x="528" y="206"/>
                </a:cubicBezTo>
                <a:cubicBezTo>
                  <a:pt x="866" y="106"/>
                  <a:pt x="1556" y="0"/>
                  <a:pt x="2030" y="6"/>
                </a:cubicBezTo>
                <a:cubicBezTo>
                  <a:pt x="2504" y="12"/>
                  <a:pt x="3041" y="140"/>
                  <a:pt x="3370" y="240"/>
                </a:cubicBezTo>
                <a:cubicBezTo>
                  <a:pt x="3699" y="340"/>
                  <a:pt x="3872" y="528"/>
                  <a:pt x="4004" y="604"/>
                </a:cubicBezTo>
              </a:path>
            </a:pathLst>
          </a:custGeom>
          <a:noFill/>
          <a:ln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rot="2666400">
            <a:off x="-2047680" y="1175400"/>
            <a:ext cx="4968360" cy="4129560"/>
          </a:xfrm>
          <a:custGeom>
            <a:avLst/>
            <a:gdLst/>
            <a:ahLst/>
            <a:rect l="l" t="t" r="r" b="b"/>
            <a:pathLst>
              <a:path stroke="0" w="21600" h="21600">
                <a:moveTo>
                  <a:pt x="11859" y="52"/>
                </a:moveTo>
                <a:arcTo wR="10800" hR="10800" stAng="-5062377" swAng="6011289"/>
                <a:lnTo>
                  <a:pt x="10800" y="10800"/>
                </a:lnTo>
                <a:close/>
              </a:path>
              <a:path fill="none" w="21600" h="21600">
                <a:moveTo>
                  <a:pt x="11859" y="52"/>
                </a:moveTo>
                <a:arcTo wR="10800" hR="10800" stAng="-5062377" swAng="6011289"/>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rot="12588600">
            <a:off x="5844240" y="1672560"/>
            <a:ext cx="5015520" cy="3903480"/>
          </a:xfrm>
          <a:custGeom>
            <a:avLst/>
            <a:gdLst/>
            <a:ahLst/>
            <a:rect l="l" t="t" r="r" b="b"/>
            <a:pathLst>
              <a:path stroke="0" w="21600" h="21600">
                <a:moveTo>
                  <a:pt x="10800" y="0"/>
                </a:moveTo>
                <a:arcTo wR="10800" hR="10800" stAng="-5400000" swAng="6005287"/>
                <a:lnTo>
                  <a:pt x="10800" y="10800"/>
                </a:lnTo>
                <a:close/>
              </a:path>
              <a:path fill="none" w="21600" h="21600">
                <a:moveTo>
                  <a:pt x="10800" y="0"/>
                </a:moveTo>
                <a:arcTo wR="10800" hR="10800" stAng="-5400000" swAng="6005287"/>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257880" y="2133720"/>
            <a:ext cx="114768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D</a:t>
            </a:r>
            <a:endParaRPr b="0" lang="en-US" sz="1800" spc="-1" strike="noStrike">
              <a:solidFill>
                <a:srgbClr val="000000"/>
              </a:solidFill>
              <a:latin typeface="Times New Roman"/>
            </a:endParaRPr>
          </a:p>
        </p:txBody>
      </p:sp>
      <p:sp>
        <p:nvSpPr>
          <p:cNvPr id="181" name=""/>
          <p:cNvSpPr/>
          <p:nvPr/>
        </p:nvSpPr>
        <p:spPr>
          <a:xfrm>
            <a:off x="1581120" y="2133720"/>
            <a:ext cx="11462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X</a:t>
            </a:r>
            <a:endParaRPr b="0" lang="en-US" sz="1800" spc="-1" strike="noStrike">
              <a:solidFill>
                <a:srgbClr val="000000"/>
              </a:solidFill>
              <a:latin typeface="Times New Roman"/>
            </a:endParaRPr>
          </a:p>
        </p:txBody>
      </p:sp>
      <p:sp>
        <p:nvSpPr>
          <p:cNvPr id="182" name=""/>
          <p:cNvSpPr/>
          <p:nvPr/>
        </p:nvSpPr>
        <p:spPr>
          <a:xfrm>
            <a:off x="2209680" y="5459400"/>
            <a:ext cx="449604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 – Hành vi thương mại trong lưu thông</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A – TM đầu ra (TTSF)</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C – TM đầu vào (Hiệu cần vật tư)</a:t>
            </a:r>
            <a:endParaRPr b="0" lang="en-US" sz="1800" spc="-1" strike="noStrike">
              <a:solidFill>
                <a:srgbClr val="000000"/>
              </a:solidFill>
              <a:latin typeface="Times New Roman"/>
            </a:endParaRPr>
          </a:p>
        </p:txBody>
      </p:sp>
      <p:sp>
        <p:nvSpPr>
          <p:cNvPr id="183" name=""/>
          <p:cNvSpPr/>
          <p:nvPr/>
        </p:nvSpPr>
        <p:spPr>
          <a:xfrm>
            <a:off x="3657600" y="25750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ực tiếp</a:t>
            </a:r>
            <a:endParaRPr b="0" lang="en-US" sz="2000" spc="-1" strike="noStrike">
              <a:solidFill>
                <a:srgbClr val="000000"/>
              </a:solidFill>
              <a:latin typeface="Times New Roman"/>
            </a:endParaRPr>
          </a:p>
        </p:txBody>
      </p:sp>
      <p:sp>
        <p:nvSpPr>
          <p:cNvPr id="184" name=""/>
          <p:cNvSpPr/>
          <p:nvPr/>
        </p:nvSpPr>
        <p:spPr>
          <a:xfrm>
            <a:off x="3467160" y="29908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n tiếp</a:t>
            </a:r>
            <a:endParaRPr b="0" lang="en-US" sz="2000" spc="-1" strike="noStrike">
              <a:solidFill>
                <a:srgbClr val="000000"/>
              </a:solidFill>
              <a:latin typeface="Times New Roman"/>
            </a:endParaRPr>
          </a:p>
        </p:txBody>
      </p:sp>
      <p:sp>
        <p:nvSpPr>
          <p:cNvPr id="185" name=""/>
          <p:cNvSpPr/>
          <p:nvPr/>
        </p:nvSpPr>
        <p:spPr>
          <a:xfrm>
            <a:off x="5943600" y="5715000"/>
            <a:ext cx="76320" cy="609480"/>
          </a:xfrm>
          <a:custGeom>
            <a:avLst/>
            <a:gdLst>
              <a:gd name="textAreaLeft" fmla="*/ 0 w 76320"/>
              <a:gd name="textAreaRight" fmla="*/ 27360 w 7632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039000" y="5867280"/>
            <a:ext cx="304776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Hành vi thương mại   trong sản xuấ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6DE4D52-73F5-4105-B6C4-1D9042044F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289080" y="139680"/>
            <a:ext cx="8610480" cy="606384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ỘI DUNG</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ghiên cứu và xác định nhu cầu thị trường về hàng hóa dịch vụ (nhu cầu TDSX, nhu cầu đặt mua).</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ổ chức công tác tạo nguồn hàng để đáp ứng nhu cầu thị trường.</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iết lập các mối quan hệ kinh tế trong thương mại.</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ựa chọn kênh phân phối và tổ chức chuyển giao hàng hóa về doanh nghiệp.</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Quản lý hàng hóa ở doanh nghiệp và thực hiện các dịch vụ trong kinh doanh. (Nghiên cứu các nội dung này)</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Quản lý kinh doanh thương mại, chính là quản lý toàn bộ 5 nội dung kể trên ở doanh nghiệp.</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EF45763-3EFB-4BF5-A0DE-44D854EF5BCB}"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04920" y="533520"/>
            <a:ext cx="8610480" cy="507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ỘI DUNG</a:t>
            </a:r>
            <a:endParaRPr b="0" lang="en-US" sz="32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TỔNG QUAN VỀ DỊCH VỤ TRONG NỀN KINH TẾ MỞ</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KINH DOANH DỊCH VỤ TRONG QUÁ TRÌNH ĐỔI MỚI Ở NƯỚC TA</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KINH TẾ THỊ TRƯỜNG GIẢI QUYẾT CÁC VẤN ĐỀ KINH DOANH CỦA DOANH NGHIỆP </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NỘI DUNG CƠ BẢN CỦA QUÁ TRÌNH KINH DOANH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7D27532-779D-4133-8C3F-AB4A00683D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304920" y="304920"/>
            <a:ext cx="8610480" cy="6150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VẤN ĐỀ THỨ NHẤT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I. TỔNG QUAN VỀ DỊCH VỤ TRONG NỀN KINH TẾ MỞ</a:t>
            </a:r>
            <a:endParaRPr b="0" lang="en-US" sz="24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 Quan niệm dịch vụ (thương mại, logistics)</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 Tiếp cận theo nghĩa rộng</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iếp cận theo nghĩa hẹp</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 Hoạt động thương mại, logistics</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 Theo pháp lệnh trọng tài thương mại (2003)</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o Luật thương mại 2005</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Dịch vụ và một số khái niệm khác như: hành vi thương mại, đối tượng thương mại, kinh tế thương mạ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B49000B-553D-4AFA-BBC5-0B1B373FE2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266760" y="304920"/>
            <a:ext cx="8572320" cy="620712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Hoạt động thương mại là việc thực hiện một hay nhiều hành vi thương mại của cá nhân, tổ chức kinh doanh bao gồm mua bán hàng hoá, cung ứng dịch vụ; phân phối; đại diện, đại lý thương mại; ký gửi; thuê, cho thuê; thuê mua; xây dựng; tư vấn; kỹ thuật; li – xăng; đầu tư; tài chính, ngân hàng; bảo hiểm; thăm dò, khai thác; vận chuyển hàng hoá, hành khách bằng đường hàng không, đường biển, đường sắt, đường bộ và các hành vi thương mại khác theo quy định của pháp luật.</a:t>
            </a:r>
            <a:endParaRPr b="0" lang="en-US" sz="2400" spc="-1" strike="noStrike">
              <a:solidFill>
                <a:srgbClr val="000000"/>
              </a:solidFill>
              <a:latin typeface="Times New Roman"/>
            </a:endParaRPr>
          </a:p>
          <a:p>
            <a:pPr algn="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o pháp lệnh trọng tài thương mại 2003</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FBA13BD-7F2C-427C-B793-2F873A3949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04920" y="343080"/>
            <a:ext cx="8534160" cy="5435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1.</a:t>
            </a:r>
            <a:r>
              <a:rPr b="0" lang="nl-NL" sz="2400" spc="-1" strike="noStrike">
                <a:solidFill>
                  <a:srgbClr val="000000"/>
                </a:solidFill>
                <a:latin typeface="Times New Roman"/>
                <a:ea typeface="Times New Roman"/>
              </a:rPr>
              <a:t> Hoạt động thương mại là hoạt động nhằm mục đích sinh lợi, bao gồm mua bán hàng hoá, cung ứng dịch vụ, đầu tư, xúc tiến thương mại và các hoạt động nhằm mục đích sinh lợi khá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2. Hàng hóa bao gồ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a) Tất cả các loại động sản, kể cả động sản hình thành trong tương la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b) Những vật gắn liền với đất đa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3. Thói quen trong hoạt động thương mại là quy tắc xử sự có nội dung rõ ràng được hình thành và lặp lại nhiều lần trong một thời gian dài giữa các bên, được các bên mặc nhiên thừa nhận để xác định quyền và nghĩa vụ của các bên trong hợp đồng thương mại.</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 Luật thương mại năm 2005</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E1F64E1-BD0E-4380-B42F-F4554A332E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04920" y="133200"/>
            <a:ext cx="8467560" cy="67914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4. Tập quán thương mại là thói quen được thừa nhận rộng rãi trong hoạt động thương mại trên một vùng, miền hoặc một lĩnh vực thương mại, có nội dung rõ ràng được các bên thừa nhận để xác định quyền và nghĩa vụ của các bên trong hoạt động thương mại.</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8. Mua bán hàng hoá là hoạt động thương mại, theo đó bên bán có nghĩa vụ giao hàng, chuyển quyền sở hữu hàng hóa cho bên mua và nhận thanh toán; bên mua có nghĩa vụ thanh toán cho bên bán, nhận hàng và quyền sở hữu hàng hoá theo thỏa thuận.</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9. Cung ứng dịch vụ là hoạt động thương mại, theo đó một bên (sau đây gọi là bên cung ứng dịch vụ)</a:t>
            </a:r>
            <a:r>
              <a:rPr b="0" lang="vi-VN" sz="2200" spc="-1" strike="noStrike">
                <a:solidFill>
                  <a:srgbClr val="000000"/>
                </a:solidFill>
                <a:latin typeface="Times New Roman"/>
                <a:ea typeface="Times New Roman"/>
              </a:rPr>
              <a:t> có nghĩa vụ thực hiện dịch vụ cho một bên khác và nhận thanh toán; bên sử dụng dịch vụ (sau đây gọi là khách hàng) có nghĩa vụ thanh toán cho bên cung ứng dịch vụ và sử dụng dịch vụ theo thỏa thuận.</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10. Xúc tiến thương mại là hoạt động thúc đẩy, tìm kiếm cơ hội mua bán hàng hoá và cung ứng dịch vụ, bao gồm hoạt động khuyến mại, quảng cáo thương mại, trưng bày, giới thiệu hàng hoá, dịch vụ và hội chợ, triển lãm thương mại.</a:t>
            </a:r>
            <a:endParaRPr b="0" lang="en-US" sz="2200" spc="-1" strike="noStrike">
              <a:solidFill>
                <a:srgbClr val="000000"/>
              </a:solidFill>
              <a:latin typeface="Times New Roman"/>
            </a:endParaRPr>
          </a:p>
          <a:p>
            <a:pPr algn="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Điều 2 Luật thương mại 2005</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1D46E279-752E-4B34-856A-61D739E19C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228600" y="268200"/>
            <a:ext cx="8610480" cy="6504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VẤN ĐỀ THỨ  HAI:</a:t>
            </a:r>
            <a:r>
              <a:rPr b="1" lang="en-US" sz="2400" spc="-1" strike="noStrike">
                <a:solidFill>
                  <a:srgbClr val="ff3300"/>
                </a:solidFill>
                <a:latin typeface="Times New Roman"/>
              </a:rPr>
              <a:t> </a:t>
            </a:r>
            <a:endParaRPr b="0" lang="en-US" sz="2400" spc="-1" strike="noStrike">
              <a:solidFill>
                <a:srgbClr val="000000"/>
              </a:solidFill>
              <a:latin typeface="Times New Roman"/>
            </a:endParaRPr>
          </a:p>
          <a:p>
            <a:pPr marL="457200" indent="-45720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DINH DOANH DỊCH VỤ TRONG QUÁ TRÌNH ĐỔI MỚI Ở NƯỚC TA (30 NĂM ĐỔI MỚI)</a:t>
            </a:r>
            <a:endParaRPr b="0" lang="en-US" sz="2400" spc="-1" strike="noStrike">
              <a:solidFill>
                <a:srgbClr val="000000"/>
              </a:solidFill>
              <a:latin typeface="Times New Roman"/>
            </a:endParaRPr>
          </a:p>
          <a:p>
            <a:pPr marL="457200" indent="-457200" algn="just">
              <a:lnSpc>
                <a:spcPct val="150000"/>
              </a:lnSpc>
              <a:spcBef>
                <a:spcPts val="12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Đánh giá về những hướng đổi mới chính:</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en-US" sz="2000" spc="-1" strike="noStrike">
                <a:solidFill>
                  <a:srgbClr val="000000"/>
                </a:solidFill>
                <a:latin typeface="Times New Roman"/>
              </a:rPr>
              <a:t>	</a:t>
            </a:r>
            <a:r>
              <a:rPr b="0" lang="en-US" sz="2000" spc="-1" strike="noStrike">
                <a:solidFill>
                  <a:srgbClr val="000000"/>
                </a:solidFill>
                <a:latin typeface="Times New Roman"/>
              </a:rPr>
              <a:t>Từ kinh tế hiện vật (phi mậu dịch) sang nền kinh tế hàng hóa, thay đổi triết lý kinh doanh</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t>
            </a:r>
            <a:r>
              <a:rPr b="0" lang="en-US" sz="2000" spc="-1" strike="noStrike">
                <a:solidFill>
                  <a:srgbClr val="000000"/>
                </a:solidFill>
                <a:latin typeface="Times New Roman"/>
              </a:rPr>
              <a:t>	</a:t>
            </a:r>
            <a:r>
              <a:rPr b="0" lang="en-US" sz="2000" spc="-1" strike="noStrike">
                <a:solidFill>
                  <a:srgbClr val="000000"/>
                </a:solidFill>
                <a:latin typeface="Times New Roman"/>
              </a:rPr>
              <a:t>Từ nền kinh tế chủ yếu là quốc doanh, tập thể sang nền phát triển nền kinh tế nhiều thành phần</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a:t>
            </a:r>
            <a:r>
              <a:rPr b="0" lang="en-US" sz="2000" spc="-1" strike="noStrike">
                <a:solidFill>
                  <a:srgbClr val="000000"/>
                </a:solidFill>
                <a:latin typeface="Times New Roman"/>
              </a:rPr>
              <a:t>	</a:t>
            </a:r>
            <a:r>
              <a:rPr b="0" lang="en-US" sz="2000" spc="-1" strike="noStrike">
                <a:solidFill>
                  <a:srgbClr val="000000"/>
                </a:solidFill>
                <a:latin typeface="Times New Roman"/>
              </a:rPr>
              <a:t>Từ nền kinh tế ưu tiên phát triển TLSX sang thực hiện đồng thời 3 chương trình (lương thực, xuất khẩu, hàng tiêu dùng)</a:t>
            </a:r>
            <a:endParaRPr b="0" lang="en-US" sz="20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a:t>
            </a:r>
            <a:r>
              <a:rPr b="0" lang="en-US" sz="2000" spc="-1" strike="noStrike">
                <a:solidFill>
                  <a:srgbClr val="000000"/>
                </a:solidFill>
                <a:latin typeface="Times New Roman"/>
              </a:rPr>
              <a:t>	</a:t>
            </a:r>
            <a:r>
              <a:rPr b="0" lang="en-US" sz="2000" spc="-1" strike="noStrike">
                <a:solidFill>
                  <a:srgbClr val="000000"/>
                </a:solidFill>
                <a:latin typeface="Times New Roman"/>
              </a:rPr>
              <a:t>Chuyển cơ chế quản lý tập trung sang cơ chế thị trườ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6CEAAA4-E9B5-48F8-8C62-49B0AF4CAA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6:17:26Z</dcterms:created>
  <dc:creator>JonMMx 2000</dc:creator>
  <dc:description/>
  <dc:language>en-US</dc:language>
  <cp:lastModifiedBy>User</cp:lastModifiedBy>
  <dcterms:modified xsi:type="dcterms:W3CDTF">2015-01-14T23:36:59Z</dcterms:modified>
  <cp:revision>250</cp:revision>
  <dc:subject/>
  <dc:title>PowerPoint Presentation</dc:title>
</cp:coreProperties>
</file>