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EAA67-FBD9-4AD2-93B2-A00BD4491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9880F-30FC-4DE7-B0C7-EF028BF69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E3E2B-EFEC-4505-AC58-A036B2398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FF88E-EEEE-468A-BA87-1A0D1BDF2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A76DE-8AB7-4DD9-AEDB-AD0DC766D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1803C-E16E-40E5-8ECD-E76EDF0B5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4E711-11A0-4247-96B7-FB3321A5A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8A063-7214-4FE8-9CFD-5EC30805D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FF99B-0178-48AF-B469-89B74AE47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3E62D-DB25-4E14-BE13-36832D458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2100B-8B03-4D3B-BA15-CC0A8BFC3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FE98A-F9A7-442D-A683-3F097A57F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7209-16CF-449B-9772-DADA53814A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ƯỜNG ĐẠI HỌC KINH TẾ QUỐC DÂN</a:t>
            </a:r>
            <a:br>
              <a:rPr sz="2000"/>
            </a:br>
            <a:r>
              <a:rPr b="1" lang="pt-BR" sz="2000" spc="-1" strike="noStrike">
                <a:solidFill>
                  <a:srgbClr val="000000"/>
                </a:solidFill>
                <a:latin typeface="Arial"/>
              </a:rPr>
              <a:t>KHOA THƯƠNG MẠI</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ÀI 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ẠCH TOÁN KINH DOANH</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À HIỆU QUẢ KINH TẾ TRONG THƯƠNG MẠI</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 descr=""/>
          <p:cNvPicPr/>
          <p:nvPr/>
        </p:nvPicPr>
        <p:blipFill>
          <a:blip r:embed="rId1"/>
          <a:stretch/>
        </p:blipFill>
        <p:spPr>
          <a:xfrm>
            <a:off x="7315200" y="5029200"/>
            <a:ext cx="1523880" cy="1523880"/>
          </a:xfrm>
          <a:prstGeom prst="rect">
            <a:avLst/>
          </a:prstGeom>
          <a:ln w="0">
            <a:noFill/>
          </a:ln>
        </p:spPr>
      </p:pic>
      <p:pic>
        <p:nvPicPr>
          <p:cNvPr id="45" name="" descr=""/>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2F32E664-2C31-49DC-8769-BCE556F7DA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4" name=""/>
          <p:cNvSpPr/>
          <p:nvPr/>
        </p:nvSpPr>
        <p:spPr>
          <a:xfrm>
            <a:off x="304920" y="1523880"/>
            <a:ext cx="8534160" cy="405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a:t>
            </a:r>
            <a:r>
              <a:rPr b="1" i="1" lang="en-US" sz="2800" spc="-1" strike="noStrike">
                <a:solidFill>
                  <a:srgbClr val="009999"/>
                </a:solidFill>
                <a:latin typeface="Times New Roman"/>
              </a:rPr>
              <a:t> Doanh thu</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 Thành phần:</a:t>
            </a:r>
            <a:endParaRPr b="0" lang="en-US" sz="2800" spc="-1" strike="noStrike">
              <a:solidFill>
                <a:srgbClr val="000000"/>
              </a:solidFill>
              <a:latin typeface="Arial"/>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anh thu được hình thành từ các hoạt động bán hàng và các hoạt động dịch vụ là chủ yếu</a:t>
            </a:r>
            <a:endParaRPr b="0" lang="en-US" sz="2800" spc="-1" strike="noStrike">
              <a:solidFill>
                <a:srgbClr val="000000"/>
              </a:solidFill>
              <a:latin typeface="Arial"/>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goài ra, trong một số trường hợp có thêm những nguồn thu khác,</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ổng cộng các nguồn thu này gọi là tổng doanh thu của doanh nghiệp thương mại.</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F9F6A8D4-D5C8-4432-83F9-8874086DB1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6"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 Doanh thu</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 Thành phần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0" lang="pt-BR" sz="2800" spc="-1" strike="noStrike">
                <a:solidFill>
                  <a:srgbClr val="000000"/>
                </a:solidFill>
                <a:latin typeface="Times New Roman"/>
              </a:rPr>
              <a:t> Doanh thu từ hoạt động kinh doanh là toàn bộ tiền bán sản phẩm hàng hóa, cung ứng, dịch vụ sau khi trừ khoản giảm giá hàng hoá, hàng bán bị trả lại (nếu có chứng từ hợp lệ) được khách hàng chấp nhận thanh toán không phân biệt đã thu hay chưa thu được tiề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Doanh thu từ các hoạt động khác bao gồm các khoản thu nhập từ hoạt động đầu tư tài chính và các hoạt động bất thườ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57C780D-CCBE-4ED7-BA18-16F7AC2E81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8" name=""/>
          <p:cNvSpPr/>
          <p:nvPr/>
        </p:nvSpPr>
        <p:spPr>
          <a:xfrm>
            <a:off x="304920" y="152388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Times New Roman"/>
              </a:rPr>
              <a:t>1. Doanh thu</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c. Cách tính</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ong đ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T là tổng doanh thu từ hoạt động bán hàng và dịch vụ.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 là giá cả một đơn vị hàng hoá thứ i hay dịch vụ thứ i.</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i là khối lượng hàng hoá hay dịch vụ thứ i bán ra trong k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 là loại hàng hoá dịch vụ</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hú ý: Các phương pháp khác tính doanh thu, doanh số trong thương mại)</a:t>
            </a:r>
            <a:endParaRPr b="0" lang="en-US" sz="2400" spc="-1" strike="noStrike">
              <a:solidFill>
                <a:srgbClr val="000000"/>
              </a:solidFill>
              <a:latin typeface="Arial"/>
            </a:endParaRPr>
          </a:p>
        </p:txBody>
      </p:sp>
      <p:sp>
        <p:nvSpPr>
          <p:cNvPr id="6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 name=""/>
          <p:cNvGraphicFramePr/>
          <p:nvPr/>
        </p:nvGraphicFramePr>
        <p:xfrm>
          <a:off x="3809880" y="2352600"/>
          <a:ext cx="2621160" cy="695520"/>
        </p:xfrm>
        <a:graphic>
          <a:graphicData uri="http://schemas.openxmlformats.org/presentationml/2006/ole">
            <p:oleObj r:id="rId1" spid="">
              <p:embed/>
              <p:pic>
                <p:nvPicPr>
                  <p:cNvPr id="71" name="" descr=""/>
                  <p:cNvPicPr/>
                  <p:nvPr/>
                </p:nvPicPr>
                <p:blipFill>
                  <a:blip r:embed="rId2"/>
                  <a:stretch/>
                </p:blipFill>
                <p:spPr>
                  <a:xfrm>
                    <a:off x="3809880" y="2352600"/>
                    <a:ext cx="2621160" cy="695520"/>
                  </a:xfrm>
                  <a:prstGeom prst="rect">
                    <a:avLst/>
                  </a:prstGeom>
                  <a:ln w="0">
                    <a:noFill/>
                  </a:ln>
                </p:spPr>
              </p:pic>
            </p:oleObj>
          </a:graphicData>
        </a:graphic>
      </p:graphicFrame>
      <p:sp>
        <p:nvSpPr>
          <p:cNvPr id="3" name="PlaceHolder 2"/>
          <p:cNvSpPr>
            <a:spLocks noGrp="1"/>
          </p:cNvSpPr>
          <p:nvPr>
            <p:ph type="sldNum" idx="3"/>
          </p:nvPr>
        </p:nvSpPr>
        <p:spPr/>
        <p:txBody>
          <a:bodyPr/>
          <a:p>
            <a:fld id="{196DE101-06B5-413B-BC1A-5431C0AD30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3" name=""/>
          <p:cNvSpPr/>
          <p:nvPr/>
        </p:nvSpPr>
        <p:spPr>
          <a:xfrm>
            <a:off x="304920" y="1523880"/>
            <a:ext cx="8534160" cy="3263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Chi phí hoạt động kinh doanh là tất cả các khoản chi phí từ khi mua hàng cho đến khi bán hàng và bảo hành hàng hoá cho khách hàng trong một khoảng thời gian nhất định</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2A225644-D042-4A99-BFBE-E583075BA4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5"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Chi phí bao gồm chi phí hoạt động kinh doanh và chi phí hoạt động khác.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99cc00"/>
                </a:solidFill>
                <a:latin typeface="Times New Roman"/>
              </a:rPr>
              <a:t>a. Chi phí hoạt động kinh doanh:</a:t>
            </a:r>
            <a:r>
              <a:rPr b="0" lang="pt-BR" sz="2800" spc="-1" strike="noStrike">
                <a:solidFill>
                  <a:srgbClr val="000000"/>
                </a:solidFill>
                <a:latin typeface="Times New Roman"/>
              </a:rPr>
              <a:t> bao gồm các chi phí có liên quan đến hoạt động kinh doanh của doanh nghiệp như: như chi phí nguyên, nhiên vật liệu, khấu hao tài sản cố định, tiền lương và các khoản chi phí có tính chất lương, các khoản trích nộp theo quy định của Nhà Nước như: bảo hiểm xã hội, bảo hiểm y tế, chi phí dịch vụ mua ngoài, chi phí bằng tiề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2AE90AA-EFA9-4CC9-85A4-D670CC0F1C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7"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b. Chi phí hoạt động khá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a:t>
            </a:r>
            <a:r>
              <a:rPr b="1" i="1" lang="pt-BR" sz="2800" spc="-1" strike="noStrike">
                <a:solidFill>
                  <a:srgbClr val="ff0066"/>
                </a:solidFill>
                <a:latin typeface="Times New Roman"/>
              </a:rPr>
              <a:t> Chi phí hoạt động tài chính là các khoản chi phí đã đầu tư tài chính ra ngoài doanh nghiệp nhằm mục đích sử dụng hợp lý các nguồn vốn,</a:t>
            </a:r>
            <a:r>
              <a:rPr b="1" lang="pt-BR" sz="2800" spc="-1" strike="noStrike">
                <a:solidFill>
                  <a:srgbClr val="000000"/>
                </a:solidFill>
                <a:latin typeface="Times New Roman"/>
              </a:rPr>
              <a:t> tăng thêm thu nhập và nâng cao hiệu quả kinh doanh của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0066"/>
                </a:solidFill>
                <a:latin typeface="Times New Roman"/>
              </a:rPr>
              <a:t>- Chi phí bất thường là những khoản chi phí xẩy ra không thuờng xuy</a:t>
            </a:r>
            <a:r>
              <a:rPr b="0" lang="pt-BR" sz="2800" spc="-1" strike="noStrike">
                <a:solidFill>
                  <a:srgbClr val="000000"/>
                </a:solidFill>
                <a:latin typeface="Times New Roman"/>
              </a:rPr>
              <a:t>ê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361FD7E-78A5-4016-97A2-0FF26FB33C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9" name=""/>
          <p:cNvSpPr/>
          <p:nvPr/>
        </p:nvSpPr>
        <p:spPr>
          <a:xfrm>
            <a:off x="304920" y="1523880"/>
            <a:ext cx="8534160" cy="417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c. Phân loại chi phí kinh doanh:</a:t>
            </a:r>
            <a:r>
              <a:rPr b="1" lang="pt-BR" sz="2400" spc="-1" strike="noStrike">
                <a:solidFill>
                  <a:srgbClr val="000000"/>
                </a:solidFill>
                <a:latin typeface="Times New Roman"/>
              </a:rPr>
              <a:t> chi phi cố định và chi phí biến đổ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Chi phí cố định là những khoản chi phí không thay đổi khi có sự tăng lên hoặc giảm đi của số lượng hàng hoá,</a:t>
            </a:r>
            <a:r>
              <a:rPr b="1" lang="pt-BR" sz="2400" spc="-1" strike="noStrike">
                <a:solidFill>
                  <a:srgbClr val="000000"/>
                </a:solidFill>
                <a:latin typeface="Times New Roman"/>
              </a:rPr>
              <a:t> dịch vụ bán ra. (tiền thuê đất đai, tiền khấu hao máy móc thiết bị, chi phí làm các thủ tục mua bán,</a:t>
            </a:r>
            <a:r>
              <a:rPr b="1" lang="it-IT" sz="2400" spc="-1" strike="noStrike">
                <a:solidFill>
                  <a:srgbClr val="000000"/>
                </a:solidFill>
                <a:latin typeface="Times New Roman"/>
              </a:rPr>
              <a:t> chi phí quản lý v.</a:t>
            </a:r>
            <a:r>
              <a:rPr b="1" lang="pt-BR" sz="2400" spc="-1" strike="noStrike">
                <a:solidFill>
                  <a:srgbClr val="000000"/>
                </a:solidFill>
                <a:latin typeface="Times New Roman"/>
              </a:rPr>
              <a:t>v..)</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Chi phí biến đổi là những khoản chi phí tăng lên hay giảm đi theo sự thay đổi của số lượng hàng hoá,</a:t>
            </a:r>
            <a:r>
              <a:rPr b="1" lang="pt-BR" sz="2400" spc="-1" strike="noStrike">
                <a:solidFill>
                  <a:srgbClr val="000000"/>
                </a:solidFill>
                <a:latin typeface="Times New Roman"/>
              </a:rPr>
              <a:t> dịch vụ bán ra. Đó là chi phí mua và vận chuyển hàng hoá, bảo quản, phân loại, bao gói hàng hoá.v.v..</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7AC1DED-46E9-46B2-A719-265687457E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1" name=""/>
          <p:cNvSpPr/>
          <p:nvPr/>
        </p:nvSpPr>
        <p:spPr>
          <a:xfrm>
            <a:off x="304920" y="1523880"/>
            <a:ext cx="8534160" cy="387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c. Quản lý chi phí kinh doanh:</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Quản lý từng khoản mục phí cơ bản như: chi phí thu mua, bảo quản hàng hoá, chi phí vận chuyển, bốc dỡ hàng hoá, chi phí quản lý hành chính, chi phí hao hụt hàng hoá, chi phí bằng tiền khác.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Chi phí lưu thông được kế hạch hoá theo 4 chỉ tiêu, cụ thể: tổng chi phí lưu thông,</a:t>
            </a:r>
            <a:r>
              <a:rPr b="0" i="1" lang="pt-BR" sz="2800" spc="-1" strike="noStrike">
                <a:solidFill>
                  <a:srgbClr val="000000"/>
                </a:solidFill>
                <a:latin typeface="Times New Roman"/>
              </a:rPr>
              <a:t> tỷ lệ phí lưu thông, mức giảm phí và nhịp độ giảm phí.</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59DD511-D076-4A44-942B-FA88DA13AB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3" name=""/>
          <p:cNvSpPr/>
          <p:nvPr/>
        </p:nvSpPr>
        <p:spPr>
          <a:xfrm>
            <a:off x="304920" y="1523880"/>
            <a:ext cx="8534160" cy="43603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a. Khái niệm: Lợi nhuận của doanh nghiệp là biểu hiện bằng tiền của bộ phận sản phẩm thặng dư do người lao động tạo ra trong quá trình hoạt động sản xuất kinh doanh. Công thức xác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 =</a:t>
            </a:r>
            <a:r>
              <a:rPr b="1" i="1" lang="en-US" sz="3200" spc="-1" strike="noStrike">
                <a:solidFill>
                  <a:srgbClr val="000000"/>
                </a:solidFill>
                <a:latin typeface="Times New Roman"/>
              </a:rPr>
              <a:t> DT - CP</a:t>
            </a:r>
            <a:endParaRPr b="0" lang="en-US" sz="32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 Lợi nhuận doanh nghiệp thực hiện được trong kỳ</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DT - Doanh thu của doanh nghiệp.</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P - Chi phí bỏ ra trong quá trình hoạt động kinh doanh</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921F5D77-59F6-4376-B4A5-DC64B3E383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5"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b. Thành phầ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ột là: Lợi nhuận từ hoạt động kinh doanh. Lợi nhuận này thu được từ hoạt động bán hàng của doanh nghiệp, hoặc từ các hoạt động dịch vụ thương mại. Bộ phận lợi nhuận này chiếm tỷ trọng chủ yếu trong tổng số lợi nhuận của doanh nghiệp và phụ thuộc vào các yếu tố như:</a:t>
            </a:r>
            <a:r>
              <a:rPr b="0" i="1" lang="en-US" sz="2800" spc="-1" strike="noStrike">
                <a:solidFill>
                  <a:srgbClr val="000000"/>
                </a:solidFill>
                <a:latin typeface="Times New Roman"/>
              </a:rPr>
              <a:t> khối lượng hàng hoá dịch vụ bán ra trên thị trường; giá mua và bán hàng hoá, dịch vụ; chi phí quản lý và các chi phí bán hàng khá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A8A712A-5939-47AD-8859-39428FE17C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Bài 8: Hạch toán kinh doanh  và hiệu quả kinh tế trong thương mại</a:t>
            </a:r>
            <a:r>
              <a:rPr b="0" lang="pt-BR" sz="4000" spc="-1" strike="noStrike">
                <a:solidFill>
                  <a:srgbClr val="000000"/>
                </a:solidFill>
                <a:latin typeface="Times New Roman"/>
              </a:rPr>
              <a:t> </a:t>
            </a:r>
            <a:r>
              <a:rPr b="1" lang="pt-BR" sz="4000" spc="-1" strike="noStrike">
                <a:solidFill>
                  <a:srgbClr val="000000"/>
                </a:solidFill>
                <a:latin typeface="Times New Roman"/>
              </a:rPr>
              <a:t>	</a:t>
            </a:r>
            <a:endParaRPr b="0" lang="en-US" sz="4000" spc="-1" strike="noStrike">
              <a:solidFill>
                <a:srgbClr val="000000"/>
              </a:solidFill>
              <a:latin typeface="Arial"/>
            </a:endParaRPr>
          </a:p>
        </p:txBody>
      </p:sp>
      <p:sp>
        <p:nvSpPr>
          <p:cNvPr id="47" name=""/>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447920" y="2514600"/>
            <a:ext cx="6629400" cy="2226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Hạch toán kinh doanh trong thu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Quản lý doanh thu, chi phí và lợi nhuậ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Vốn kinh doanh của các doanh nghiệp thư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 Hiệu quả kinh tế thương mại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32F1DCD-4FB9-480E-8C55-203DD7E392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7"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b. Thành phần: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Hai là: Lợi nhuận từ hoạt động tài chính. Lợi nhuận này được xác định bằng chênh lệch giữa các khoản thu và chi về hoạt động tài chính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 là: Lợi nhuận bất thường. Là những khoản lợi nhuận mà doanh nghiệp không dự tính trước hoặc có dự tính đến nhưng ít có khả năng thực hiện, hoặc những khoản thu không mang tính chất thường xuyê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106113C-4E33-44D4-AE18-7428B6147D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9"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ợi nhuận của doanh nghiệp được phân phối như sau: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ù đắp lỗ năm trước theo quy định của luật thuế thu nhập doanh nghiệp và nộp thuế thu nhập doanh nghiệp được phân phối như sau: - - Chia lãi cho các thành viên góp vốn liên kết theo quy định của hợp đồng (nếu có);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Bù đắp khoản lỗ các năm trước đã hết thời hạn được trừ vào lợi nhuận trước thuế;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46482DA-3E66-4EBF-8E51-F4F112B798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1"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rích 10% vào quỹ dự phòng tài chính, khi số dư quỹ bằng 25% vốn điều lệ thì không tính nữa;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Trích lập các quỹ đặc biệt từ lợi nhuận sau thuế theo tỷ lệ đã được nhà nước quy đối với công ty đặc thù mà pháp luật quy định phải trích lập;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8BADE76-7D47-4B98-AD6D-DAF29DAB3B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3"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ố còn lại sau khi lập các quỹ quy định tại điẻm a, b, c, d khoản này được phân phối theo tỷ lệ giữa vốn nhà nước đầu tư tại công ty và vốn công ty tự huy động bình quân trong nă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CA93EF3-93D5-4F85-B3B3-49AE5C4F49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5" name=""/>
          <p:cNvSpPr/>
          <p:nvPr/>
        </p:nvSpPr>
        <p:spPr>
          <a:xfrm>
            <a:off x="304920" y="1523880"/>
            <a:ext cx="8534160" cy="515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Phần lợi nhuận được chia theo vốn nhà nước đầu tư được dùng để tái đầu tư bổ sung vốn nhà nước tại công ty nhà nước.</a:t>
            </a:r>
            <a:r>
              <a:rPr b="0" i="1" lang="en-US" sz="2800" spc="-1" strike="noStrike">
                <a:solidFill>
                  <a:srgbClr val="000000"/>
                </a:solidFill>
                <a:latin typeface="Times New Roman"/>
              </a:rPr>
              <a:t> Trường hợp không cần thiết bổ sung vốn nhà nước tại công ty nhà nước, đại diện chủ sở hữu quyết định điều động về quỹ tập trung để đầu tư vào các công ty khá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735C688-1E32-4FAC-9780-418D93FBF6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7" name=""/>
          <p:cNvSpPr/>
          <p:nvPr/>
        </p:nvSpPr>
        <p:spPr>
          <a:xfrm>
            <a:off x="304920" y="152388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Lợi nhuận được chia theo vốn tự huy động được phân phối như sau: a)</a:t>
            </a:r>
            <a:r>
              <a:rPr b="1" i="1" lang="en-US" sz="2000" spc="-1" strike="noStrike">
                <a:solidFill>
                  <a:srgbClr val="000000"/>
                </a:solidFill>
                <a:latin typeface="Times New Roman"/>
              </a:rPr>
              <a:t> Trích tối thiểu 30% vào quỹ đầu tư phát triển của công ty; b) Trích tối đa 5% lập quỹ thưởng Ban quản lý điều hành công ty. Mức trích một năm không vượt quá 500 triệu đồng (đối với công ty có Hội đồng quản trị), 200 triệu đồng (đối với công ty không có Hội đồng quản trị) với điều kiện tỷ suất lợi nhuận thực hiện trước thuế trên vốn nhà nước tại công ty phải bằng hoặc lớn hơn tỷ suất lợi nhuận kế hoạch; c) Số lợi nhuận còn lại được phân phối vào quỹ khen thưởng, phúc lợi của công ty.</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2E154EC-671D-4872-8A9D-10F14CBE85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III. Vốn kinh doanh của các doanh nghiệp thương mại</a:t>
            </a:r>
            <a:r>
              <a:rPr b="0" lang="en-US" sz="40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9" name=""/>
          <p:cNvSpPr/>
          <p:nvPr/>
        </p:nvSpPr>
        <p:spPr>
          <a:xfrm>
            <a:off x="304920" y="1523880"/>
            <a:ext cx="8534160" cy="2715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1. 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ốn kinh doanh là biểu hiện bằng tiền của toàn bộ tài sản dùng trong kinh doanh, bao gồm tài sản bằng hiện vật, bằng tiền, bằng ngoại tệ, bằng kim loại quý...</a:t>
            </a:r>
            <a:endParaRPr b="0" lang="en-US" sz="3600" spc="-1" strike="noStrike">
              <a:solidFill>
                <a:srgbClr val="000000"/>
              </a:solidFill>
              <a:latin typeface="Arial"/>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C3FBDE3-D027-424B-809F-EA608EF4A8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0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eo nguồn gốc hình thà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ngân sách cấp</a:t>
            </a:r>
            <a:r>
              <a:rPr b="0" lang="en-US" sz="2800" spc="-1" strike="noStrike">
                <a:solidFill>
                  <a:srgbClr val="000000"/>
                </a:solidFill>
                <a:latin typeface="Times New Roman"/>
              </a:rPr>
              <a:t>: gồm vốn cố định, vốn lưu động, vốn xây dựng cơ bản do ngân sách cấp hoặc có nguồn gốc từ ngân sách nhà nước.</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doanh nghiệp bổ sung</a:t>
            </a:r>
            <a:r>
              <a:rPr b="0" lang="en-US" sz="2800" spc="-1" strike="noStrike">
                <a:solidFill>
                  <a:srgbClr val="000000"/>
                </a:solidFill>
                <a:latin typeface="Times New Roman"/>
              </a:rPr>
              <a:t>: hình thành từ lợi nhuận mà doanh nghiệp thu được từ hoạt động sản xuất kinh doanh.</a:t>
            </a:r>
            <a:endParaRPr b="0" lang="en-US" sz="28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F7C1EF5-8E73-40C8-9C10-4A4CB52B7F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09" name=""/>
          <p:cNvSpPr/>
          <p:nvPr/>
        </p:nvSpPr>
        <p:spPr>
          <a:xfrm>
            <a:off x="304920" y="1523880"/>
            <a:ext cx="8534160" cy="320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eo nguồn gốc hình thà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liên doanh liên kết</a:t>
            </a:r>
            <a:r>
              <a:rPr b="0" lang="en-US" sz="2800" spc="-1" strike="noStrike">
                <a:solidFill>
                  <a:srgbClr val="000000"/>
                </a:solidFill>
                <a:latin typeface="Times New Roman"/>
              </a:rPr>
              <a:t>: vốn này hình thành khi có các đơn vị tham gia liên doanh liên kết với doanh nghiệp góp vốn vào doanh nghiệ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i="1" lang="pt-BR" sz="2800" spc="-1" strike="noStrike">
                <a:solidFill>
                  <a:srgbClr val="000000"/>
                </a:solidFill>
                <a:latin typeface="Times New Roman"/>
              </a:rPr>
              <a:t>Vốn tín dụng</a:t>
            </a:r>
            <a:r>
              <a:rPr b="0" lang="pt-BR" sz="2800" spc="-1" strike="noStrike">
                <a:solidFill>
                  <a:srgbClr val="000000"/>
                </a:solidFill>
                <a:latin typeface="Times New Roman"/>
              </a:rPr>
              <a:t>: gồm tiền vay ngắn hạn, vay dài hạn ngân hàng hoặc vay các đơn vị, cá nhân trong ngoài nước.</a:t>
            </a:r>
            <a:r>
              <a:rPr b="0" lang="pt-BR" sz="3600" spc="-1" strike="noStrike">
                <a:solidFill>
                  <a:srgbClr val="000000"/>
                </a:solidFill>
                <a:latin typeface="Times New Roman"/>
              </a:rPr>
              <a:t> </a:t>
            </a:r>
            <a:endParaRPr b="0" lang="en-US" sz="3600" spc="-1" strike="noStrike">
              <a:solidFill>
                <a:srgbClr val="000000"/>
              </a:solidFill>
              <a:latin typeface="Arial"/>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36CEA2F-4963-4B56-BB5B-7C44357748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14" name=""/>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66"/>
                </a:solidFill>
                <a:latin typeface="Times New Roman"/>
              </a:rPr>
              <a:t>b. Căn cứ vào tốc độ lưu chuyển vốn trong quá trình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c phân chia các loại vốn này có ý nghĩa rất lớn trong hoạt động kinh doanh thương mại. </a:t>
            </a:r>
            <a:endParaRPr b="0" lang="en-US" sz="2800" spc="-1" strike="noStrike">
              <a:solidFill>
                <a:srgbClr val="000000"/>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A7BDD34-2030-4168-8019-50A5DBBBAF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0"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1.</a:t>
            </a:r>
            <a:r>
              <a:rPr b="1" i="1" lang="en-US" sz="2800" spc="-1" strike="noStrike">
                <a:solidFill>
                  <a:srgbClr val="0066ff"/>
                </a:solidFill>
                <a:latin typeface="Times New Roman"/>
              </a:rPr>
              <a:t>	</a:t>
            </a: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ích thích các doanh nghiệp kinh doanh đạt hiệu quả cao nhất</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hấn đấu giảm chi phí kinh doanh</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Bảo quản tốt vật tư hàng hoá</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Sử dụng hợp lý và tiết kiệm các nguồn lực lao động, tiền vố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EA99F94-EFB3-4919-ACD9-73440A993D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1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3.  Vốn lưu động.</a:t>
            </a:r>
            <a:endParaRPr b="0" lang="en-US" sz="2800" spc="-1" strike="noStrike">
              <a:solidFill>
                <a:srgbClr val="000000"/>
              </a:solidFill>
              <a:latin typeface="Arial"/>
            </a:endParaRPr>
          </a:p>
          <a:p>
            <a:pPr marL="609480" indent="-60948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ốn lưu động là biểu hiện bằng tiền của tài sản lưu động và vốn lưu thông.Vốn lưu động biểu hiện ở cả hai hình thái khác nhau, hình thái hiện vật và hình thái giá trị.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i="1" lang="en-US" sz="2800" spc="-1" strike="noStrike">
                <a:solidFill>
                  <a:srgbClr val="000000"/>
                </a:solidFill>
                <a:latin typeface="Times New Roman"/>
              </a:rPr>
              <a:t>Thành phần:</a:t>
            </a:r>
            <a:r>
              <a:rPr b="0" lang="en-US" sz="2800" spc="-1" strike="noStrike">
                <a:solidFill>
                  <a:srgbClr val="000000"/>
                </a:solidFill>
                <a:latin typeface="Times New Roman"/>
              </a:rPr>
              <a:t> Vốn lưu động của doanh nghiệp thương mại được chia thành vốn lưu động định mức và vốn lưu động không định mức</a:t>
            </a:r>
            <a:endParaRPr b="0" lang="en-US" sz="2800" spc="-1" strike="noStrike">
              <a:solidFill>
                <a:srgbClr val="000000"/>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EAB5D85-8E40-4AD9-A17F-99948B0342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24" name=""/>
          <p:cNvSpPr/>
          <p:nvPr/>
        </p:nvSpPr>
        <p:spPr>
          <a:xfrm>
            <a:off x="304920" y="152388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 Thành phầ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 định mức là số vốn tối thiểu cần thiết cho hoạt động kinh doanh của các doanh nghiệp trong kỳ</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 không định mức là số vốn lưu động có thể phát sinh trong quá trình kinh doanh, nhưng không thể có căn cứ để tính toán định mức được</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8766C49-D132-4D3E-B21F-EA78E332BE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29" name=""/>
          <p:cNvSpPr/>
          <p:nvPr/>
        </p:nvSpPr>
        <p:spPr>
          <a:xfrm>
            <a:off x="304920" y="1523880"/>
            <a:ext cx="8534160" cy="2531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c. Chu trình vốn:</a:t>
            </a:r>
            <a:r>
              <a:rPr b="0" lang="en-US" sz="2600" spc="-1" strike="noStrike">
                <a:solidFill>
                  <a:srgbClr val="000000"/>
                </a:solidFill>
                <a:latin typeface="Times New Roman"/>
              </a:rPr>
              <a:t> Với những doanh nghiệp thương mại, quá trình chu chuyển của vốn lưu động thường trải qua hai giai đoạn: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Giai đoạn mua hàng (biến T thành H)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Giai đoạn bán hàng (biến H thành T?)</a:t>
            </a:r>
            <a:endParaRPr b="0" lang="en-US" sz="26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06592E7-E48D-45ED-9CD0-22EBB9A688A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3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đ. Đặc điểm:</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vốn lưu động của doanh nghiệp thương mại, vốn dưới hình thức dự trữ hàng hoá chiếm tỷ trọng cao nhấ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Nguồ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guồn vốn lưu động của các doanh nghiệp thương mại gồm vốn tự có, vốn đi vay và vốn liên doanh, liên kết </a:t>
            </a:r>
            <a:endParaRPr b="0" lang="en-US" sz="2800" spc="-1" strike="noStrike">
              <a:solidFill>
                <a:srgbClr val="000000"/>
              </a:solidFill>
              <a:latin typeface="Arial"/>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08A4FD1-2BBF-43AA-81AF-DE006177219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39" name=""/>
          <p:cNvSpPr/>
          <p:nvPr/>
        </p:nvSpPr>
        <p:spPr>
          <a:xfrm>
            <a:off x="304920" y="1523880"/>
            <a:ext cx="8534160" cy="4788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 Một là,</a:t>
            </a:r>
            <a:r>
              <a:rPr b="0" i="1" lang="en-US" sz="2400" spc="-1" strike="noStrike">
                <a:solidFill>
                  <a:srgbClr val="000000"/>
                </a:solidFill>
                <a:latin typeface="Times New Roman"/>
              </a:rPr>
              <a:t> Số lần chu chuyển (số vòng quay) của vốn lưu động trong kỳ.</a:t>
            </a:r>
            <a:r>
              <a:rPr b="1" i="1" lang="en-US" sz="2400" spc="-1" strike="noStrike">
                <a:solidFill>
                  <a:srgbClr val="000000"/>
                </a:solidFill>
                <a:latin typeface="Times New Roman"/>
              </a:rPr>
              <a:t>	</a:t>
            </a:r>
            <a:r>
              <a:rPr b="1" i="1" lang="en-US" sz="2400" spc="-1" strike="noStrike">
                <a:solidFill>
                  <a:srgbClr val="000000"/>
                </a:solidFill>
                <a:latin typeface="Times New Roman"/>
              </a:rPr>
              <a:t> </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T</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K =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bq</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 - Số lần chu chuyển của vốn</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 - Doanh thu (doanh số bán hàng) của doanh nghiệp thương mạ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q - Số dư vốn lưu động bình quân.</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ỉ tiêu này cho biết, trong một khoảng thời gian nhất định, vốn lưu động quay được bao nhiêu vòng.</a:t>
            </a:r>
            <a:endParaRPr b="0" lang="en-US" sz="2000" spc="-1" strike="noStrike">
              <a:solidFill>
                <a:srgbClr val="000000"/>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78D704F-7B82-472A-A881-7D5D1A27EC5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4" name=""/>
          <p:cNvSpPr/>
          <p:nvPr/>
        </p:nvSpPr>
        <p:spPr>
          <a:xfrm>
            <a:off x="304920" y="1523880"/>
            <a:ext cx="8534160" cy="4726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i là, số ngày của một vòng quay của v  ốn lưu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Số ngày của một vòng quay của vốn lưu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Thời gian theo lịch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 Số lần chu chuyển của vốn lưu động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ỉ tiêu này cho biết để quay một vòng vốn lưu động cần bao nhiêu ngày.</a:t>
            </a:r>
            <a:endParaRPr b="0" lang="en-US" sz="2400" spc="-1" strike="noStrike">
              <a:solidFill>
                <a:srgbClr val="000000"/>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F44BBCD-C113-42C0-9628-0404FED12E4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9" name=""/>
          <p:cNvSpPr/>
          <p:nvPr/>
        </p:nvSpPr>
        <p:spPr>
          <a:xfrm>
            <a:off x="304920" y="152388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 là, Tỉ suất sinh lời của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  =</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q</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 Tỷ suất sinh lời của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 Tổng lợi nhuận thu được trong k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q - Số dư vốn lưu động bình quân.   </a:t>
            </a:r>
            <a:endParaRPr b="0" lang="en-US" sz="2800" spc="-1" strike="noStrike">
              <a:solidFill>
                <a:srgbClr val="000000"/>
              </a:solidFill>
              <a:latin typeface="Arial"/>
            </a:endParaRPr>
          </a:p>
        </p:txBody>
      </p:sp>
      <p:sp>
        <p:nvSpPr>
          <p:cNvPr id="1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730B7AF-29B9-4DE7-80B7-FFD1D318DE8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54" name=""/>
          <p:cNvSpPr/>
          <p:nvPr/>
        </p:nvSpPr>
        <p:spPr>
          <a:xfrm>
            <a:off x="304920" y="1523880"/>
            <a:ext cx="8534160" cy="5032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ốn là, Số vốn lưu động tiết kiệm được.</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a:t>
            </a:r>
            <a:r>
              <a:rPr b="0" lang="en-US" sz="2800" spc="-1" strike="noStrike">
                <a:solidFill>
                  <a:srgbClr val="000000"/>
                </a:solidFill>
                <a:latin typeface="Times New Roman"/>
              </a:rPr>
              <a:t>kh – Kb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 xObqkh Hoặc:</a:t>
            </a:r>
            <a:r>
              <a:rPr b="0" lang="en-US" sz="2000" spc="-1" strike="noStrike">
                <a:solidFill>
                  <a:srgbClr val="000000"/>
                </a:solidFill>
                <a:latin typeface="Times New Roman"/>
              </a:rPr>
              <a:t>  B = (Vbc – Vkh)DTkh/T</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bc</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rong đ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lang="en-US" sz="2000" spc="-1" strike="noStrike">
                <a:solidFill>
                  <a:srgbClr val="000000"/>
                </a:solidFill>
                <a:latin typeface="Times New Roman"/>
              </a:rPr>
              <a:t>	</a:t>
            </a:r>
            <a:r>
              <a:rPr b="0" lang="en-US" sz="2000" spc="-1" strike="noStrike">
                <a:solidFill>
                  <a:srgbClr val="000000"/>
                </a:solidFill>
                <a:latin typeface="Times New Roman"/>
              </a:rPr>
              <a:t>- Số vốn lưu động tiết kiệm được.</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bc</a:t>
            </a:r>
            <a:r>
              <a:rPr b="0" lang="en-US" sz="2000" spc="-1" strike="noStrike">
                <a:solidFill>
                  <a:srgbClr val="000000"/>
                </a:solidFill>
                <a:latin typeface="Times New Roman"/>
              </a:rPr>
              <a:t>	</a:t>
            </a:r>
            <a:r>
              <a:rPr b="0" lang="en-US" sz="2000" spc="-1" strike="noStrike">
                <a:solidFill>
                  <a:srgbClr val="000000"/>
                </a:solidFill>
                <a:latin typeface="Times New Roman"/>
              </a:rPr>
              <a:t>- Số vòng quay của vốn lưu động kỳ báo cáo.</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kh </a:t>
            </a:r>
            <a:r>
              <a:rPr b="0" lang="en-US" sz="2000" spc="-1" strike="noStrike">
                <a:solidFill>
                  <a:srgbClr val="000000"/>
                </a:solidFill>
                <a:latin typeface="Times New Roman"/>
              </a:rPr>
              <a:t>	</a:t>
            </a:r>
            <a:r>
              <a:rPr b="0" lang="en-US" sz="2000" spc="-1" strike="noStrike">
                <a:solidFill>
                  <a:srgbClr val="000000"/>
                </a:solidFill>
                <a:latin typeface="Times New Roman"/>
              </a:rPr>
              <a:t>- Số vòng quay của vốn lưu động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bqkh - Số dư vốn lưu động bình quân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bc </a:t>
            </a:r>
            <a:r>
              <a:rPr b="0" lang="en-US" sz="2000" spc="-1" strike="noStrike">
                <a:solidFill>
                  <a:srgbClr val="000000"/>
                </a:solidFill>
                <a:latin typeface="Times New Roman"/>
              </a:rPr>
              <a:t>	</a:t>
            </a:r>
            <a:r>
              <a:rPr b="0" lang="en-US" sz="2000" spc="-1" strike="noStrike">
                <a:solidFill>
                  <a:srgbClr val="000000"/>
                </a:solidFill>
                <a:latin typeface="Times New Roman"/>
              </a:rPr>
              <a:t>- Số ngày của một vòng quay vốn lưu động kỳ báo cáo</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kh </a:t>
            </a:r>
            <a:r>
              <a:rPr b="0" lang="en-US" sz="2000" spc="-1" strike="noStrike">
                <a:solidFill>
                  <a:srgbClr val="000000"/>
                </a:solidFill>
                <a:latin typeface="Times New Roman"/>
              </a:rPr>
              <a:t>	</a:t>
            </a:r>
            <a:r>
              <a:rPr b="0" lang="en-US" sz="2000" spc="-1" strike="noStrike">
                <a:solidFill>
                  <a:srgbClr val="000000"/>
                </a:solidFill>
                <a:latin typeface="Times New Roman"/>
              </a:rPr>
              <a:t>- Số ngày của một vòng quay vốn lưu động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Tkh- </a:t>
            </a:r>
            <a:r>
              <a:rPr b="0" lang="en-US" sz="2000" spc="-1" strike="noStrike">
                <a:solidFill>
                  <a:srgbClr val="000000"/>
                </a:solidFill>
                <a:latin typeface="Times New Roman"/>
              </a:rPr>
              <a:t>	</a:t>
            </a:r>
            <a:r>
              <a:rPr b="0" lang="en-US" sz="2000" spc="-1" strike="noStrike">
                <a:solidFill>
                  <a:srgbClr val="000000"/>
                </a:solidFill>
                <a:latin typeface="Times New Roman"/>
              </a:rPr>
              <a:t>- Doanh số bán hàng kỳ kế hoạch</a:t>
            </a:r>
            <a:endParaRPr b="0" lang="en-US" sz="2000" spc="-1" strike="noStrike">
              <a:solidFill>
                <a:srgbClr val="000000"/>
              </a:solidFill>
              <a:latin typeface="Arial"/>
            </a:endParaRPr>
          </a:p>
        </p:txBody>
      </p:sp>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EF0B673-9DAC-4C63-8343-9F40DD945B4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5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buClr>
                <a:srgbClr val="99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Khái niệm:</a:t>
            </a:r>
            <a:r>
              <a:rPr b="0" lang="en-US" sz="2800" spc="-1" strike="noStrike">
                <a:solidFill>
                  <a:srgbClr val="0066ff"/>
                </a:solidFill>
                <a:latin typeface="Times New Roman"/>
              </a:rPr>
              <a:t> Vốn cố định là biểu hiện bằng tiền của tài sản cố định.</a:t>
            </a:r>
            <a:r>
              <a:rPr b="0" lang="en-US" sz="2800" spc="-1" strike="noStrike">
                <a:solidFill>
                  <a:srgbClr val="000000"/>
                </a:solidFill>
                <a:latin typeface="Times New Roman"/>
              </a:rPr>
              <a:t> Vốn này dùng để xây dựng và trang bị các loại tài sản cố định khác nhau của doanh nghiệp.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b. Hình thái biểu hiệ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ình thái hiện vật</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ình thái tiền tệ</a:t>
            </a:r>
            <a:endParaRPr b="0" lang="en-US" sz="2800" spc="-1" strike="noStrike">
              <a:solidFill>
                <a:srgbClr val="000000"/>
              </a:solidFill>
              <a:latin typeface="Arial"/>
            </a:endParaRPr>
          </a:p>
        </p:txBody>
      </p:sp>
      <p:sp>
        <p:nvSpPr>
          <p:cNvPr id="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77A115F-35D9-4BBD-9620-821864E8EED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6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c. Phân loại TSCĐ theo đặc điểm và hình thức sử dụng</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dùng trong kinh doanh, đó là những tài sản cố định phục vụ trực tiếp cho hoạt động mua, bán, bảo quản, vận chuyển hàng hoá.</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phục vụ cho công tác quản lý như nhà làm việc, nhà tiếp khách, phòng hội họp, y tế, văn hoá, thể thao...</a:t>
            </a:r>
            <a:endParaRPr b="0" lang="en-US" sz="2800" spc="-1" strike="noStrike">
              <a:solidFill>
                <a:srgbClr val="000000"/>
              </a:solidFill>
              <a:latin typeface="Arial"/>
            </a:endParaRPr>
          </a:p>
        </p:txBody>
      </p:sp>
      <p:sp>
        <p:nvSpPr>
          <p:cNvPr id="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7CCAC18-A676-4C9F-888D-F9D81A49150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2"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1.</a:t>
            </a:r>
            <a:r>
              <a:rPr b="1" i="1" lang="en-US" sz="2800" spc="-1" strike="noStrike">
                <a:solidFill>
                  <a:srgbClr val="0066ff"/>
                </a:solidFill>
                <a:latin typeface="Times New Roman"/>
              </a:rPr>
              <a:t>	</a:t>
            </a: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 (tiếp)</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Không ngừng phát triển và nâng cao chất lượng hoạt động mua bán hàng hoá và dịch vụ, đồng thời đổi mới hệ thống chỉ tiêu chất lượng công tác của doanh nghiệp.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ặt khác, hạch toán kinh doanh giúp cho việc giải quyết hài hòa mối quan hệ giữa quản lý tập trung của nhà nước với quyền tự chủ của doanh nghiệp trong hoạt động sản xuất kinh doanh.</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41A0592-E422-4CF7-B09C-6619928B978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6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c. Phân loại TSCĐ theo đặc điểm và hình thức sử dụng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dùng cho nhu cầu phúc lợi của cán bộ công nhân viên như nhà nghỉ, những phương tiện đưa đón công nhân...</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không cần dùng đang chờ xử lý, đó là những tài sản cố định doanh nghiệp không có nhu cầu, hư hỏng đang chờ giải quyết thanh lý.</a:t>
            </a:r>
            <a:endParaRPr b="0" lang="en-US" sz="2800" spc="-1" strike="noStrike">
              <a:solidFill>
                <a:srgbClr val="000000"/>
              </a:solidFill>
              <a:latin typeface="Arial"/>
            </a:endParaRPr>
          </a:p>
        </p:txBody>
      </p:sp>
      <p:sp>
        <p:nvSpPr>
          <p:cNvPr id="1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B8F828C-7C72-4B18-8592-C27F904AD6A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7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d. Cơ cấu TSCĐ</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TSCĐ của các doanh nghiệp thương mại thường được tính bằng các loại, số lượng TSCĐ và tỷ trọng của mỗi loại so với toàn bộ TSCĐ của doanh nghiệp.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đó và sự thay đổi của nó nói lên trình độ kỹ thuật và khả năng phát triển hoạt động kinh doanh của ngành lưu thông hàng hoá.</a:t>
            </a:r>
            <a:endParaRPr b="0" lang="en-US" sz="2800" spc="-1" strike="noStrike">
              <a:solidFill>
                <a:srgbClr val="000000"/>
              </a:solidFill>
              <a:latin typeface="Arial"/>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2EC0EDF-F91F-4103-9105-46F5459A279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79" name=""/>
          <p:cNvSpPr/>
          <p:nvPr/>
        </p:nvSpPr>
        <p:spPr>
          <a:xfrm>
            <a:off x="304920" y="152388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e. Nguồn của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Nguồn vốn do ngân sách cấ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cổ phần từ các cổ đông đóng gó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do chủ doanh nghiệp bỏ ra ban đầu khi thành lập doanh nghiệp tư nhân,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tự bổ sung của doanh nghiệp trên cơ sở đầu tư mua sắm trang thiết bị từ quỹ phát triển sản xuất kinh doanh của doanh nghiệ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Nguồn vốn do liên doanh liên kết, nguồn vốn vay từ ngân hàng...</a:t>
            </a:r>
            <a:endParaRPr b="0" lang="en-US" sz="2800" spc="-1" strike="noStrike">
              <a:solidFill>
                <a:srgbClr val="000000"/>
              </a:solidFill>
              <a:latin typeface="Arial"/>
            </a:endParaRPr>
          </a:p>
        </p:txBody>
      </p:sp>
      <p:sp>
        <p:nvSpPr>
          <p:cNvPr id="1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21C2658-C115-4402-83BF-CDF50EA24B8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84" name=""/>
          <p:cNvSpPr/>
          <p:nvPr/>
        </p:nvSpPr>
        <p:spPr>
          <a:xfrm>
            <a:off x="304920" y="1523880"/>
            <a:ext cx="8534160" cy="3930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g. Chỉ tiêu đánh giá:</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Những chỉ tiêu dùng để đánh giá hiệu quả sử dụng vốn cố định bao gồm:</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                               </a:t>
            </a:r>
            <a:r>
              <a:rPr b="0" i="1" lang="nb-NO" sz="2800" spc="-1" strike="noStrike">
                <a:solidFill>
                  <a:srgbClr val="000000"/>
                </a:solidFill>
                <a:latin typeface="Times New Roman"/>
              </a:rPr>
              <a:t>Tổng mức lưu chuyển hàng hoá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600" spc="-1" strike="noStrike">
                <a:solidFill>
                  <a:srgbClr val="000000"/>
                </a:solidFill>
                <a:latin typeface="Times New Roman"/>
              </a:rPr>
              <a:t>Chỉ tiêu hiệu năng sử dụng TSCĐ  =</a:t>
            </a:r>
            <a:r>
              <a:rPr b="0" i="1" lang="en-US" sz="1600" spc="-1" strike="noStrike">
                <a:solidFill>
                  <a:srgbClr val="000000"/>
                </a:solidFill>
                <a:latin typeface="Times New Roman"/>
              </a:rPr>
              <a:t>   -------------------------------------------- --------x 100%</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Giá trị TSCĐ dùng vào kinh doanh.</a:t>
            </a:r>
            <a:r>
              <a:rPr b="0"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ổng lợi nhuận thực hiện trong kỳ</a:t>
            </a:r>
            <a:r>
              <a:rPr b="0"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ỉ suất sinh lời của TSCĐ =-   ---------------------------------------------------------------? 100%</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ía trị TSCĐ dùng vào kinh doanh trong kỳ</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AD5AE15-29A5-4A3F-9569-4E1B8AD3D6F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89"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Thực chất của việc bảo toàn vốn là giữ được giá trị thực tế hay sức mua của vốn (thể hiện bằng tiền), giữ được khả năng chuyển đổi so với các loại tiền khác tại một thời điểm nhất định. Nói cách khác, bảo toàn vốn chính là bảo toàn giá trị của các nguồn vố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iệc đánh giá tiến hành bằng cách so sánh số vốn hiện có của doanh nghiệp với số vốn doanh nghiệp phải bảo toàn theo ký kết giao nhận vốn hoặc theo kỳ trước.</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0DBF78B-93B6-4F85-978A-03D7413A3A6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94" name=""/>
          <p:cNvSpPr/>
          <p:nvPr/>
        </p:nvSpPr>
        <p:spPr>
          <a:xfrm>
            <a:off x="304920" y="1523880"/>
            <a:ext cx="8534160" cy="3629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ụ thể:</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ố vốn doanh nghiệp hiện c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ệ số bảo toàn vốn= ------------------------------------------------------------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ố vốn doanh nghiệp phải bảo toàn.</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ố vốn doanh nghiệp phải bảo toàn tại thời điểm xác định             =  Số vốn doanh nghiệp phải  bảo toàn khi giao nhận hoặc kỳ trước   X    Chỉ số giá và tỉ giá tại thời điểm xác định do cơ quan có thẩm quyền công bố</a:t>
            </a:r>
            <a:endParaRPr b="0" lang="en-US" sz="2200" spc="-1" strike="noStrike">
              <a:solidFill>
                <a:srgbClr val="000000"/>
              </a:solidFill>
              <a:latin typeface="Arial"/>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41228D3-6C0A-4A09-8AF3-E3AC6B86E6A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99" name=""/>
          <p:cNvSpPr/>
          <p:nvPr/>
        </p:nvSpPr>
        <p:spPr>
          <a:xfrm>
            <a:off x="304920" y="1523880"/>
            <a:ext cx="8534160" cy="3690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ếu hệ số bằng 1 tức là doanh nghiệp bảo toàn được vốn, lớn hơn 1, tức doanh nghiệp không những bảo toàn được vốn mà còn phát triển được vốn. Ngược lại, nếu nhỏ hơn 1, tức là doanh nghiệp không bảo toàn được vốn. Trường hợp này doanh nghiệp phải lấy thu nhập để bù. Vì vậy, cần tính thêm hệ số khả năng bảo toàn.</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000" spc="-1" strike="noStrike">
                <a:solidFill>
                  <a:srgbClr val="000000"/>
                </a:solidFill>
                <a:latin typeface="Times New Roman"/>
              </a:rPr>
              <a:t>ố vốn hiện có của doanh nghiệp + Thu nhập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ệ số khả năng  bảo toàn  = ----------------------------------------------------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ố vốn doanh nghiệp phải bảo toàn</a:t>
            </a:r>
            <a:endParaRPr b="0" lang="en-US" sz="2000" spc="-1" strike="noStrike">
              <a:solidFill>
                <a:srgbClr val="000000"/>
              </a:solidFill>
              <a:latin typeface="Arial"/>
            </a:endParaRPr>
          </a:p>
        </p:txBody>
      </p:sp>
      <p:sp>
        <p:nvSpPr>
          <p:cNvPr id="2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5F29576-29AE-44FE-BADA-5F563BC4867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V. Hiệu quả kinh tế thương mại</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204"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1.Khái niêm về hiệu quả kinh tế thương mại</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ệu quả kinh tế thương mại phản ánh trình độ sử dụng các nguồn lực của xã hội trong lĩnh vực thương mại thông qua những chỉ tiêu đặc trưng kinh tế kỹ thuật được xác định bằng tỉ lệ so sánh giữa các đại lượng phản ánh kết quả đạt được về kinh tế với các đại lượng phản ánh chi phí đã bỏ ra hoặc nguồn vật lực đã được huy động vào trong lĩnh vực kinh doanh thương mại.</a:t>
            </a:r>
            <a:endParaRPr b="0" lang="en-US" sz="2800" spc="-1" strike="noStrike">
              <a:solidFill>
                <a:srgbClr val="000000"/>
              </a:solidFill>
              <a:latin typeface="Arial"/>
            </a:endParaRPr>
          </a:p>
        </p:txBody>
      </p:sp>
      <p:sp>
        <p:nvSpPr>
          <p:cNvPr id="2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9F75810-D10D-4E1C-A51D-B0BA7A0AD61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0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1.Khái niêm về hiệu quả kinh tế thương mại</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ệu quả kinh tế thương mại trước hết biểu hiện mối tương quan giữa kết quả thu được và chi phí bỏ ra. Đó là một đại lượng so sánh giữa chi phí và kết quả bỏ ra.</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Kết quả đầu ra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ệu quả KTTM  =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hi phí đầu vào</a:t>
            </a:r>
            <a:endParaRPr b="0" lang="en-US" sz="2800" spc="-1" strike="noStrike">
              <a:solidFill>
                <a:srgbClr val="000000"/>
              </a:solidFill>
              <a:latin typeface="Arial"/>
            </a:endParaRPr>
          </a:p>
        </p:txBody>
      </p:sp>
      <p:sp>
        <p:nvSpPr>
          <p:cNvPr id="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8B00602-BCF1-47E9-90FF-C411902CDD7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1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ững chỉ tiêu tổng hợp trong phạm vi toàn nền kinh tế: Hiệu quả kinh tế thương mại trong phạm vi rộng thể hiện: tốc độ tăng trưởng của nền kinh tế, nâng cao thu nhập quốc dân do hoạt động thương mại tạo công ăn việc làm cho người lao động, sự nâng cao vị thế của nước ta trên trường quốc tế, sự cải thiện cán cân thanh toán và khai thác tối đa tiềm năng sản xuất...</a:t>
            </a:r>
            <a:endParaRPr b="0" lang="en-US" sz="2800" spc="-1" strike="noStrike">
              <a:solidFill>
                <a:srgbClr val="000000"/>
              </a:solidFill>
              <a:latin typeface="Arial"/>
            </a:endParaRPr>
          </a:p>
        </p:txBody>
      </p:sp>
      <p:sp>
        <p:nvSpPr>
          <p:cNvPr id="2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FFD6AA4-11C7-408E-9A92-BF6E6D20CB5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4" name=""/>
          <p:cNvSpPr/>
          <p:nvPr/>
        </p:nvSpPr>
        <p:spPr>
          <a:xfrm>
            <a:off x="304920" y="1371600"/>
            <a:ext cx="8534160" cy="381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1.</a:t>
            </a:r>
            <a:r>
              <a:rPr b="1" i="1" lang="en-US" sz="2400" spc="-1" strike="noStrike">
                <a:solidFill>
                  <a:srgbClr val="0066ff"/>
                </a:solidFill>
                <a:latin typeface="Times New Roman"/>
              </a:rPr>
              <a:t>	</a:t>
            </a:r>
            <a:r>
              <a:rPr b="1" i="1" lang="en-US" sz="2400" spc="-1" strike="noStrike">
                <a:solidFill>
                  <a:srgbClr val="0066ff"/>
                </a:solidFill>
                <a:latin typeface="Times New Roman"/>
              </a:rPr>
              <a:t>Bản chất và đặc điểm hạch toán kinh doanh</a:t>
            </a:r>
            <a:endParaRPr b="0" lang="en-US" sz="2400" spc="-1" strike="noStrike">
              <a:solidFill>
                <a:srgbClr val="000000"/>
              </a:solidFill>
              <a:latin typeface="Arial"/>
            </a:endParaRPr>
          </a:p>
          <a:p>
            <a:pPr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 (tiếp)</a:t>
            </a:r>
            <a:r>
              <a:rPr b="1" i="1" lang="en-US" sz="2400" spc="-1" strike="noStrike">
                <a:solidFill>
                  <a:srgbClr val="000000"/>
                </a:solidFill>
                <a:latin typeface="Times New Roman"/>
              </a:rPr>
              <a:t> Chế độ hạch toán kinh doanh cho phép giải quyết tốt các nhiệm vụ cơ bản sau:</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ột là: Bảo đảm cung ứng đầy đủ, kịp thời, đồng bộ các hàng hoá, dịch vụ cho các nhu cầu của sản xuất và đời sống, nâng cao mức hưởng thụ của giới tiêu dùng.</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 Tăng cường sự tác động của lĩnh vực lưu thông, phân phối đối với sản xuấ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 là : Giảm chi phí lưu thông hàng hoá, sử dụng có hiệu quả các nguồn lực đầu tư vào lĩnh vực kinh doanh thương</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C62D573-7AE3-4238-8FAD-392350CA509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19" name=""/>
          <p:cNvSpPr/>
          <p:nvPr/>
        </p:nvSpPr>
        <p:spPr>
          <a:xfrm>
            <a:off x="304920" y="1523880"/>
            <a:ext cx="8534160" cy="4299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hững chỉ tiêu tổng hợp trong phạm vi toàn nền kinh tế:</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ách tính hiệu quả tổng hợp của kinh tế TM.</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sd</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th=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sx</a:t>
            </a:r>
            <a:r>
              <a:rPr b="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th</a:t>
            </a:r>
            <a:r>
              <a:rPr b="1" lang="en-US" sz="2000" spc="-1" strike="noStrike">
                <a:solidFill>
                  <a:srgbClr val="000000"/>
                </a:solidFill>
                <a:latin typeface="Times New Roman"/>
              </a:rPr>
              <a:t>	</a:t>
            </a:r>
            <a:r>
              <a:rPr b="1" lang="en-US" sz="2000" spc="-1" strike="noStrike">
                <a:solidFill>
                  <a:srgbClr val="000000"/>
                </a:solidFill>
                <a:latin typeface="Times New Roman"/>
              </a:rPr>
              <a:t>- Hiệu quả kinh tế thương mại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sd </a:t>
            </a:r>
            <a:r>
              <a:rPr b="1" lang="en-US" sz="2000" spc="-1" strike="noStrike">
                <a:solidFill>
                  <a:srgbClr val="000000"/>
                </a:solidFill>
                <a:latin typeface="Times New Roman"/>
              </a:rPr>
              <a:t>	</a:t>
            </a:r>
            <a:r>
              <a:rPr b="1" lang="en-US" sz="2000" spc="-1" strike="noStrike">
                <a:solidFill>
                  <a:srgbClr val="000000"/>
                </a:solidFill>
                <a:latin typeface="Times New Roman"/>
              </a:rPr>
              <a:t>- Thu nhập quốc dân được sử dụng</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sx</a:t>
            </a:r>
            <a:r>
              <a:rPr b="1" lang="en-US" sz="2000" spc="-1" strike="noStrike">
                <a:solidFill>
                  <a:srgbClr val="000000"/>
                </a:solidFill>
                <a:latin typeface="Times New Roman"/>
              </a:rPr>
              <a:t>	</a:t>
            </a:r>
            <a:r>
              <a:rPr b="1" lang="pt-BR" sz="2000" spc="-1" strike="noStrike">
                <a:solidFill>
                  <a:srgbClr val="000000"/>
                </a:solidFill>
                <a:latin typeface="Times New Roman"/>
              </a:rPr>
              <a:t>- Thu nhập quốc dân được sản xuất ra.</a:t>
            </a:r>
            <a:endParaRPr b="0" lang="en-US" sz="2000" spc="-1" strike="noStrike">
              <a:solidFill>
                <a:srgbClr val="000000"/>
              </a:solidFill>
              <a:latin typeface="Arial"/>
            </a:endParaRPr>
          </a:p>
        </p:txBody>
      </p:sp>
      <p:sp>
        <p:nvSpPr>
          <p:cNvPr id="2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519EE63-9176-4E38-934F-5AB4BBFE76E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24"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hững chỉ tiêu tổng hợp trong phạm vi toàn nền kinh tế:</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hỉ tiêu này cho biết thu nhập quốc dân của một nước được tăng giảm như thế nào khi có sự tác động của hoạt động thương mại. Nếu tương quan trên lớn hơn 1 thì thương mại đã làm tăng thu nhập quốc dân, còn ngược lại thì làm giảm thu nhập quốc dân .</a:t>
            </a:r>
            <a:endParaRPr b="0" lang="en-US" sz="2800" spc="-1" strike="noStrike">
              <a:solidFill>
                <a:srgbClr val="000000"/>
              </a:solidFill>
              <a:latin typeface="Arial"/>
            </a:endParaRPr>
          </a:p>
        </p:txBody>
      </p:sp>
      <p:sp>
        <p:nvSpPr>
          <p:cNvPr id="2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B3C11CE-07A7-4F12-B6B0-B8E66F37A17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29" name=""/>
          <p:cNvSpPr/>
          <p:nvPr/>
        </p:nvSpPr>
        <p:spPr>
          <a:xfrm>
            <a:off x="304920" y="1523880"/>
            <a:ext cx="8534160" cy="4178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Times New Roman"/>
              </a:rPr>
              <a:t>Một là:</a:t>
            </a:r>
            <a:r>
              <a:rPr b="1" lang="pt-BR" sz="2000" spc="-1" strike="noStrike">
                <a:solidFill>
                  <a:srgbClr val="000000"/>
                </a:solidFill>
                <a:latin typeface="Times New Roman"/>
              </a:rPr>
              <a:t> Tổng lợi nhuận thu được trong kỳ (</a:t>
            </a:r>
            <a:r>
              <a:rPr b="1" i="1" lang="pt-BR" sz="2000" spc="-1" strike="noStrike">
                <a:solidFill>
                  <a:srgbClr val="000000"/>
                </a:solidFill>
                <a:latin typeface="Times New Roman"/>
              </a:rPr>
              <a:t>xem mục II chương IX).</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Times New Roman"/>
              </a:rPr>
              <a:t>Hai là:</a:t>
            </a:r>
            <a:r>
              <a:rPr b="1" lang="pt-BR" sz="2000" spc="-1" strike="noStrike">
                <a:solidFill>
                  <a:srgbClr val="000000"/>
                </a:solidFill>
                <a:latin typeface="Times New Roman"/>
              </a:rPr>
              <a:t> Mức doanh lợi trên doanh số bán.</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1=------------</a:t>
            </a:r>
            <a:r>
              <a:rPr b="0" lang="en-US" sz="2800" spc="-1" strike="noStrike">
                <a:solidFill>
                  <a:srgbClr val="000000"/>
                </a:solidFill>
                <a:latin typeface="Times New Roman"/>
              </a:rPr>
              <a:t>100%</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S</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ong đó: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r>
              <a:rPr b="1" lang="en-US" sz="2000" spc="-1" strike="noStrike">
                <a:solidFill>
                  <a:srgbClr val="000000"/>
                </a:solidFill>
                <a:latin typeface="Times New Roman"/>
              </a:rPr>
              <a:t>	</a:t>
            </a:r>
            <a:r>
              <a:rPr b="1" lang="en-US" sz="2000" spc="-1" strike="noStrike">
                <a:solidFill>
                  <a:srgbClr val="000000"/>
                </a:solidFill>
                <a:latin typeface="Times New Roman"/>
              </a:rPr>
              <a:t>- Mức doanh lợi của doanh nghiệp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 Lợi nhuận doanh nghiệp thực hiện được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S</a:t>
            </a:r>
            <a:r>
              <a:rPr b="1" lang="en-US" sz="2000" spc="-1" strike="noStrike">
                <a:solidFill>
                  <a:srgbClr val="000000"/>
                </a:solidFill>
                <a:latin typeface="Times New Roman"/>
              </a:rPr>
              <a:t>	</a:t>
            </a:r>
            <a:r>
              <a:rPr b="1" lang="en-US" sz="2000" spc="-1" strike="noStrike">
                <a:solidFill>
                  <a:srgbClr val="000000"/>
                </a:solidFill>
                <a:latin typeface="Times New Roman"/>
              </a:rPr>
              <a:t>- Là doanh số bán thực hiện của doanh nghiệp trong kỳ.</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F6EDC63-7905-4F1C-A925-F3AE5098BED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34" name=""/>
          <p:cNvSpPr/>
          <p:nvPr/>
        </p:nvSpPr>
        <p:spPr>
          <a:xfrm>
            <a:off x="304920" y="1523880"/>
            <a:ext cx="8534160" cy="3872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 là:</a:t>
            </a:r>
            <a:r>
              <a:rPr b="0" lang="en-US" sz="2800" spc="-1" strike="noStrike">
                <a:solidFill>
                  <a:srgbClr val="000000"/>
                </a:solidFill>
                <a:latin typeface="Times New Roman"/>
              </a:rPr>
              <a:t> Mức doanh lợi trê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2  =---------------100%</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VKD</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        - Mức doanh lợi của vốn kinh doanh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KD  - Tổng vốn kinh doanh trong kỳ. </a:t>
            </a:r>
            <a:endParaRPr b="0" lang="en-US" sz="2400" spc="-1" strike="noStrike">
              <a:solidFill>
                <a:srgbClr val="000000"/>
              </a:solidFill>
              <a:latin typeface="Arial"/>
            </a:endParaRPr>
          </a:p>
        </p:txBody>
      </p:sp>
      <p:sp>
        <p:nvSpPr>
          <p:cNvPr id="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559CD4-52C9-42F3-BE24-524B279667B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39" name=""/>
          <p:cNvSpPr/>
          <p:nvPr/>
        </p:nvSpPr>
        <p:spPr>
          <a:xfrm>
            <a:off x="304920" y="1447920"/>
            <a:ext cx="8534160" cy="3690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ốn là: Mức doanh lợi trên chi phí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P’3=------------</a:t>
            </a:r>
            <a:r>
              <a:rPr b="0" i="1" lang="en-US" sz="3200" spc="-1" strike="noStrike">
                <a:solidFill>
                  <a:srgbClr val="000000"/>
                </a:solidFill>
                <a:latin typeface="Times New Roman"/>
              </a:rPr>
              <a:t>?100%</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Cfkd</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ong đó: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3</a:t>
            </a:r>
            <a:r>
              <a:rPr b="1" i="1" lang="en-US" sz="2000" spc="-1" strike="noStrike">
                <a:solidFill>
                  <a:srgbClr val="000000"/>
                </a:solidFill>
                <a:latin typeface="Times New Roman"/>
              </a:rPr>
              <a:t>	</a:t>
            </a:r>
            <a:r>
              <a:rPr b="1" i="1" lang="en-US" sz="2000" spc="-1" strike="noStrike">
                <a:solidFill>
                  <a:srgbClr val="000000"/>
                </a:solidFill>
                <a:latin typeface="Times New Roman"/>
              </a:rPr>
              <a:t>- Mức sinh lời của chi phí kinh doanh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fkd</a:t>
            </a:r>
            <a:r>
              <a:rPr b="0" i="1" lang="en-US" sz="2000" spc="-1" strike="noStrike">
                <a:solidFill>
                  <a:srgbClr val="000000"/>
                </a:solidFill>
                <a:latin typeface="Times New Roman"/>
              </a:rPr>
              <a:t>	</a:t>
            </a:r>
            <a:r>
              <a:rPr b="0" i="1" lang="en-US" sz="2000" spc="-1" strike="noStrike">
                <a:solidFill>
                  <a:srgbClr val="000000"/>
                </a:solidFill>
                <a:latin typeface="Times New Roman"/>
              </a:rPr>
              <a:t>- Tổng chi phí kinh doanh của doanh nghiệp trong kỳ.</a:t>
            </a:r>
            <a:endParaRPr b="0" lang="en-US" sz="2000" spc="-1" strike="noStrike">
              <a:solidFill>
                <a:srgbClr val="000000"/>
              </a:solidFill>
              <a:latin typeface="Arial"/>
            </a:endParaRPr>
          </a:p>
        </p:txBody>
      </p:sp>
      <p:sp>
        <p:nvSpPr>
          <p:cNvPr id="2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9087A26-5B1F-451C-B6AA-9C0132F6A64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44" name=""/>
          <p:cNvSpPr/>
          <p:nvPr/>
        </p:nvSpPr>
        <p:spPr>
          <a:xfrm>
            <a:off x="304920" y="1447920"/>
            <a:ext cx="8534160" cy="40561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ăm là: Năng suất lao động bình quân của một lao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T</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W =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LĐbq</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ong đó: </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a:t>
            </a:r>
            <a:r>
              <a:rPr b="1" i="1" lang="en-US" sz="1800" spc="-1" strike="noStrike">
                <a:solidFill>
                  <a:srgbClr val="000000"/>
                </a:solidFill>
                <a:latin typeface="Times New Roman"/>
              </a:rPr>
              <a:t>	</a:t>
            </a:r>
            <a:r>
              <a:rPr b="1" i="1" lang="en-US" sz="1800" spc="-1" strike="noStrike">
                <a:solidFill>
                  <a:srgbClr val="000000"/>
                </a:solidFill>
                <a:latin typeface="Times New Roman"/>
              </a:rPr>
              <a:t>- Năng suất lao động bình quân của một lao động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T</a:t>
            </a:r>
            <a:r>
              <a:rPr b="1" i="1" lang="en-US" sz="1800" spc="-1" strike="noStrike">
                <a:solidFill>
                  <a:srgbClr val="000000"/>
                </a:solidFill>
                <a:latin typeface="Times New Roman"/>
              </a:rPr>
              <a:t>	</a:t>
            </a:r>
            <a:r>
              <a:rPr b="1" i="1" lang="en-US" sz="1800" spc="-1" strike="noStrike">
                <a:solidFill>
                  <a:srgbClr val="000000"/>
                </a:solidFill>
                <a:latin typeface="Times New Roman"/>
              </a:rPr>
              <a:t>- Doanh thu (doanh số bán) thực hiện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N</a:t>
            </a:r>
            <a:r>
              <a:rPr b="0" i="1" lang="en-US" sz="1800" spc="-1" strike="noStrike">
                <a:solidFill>
                  <a:srgbClr val="000000"/>
                </a:solidFill>
                <a:latin typeface="Times New Roman"/>
              </a:rPr>
              <a:t>	</a:t>
            </a:r>
            <a:r>
              <a:rPr b="0" i="1" lang="en-US" sz="1800" spc="-1" strike="noStrike">
                <a:solidFill>
                  <a:srgbClr val="000000"/>
                </a:solidFill>
                <a:latin typeface="Times New Roman"/>
              </a:rPr>
              <a:t>- Tổng thu nhập.</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Đbq - Tổng số lao động bình quân của doanh nghiệp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hú ý: Các chỉ tiêu hiệu quả trong chuỗi cung ứng)</a:t>
            </a:r>
            <a:endParaRPr b="0" lang="en-US" sz="1800" spc="-1" strike="noStrike">
              <a:solidFill>
                <a:srgbClr val="000000"/>
              </a:solidFill>
              <a:latin typeface="Arial"/>
            </a:endParaRPr>
          </a:p>
        </p:txBody>
      </p:sp>
      <p:sp>
        <p:nvSpPr>
          <p:cNvPr id="2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9D46CBE-DE5F-4861-A9F4-77D99F08F73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49" name=""/>
          <p:cNvSpPr/>
          <p:nvPr/>
        </p:nvSpPr>
        <p:spPr>
          <a:xfrm>
            <a:off x="304920" y="1447920"/>
            <a:ext cx="8534160" cy="4725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ột là: Tỷ suất ngoại tệ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ột đồng ngoại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           </a:t>
            </a:r>
            <a:r>
              <a:rPr b="1" i="1" lang="nb-NO" sz="2800" spc="-1" strike="noStrike">
                <a:solidFill>
                  <a:srgbClr val="000000"/>
                </a:solidFill>
                <a:latin typeface="Times New Roman"/>
              </a:rPr>
              <a:t>DT xk  (bằng ngoại tệ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xk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CP xk  (bằng bản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rong đ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Hxk</a:t>
            </a:r>
            <a:r>
              <a:rPr b="1" i="1" lang="pt-BR" sz="2800" spc="-1" strike="noStrike">
                <a:solidFill>
                  <a:srgbClr val="000000"/>
                </a:solidFill>
                <a:latin typeface="Times New Roman"/>
              </a:rPr>
              <a:t>	</a:t>
            </a:r>
            <a:r>
              <a:rPr b="1" i="1" lang="pt-BR" sz="2800" spc="-1" strike="noStrike">
                <a:solidFill>
                  <a:srgbClr val="000000"/>
                </a:solidFill>
                <a:latin typeface="Times New Roman"/>
              </a:rPr>
              <a:t>- Tỷ suất ngoại tệ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DT</a:t>
            </a:r>
            <a:r>
              <a:rPr b="1" i="1" lang="pt-BR" sz="2800" spc="-1" strike="noStrike">
                <a:solidFill>
                  <a:srgbClr val="000000"/>
                </a:solidFill>
                <a:latin typeface="Times New Roman"/>
              </a:rPr>
              <a:t>	</a:t>
            </a:r>
            <a:r>
              <a:rPr b="1" i="1" lang="pt-BR" sz="2800" spc="-1" strike="noStrike">
                <a:solidFill>
                  <a:srgbClr val="000000"/>
                </a:solidFill>
                <a:latin typeface="Times New Roman"/>
              </a:rPr>
              <a:t>- Doanh thu ngoại tệ do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a:t>
            </a:r>
            <a:r>
              <a:rPr b="0" i="1" lang="pt-BR" sz="2800" spc="-1" strike="noStrike">
                <a:solidFill>
                  <a:srgbClr val="000000"/>
                </a:solidFill>
                <a:latin typeface="Times New Roman"/>
              </a:rPr>
              <a:t>CPxk - Chi phí bản tệ chi ra cho xuất khẩu.</a:t>
            </a:r>
            <a:r>
              <a:rPr b="0" lang="pt-BR" sz="2800" spc="-1" strike="noStrike">
                <a:solidFill>
                  <a:srgbClr val="000000"/>
                </a:solidFill>
                <a:latin typeface="Times New Roman"/>
              </a:rPr>
              <a:t> </a:t>
            </a:r>
            <a:endParaRPr b="0" lang="en-US" sz="2800" spc="-1" strike="noStrike">
              <a:solidFill>
                <a:srgbClr val="000000"/>
              </a:solidFill>
              <a:latin typeface="Arial"/>
            </a:endParaRPr>
          </a:p>
        </p:txBody>
      </p:sp>
      <p:sp>
        <p:nvSpPr>
          <p:cNvPr id="2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7EAC436-5014-4EB8-9709-F60960A39F3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54" name=""/>
          <p:cNvSpPr/>
          <p:nvPr/>
        </p:nvSpPr>
        <p:spPr>
          <a:xfrm>
            <a:off x="304920" y="1447920"/>
            <a:ext cx="8534160" cy="48481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Hai là: Tỷ suất ngoại tệ nhập khẩu.</a:t>
            </a:r>
            <a:r>
              <a:rPr b="1" i="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DT nk  (bằng bản tệ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nk  =-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            </a:t>
            </a:r>
            <a:r>
              <a:rPr b="1" i="1" lang="nb-NO" sz="2800" spc="-1" strike="noStrike">
                <a:solidFill>
                  <a:srgbClr val="000000"/>
                </a:solidFill>
                <a:latin typeface="Times New Roman"/>
              </a:rPr>
              <a:t>CP nk  (bằng ngoại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Trong đ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Hnk</a:t>
            </a:r>
            <a:r>
              <a:rPr b="1" i="1" lang="nb-NO" sz="2400" spc="-1" strike="noStrike">
                <a:solidFill>
                  <a:srgbClr val="000000"/>
                </a:solidFill>
                <a:latin typeface="Times New Roman"/>
              </a:rPr>
              <a:t>	</a:t>
            </a:r>
            <a:r>
              <a:rPr b="1" i="1" lang="nb-NO" sz="2400" spc="-1" strike="noStrike">
                <a:solidFill>
                  <a:srgbClr val="000000"/>
                </a:solidFill>
                <a:latin typeface="Times New Roman"/>
              </a:rPr>
              <a:t>- Tỷ suất ngoại tệ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DTnk</a:t>
            </a:r>
            <a:r>
              <a:rPr b="1" i="1" lang="nb-NO" sz="2400" spc="-1" strike="noStrike">
                <a:solidFill>
                  <a:srgbClr val="000000"/>
                </a:solidFill>
                <a:latin typeface="Times New Roman"/>
              </a:rPr>
              <a:t>	</a:t>
            </a:r>
            <a:r>
              <a:rPr b="1" i="1" lang="nb-NO" sz="2400" spc="-1" strike="noStrike">
                <a:solidFill>
                  <a:srgbClr val="000000"/>
                </a:solidFill>
                <a:latin typeface="Times New Roman"/>
              </a:rPr>
              <a:t>- Doanh thu do nhập khẩu mang lại ( tính bằng bản tệ).</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CPnk</a:t>
            </a:r>
            <a:r>
              <a:rPr b="1" i="1" lang="nb-NO" sz="2400" spc="-1" strike="noStrike">
                <a:solidFill>
                  <a:srgbClr val="000000"/>
                </a:solidFill>
                <a:latin typeface="Times New Roman"/>
              </a:rPr>
              <a:t>	</a:t>
            </a:r>
            <a:r>
              <a:rPr b="1" i="1" lang="nb-NO" sz="2400" spc="-1" strike="noStrike">
                <a:solidFill>
                  <a:srgbClr val="000000"/>
                </a:solidFill>
                <a:latin typeface="Times New Roman"/>
              </a:rPr>
              <a:t>- Chi phí bằng ngoại tệ cho nhập khẩu(gồm cả chi phí vận chuyển từ cửa khẩu đến nơi tiêu thụ )</a:t>
            </a:r>
            <a:r>
              <a:rPr b="0" lang="nb-NO" sz="2400" spc="-1" strike="noStrike">
                <a:solidFill>
                  <a:srgbClr val="000000"/>
                </a:solidFill>
                <a:latin typeface="Times New Roman"/>
              </a:rPr>
              <a:t> </a:t>
            </a:r>
            <a:endParaRPr b="0" lang="en-US" sz="2400" spc="-1" strike="noStrike">
              <a:solidFill>
                <a:srgbClr val="000000"/>
              </a:solidFill>
              <a:latin typeface="Arial"/>
            </a:endParaRPr>
          </a:p>
        </p:txBody>
      </p:sp>
      <p:sp>
        <p:nvSpPr>
          <p:cNvPr id="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127EA5C-9BE5-458E-8B1E-F628A1C4E8A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59" name=""/>
          <p:cNvSpPr/>
          <p:nvPr/>
        </p:nvSpPr>
        <p:spPr>
          <a:xfrm>
            <a:off x="304920" y="1447920"/>
            <a:ext cx="8534160" cy="3872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Ba là: Tỷ suất ngoại tệ xuất nhập khẩu liên kết.</a:t>
            </a:r>
            <a:endParaRPr b="0" lang="en-US" sz="28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lk = Hxk X Hnk</a:t>
            </a:r>
            <a:endParaRPr b="0" lang="en-US" sz="28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DT xk               DT n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lk=-    ----------------   x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CP xk                CP n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F11B51F-B75F-483C-B72C-6656620EA75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64" name=""/>
          <p:cNvSpPr/>
          <p:nvPr/>
        </p:nvSpPr>
        <p:spPr>
          <a:xfrm>
            <a:off x="304920" y="1447920"/>
            <a:ext cx="8534160" cy="3629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a:t>
            </a:r>
            <a:r>
              <a:rPr b="0" i="1" lang="en-US" sz="3600" spc="-1" strike="noStrike">
                <a:solidFill>
                  <a:srgbClr val="000000"/>
                </a:solidFill>
                <a:latin typeface="Times New Roman"/>
              </a:rPr>
              <a:t>DT xk  = CP nk</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DT xk    DT nk      DT nk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Hlk = -----------x------------- =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CP xk    CP nk       CP xk         </a:t>
            </a: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D26026D-ADF5-4137-ADB0-751F68662BB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6" name=""/>
          <p:cNvSpPr/>
          <p:nvPr/>
        </p:nvSpPr>
        <p:spPr>
          <a:xfrm>
            <a:off x="304920" y="1371600"/>
            <a:ext cx="8534160" cy="2865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Bản chất và đặc điểm hạch toán kinh doanh</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b. Đặc điểm: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 Đặc điểm nổi bật là chế độ hạch toán kinh doanh được thực hiện trong lĩnh vực phân phối và lưu thông hàng hóa chuỗi cung ứng</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Chi phí thực hiện quá trình phân phối lưu thông (chi phí logistics chuỗi cung ứng)</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FAFC507E-4138-4F16-9808-5B47FF3D706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380880"/>
            <a:ext cx="8077320" cy="990720"/>
          </a:xfrm>
          <a:prstGeom prst="rect">
            <a:avLst/>
          </a:prstGeom>
          <a:solidFill>
            <a:srgbClr val="bbe0e3"/>
          </a:solid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269" name="PlaceHolder 2"/>
          <p:cNvSpPr>
            <a:spLocks noGrp="1"/>
          </p:cNvSpPr>
          <p:nvPr>
            <p:ph type="subTitle"/>
          </p:nvPr>
        </p:nvSpPr>
        <p:spPr>
          <a:xfrm>
            <a:off x="609480" y="1447560"/>
            <a:ext cx="8229600" cy="5105160"/>
          </a:xfrm>
          <a:prstGeom prst="rect">
            <a:avLst/>
          </a:prstGeom>
          <a:noFill/>
          <a:ln w="0">
            <a:noFill/>
          </a:ln>
        </p:spPr>
        <p:txBody>
          <a:bodyPr lIns="90000" rIns="90000" tIns="46800" bIns="46800"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Quan niệm hạch toán kinh doanh trong thương mại và phân biệt hạch toán kinh doanh với hạch toán kinh tế?</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ác phương pháp xác định doanh thu, chi phí và lợi nhuận trong thương mại.</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Đặc điểm vốn kinh doanh trong thương mại và phương pháp xác định các chỉ tiêu sử dụng vốn kinh doanh.</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Hiệu quả kinh tế thương mại và các chỉ tiêu đánh giá hiệu quả của các doanh nghiệp thương mạ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0987FC0-6428-44EE-B60D-B69F430EDF01}" type="slidenum">
              <a:t>6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8" name=""/>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b. Đặc điểm: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hững sự khác biệt cơ bản trong cơ cấu chi phí: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cơ cấu vốn của các doanh nghiệp thương mại</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ệc hình thành và sử dụng các quỹ trong doanh nghiệp thương mại</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63ACA6A-6F2A-4DBA-BF0D-652E426231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60" name=""/>
          <p:cNvSpPr/>
          <p:nvPr/>
        </p:nvSpPr>
        <p:spPr>
          <a:xfrm>
            <a:off x="304920" y="152388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Times New Roman"/>
              </a:rPr>
              <a:t>2. Nguyên tắc của hạch toán kinh doanh</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ự chủ trong hoạt động kinh doanh</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Lấy thu bù chi và bảo đảm có lãi.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hực hiện chế độ khuyến khích vật chất và trách nhiệm vật chất</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3600" spc="-1" strike="noStrike">
                <a:solidFill>
                  <a:srgbClr val="000000"/>
                </a:solidFill>
                <a:latin typeface="Times New Roman"/>
              </a:rPr>
              <a:t>- Giám đốc bằng tiền</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554443D2-9070-4A2D-921E-06B29120BA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Quản lý doanh thu,</a:t>
            </a:r>
            <a:r>
              <a:rPr b="0" lang="it-IT" sz="4000" spc="-1" strike="noStrike">
                <a:solidFill>
                  <a:srgbClr val="000000"/>
                </a:solidFill>
                <a:latin typeface="Times New Roman"/>
              </a:rPr>
              <a:t> chi phí và lợi nhuậ</a:t>
            </a:r>
            <a:r>
              <a:rPr b="0" lang="en-US" sz="4000" spc="-1" strike="noStrike">
                <a:solidFill>
                  <a:srgbClr val="000000"/>
                </a:solidFill>
                <a:latin typeface="Times New Roman"/>
              </a:rPr>
              <a:t>n</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62"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a:t>
            </a:r>
            <a:r>
              <a:rPr b="1" i="1" lang="en-US" sz="2800" spc="-1" strike="noStrike">
                <a:solidFill>
                  <a:srgbClr val="009999"/>
                </a:solidFill>
                <a:latin typeface="Times New Roman"/>
              </a:rPr>
              <a:t> Doanh thu</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Times New Roman"/>
              </a:rPr>
              <a:t>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thu từ hoạt động kinh doanh là toàn bộ tiền bán sản phẩm, hàng hoá, cung ứng dịch vụ trên thị trường sau khi đã trừ đi các khoản chiết khấu bán hàng, giảm giá hàng bán, hàng bán bị trả lại (nếu có chứng từ hợp lệ); thu từ phần trợ cấp của Nhà nước khi thực hiện việc cung cấp các hàng hoá và dịch vụ theo nhiệm vụ nhà nước giao mà thu không đủ bù đắp ch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99D5C1A-84DD-4A0C-BC7B-C0E6024010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15:53Z</dcterms:modified>
  <cp:revision>46</cp:revision>
  <dc:subject/>
  <dc:title>Slide 1</dc:title>
</cp:coreProperties>
</file>