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838-8346-41EC-B843-B7160FAD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A9A-7E3A-40B9-9A9E-EB8D4DFC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228-0E16-4716-84D3-B91BEA04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715-B75E-41E1-9F5B-05043F5F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6A1B1-566D-4FAB-8D65-F1F1E358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2989B-F337-4540-BA92-F2CC202A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A5A7C-C0A9-4E5D-9AAB-F5EB7F36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E58DC-748D-4F10-B693-FCA887BD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B74C3-2A42-460F-AC21-A0933854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A3868-53A0-4A7F-8526-38C4D7E1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300DE-6D3E-4576-9FC7-9D6F35AB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88AC-F18C-449C-A6FE-7E2EA415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E6293-4F9A-4158-B279-77C0A7C3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247B9-4B61-4EA1-8DCC-6662E696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3DEB9-965C-4247-A1A6-6BF12A2A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EEFC4-F1B1-4564-B793-AEB1F45A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F9FE2-D0DB-4244-B095-26A92AE1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36A-648B-4C3F-B13E-81F86B10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4BC-0F9B-4E46-BA99-2C7EF160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2DC-4144-4396-8B1B-09929253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BD7-D560-460D-9AD1-DFD4EDBC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7FE-E315-4DBB-A56C-79ECE05D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7C0-7C76-4DF7-917C-79D868BA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F7F-81D8-46C5-AB5A-24A924B9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CC16-9B82-444C-AC6B-B89173E15D44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AF51-E200-4DA0-8DA2-011130BE713C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5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Nội dung cần nắm đượ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- Các phương thức thuê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- Vận đơn (B/L - Bill of La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Trách nhiệm của người chuyên chở theo các công ước quốc tế và quy định của Việt 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- Các điều khoản trong VC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5- Khiếu nại người chuyên ch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 Theo c¸c ®Æc tr­ng kinh tÕ – kü thuËt cña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uæi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®éng c¬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u t¹o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p h¹ng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t¶i tµu (ULCC, VLCC,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68360" y="2204640"/>
            <a:ext cx="8424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3. Theo ph­¬ng thøc kinh doanh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î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liner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¹y r«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tramp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: tµu chuyÕn, tµu ®Þnh h¹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4- ®éi tµu bu«n thÕ giíi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280" y="2636640"/>
            <a:ext cx="79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ù ph¸t triÓn cña ®éi tµu bu«n thÕ gií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Xu h­íng tiÕn bé kü thuËt cña ®éi tµu bu«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5- ®éi tµu biÓn cña ViÖt Nam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55640" y="2707920"/>
            <a:ext cx="504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æng träng t¶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¬ cÊu ®éi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1. ®Þnh nghÜ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Lµ n¬i ra vµo neo ®Ëu ®Ó xÕp dì hµng hãa cña tµu biÓ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 chøc n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ng: phôc vô tµu vµ hµ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2. trang thiÕt b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ña c¶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3. c¸c chØ tiªu ho¹t ®éng cña c¶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è l­îng tµu ra vµ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è l­îng tµu cã thÓ lµm hµng trong cïng mét kháang thêi g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Khèi l­îng hµng hãa xÕp dì trong 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n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4. P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hân loại cả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5. c¶ng biÓn ViÖt 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9344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1268280"/>
            <a:ext cx="8425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I- Ưu nhược điểm của VT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- Ưu điểm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đầu tư cơ sở hạ tầng thấ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năng lực chuyên chở lớ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giá thành VTB thấ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2- Nhược đi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ốc độ thấp: 14 </a:t>
            </a:r>
            <a:r>
              <a:rPr b="1" lang="vi-V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 20 hải lý/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Nhiều rủi 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9344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II- Cơ sở vật chất kỹ thuật của VT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Tàu buôn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merchant ship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ảng biển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por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- Tàu buô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.1- khái niệ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Viện KTếHHải: là tàu chở hàng hóa hoặc hành khách vỡ mục đích thương mạ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.2- đặc trư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.2- đặc trưng kinh tế kỹ thuật của tàu biể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1269720"/>
            <a:ext cx="87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Tên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hủ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Cảng đăng ký của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của tàu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draugh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khi tàu không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khi tàu có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Vạch xếp hàng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Load line) – vạch Plimso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Đéng c¬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100 CB = 2,83 m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D = M/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nhÑ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LD – light 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nÆ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HD – heavy 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D = LD + träng l­îng hµng hãa vµ vËt phÈm cung ø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-Träng t¶i cña tµu (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carrying capacity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Träng t¶i tßan phÇn (DWC) = HD – 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Träng t¶i tÞnh (DWCC) = DWC – träng l­îng vËt phÈm cung ø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ng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 ký cña tµu (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register ton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g ký toµn phÇn (GRT - 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Gros Register To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g ký tÞnh (NRT - 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Net Register To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RT = GRT – dung tÝch c¸c phßng 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 ë, gi¶i trÝ, buång m¸y hoa tiª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-Dung tÝch chøa hµ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cargo space – CS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S hµng bao kiÖ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S hµng rê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Ö sè xÕp hµ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coefficient loading – CL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L = CS / DWC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Ö sè xÕp hµng cña hµ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stowage factor - SF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ff3300"/>
                </a:solidFill>
                <a:latin typeface=".VnTime"/>
              </a:rPr>
              <a:t>Lµm thÕ nµo ®Ó xÕp hµng tèi ­u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CL = SF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Sg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KÝch th­íc cña tµu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hiÒu dµi: chiÒu dµi toµn bé vµ chiÒu dµi theo mín n­íc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hiÒu réng cña tµu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p h¹ng cña tµu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class of ship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tµu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flag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: cê cña n­íc mµ tµu mang quèc tÞc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th­êng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conventional flag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ph­¬ng tiÖn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flag of convinience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ph­¬ng tiÖn phæ biÕn trong TMQT v</a:t>
            </a:r>
            <a:r>
              <a:rPr b="1" lang="fr-BE" sz="3000" spc="-1" strike="noStrike">
                <a:solidFill>
                  <a:srgbClr val="000066"/>
                </a:solidFill>
                <a:latin typeface="Times New Roman"/>
              </a:rPr>
              <a:t>ì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 2 lý do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+ chÝnh tr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+ kinh t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1. Theo c«ng dô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ë hµng kh«: tµu chë hµng b¸ch ho¸, tµu container, tµu LASH, tµu RO-RO, tµu LO-LO, tµu chë hµng ®«ng l¹nh, tµu kÕt hîp,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ë hµng láng: tµu dÇu, tµu chë nhiªn liÖu hãa lá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nh Huong</cp:lastModifiedBy>
  <dcterms:modified xsi:type="dcterms:W3CDTF">2010-12-18T21:53:27Z</dcterms:modified>
  <cp:revision>50</cp:revision>
  <dc:subject/>
  <dc:title>PowerPoint Presentation</dc:title>
</cp:coreProperties>
</file>