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955-F318-4B81-B31E-02B3783C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8F1-B96E-43EF-A14B-A0A91F91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DE3-A0D6-45F6-9B23-FBFE87F7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0E6-D0FB-48B5-BDCE-2CC6B263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8685A-470B-4021-B2CA-4F4A1C1C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53F35-556F-408C-AABB-6248CF01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D44D9-7335-430E-9529-EFDD447C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95BF0-ED55-473C-A17C-72C37E56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7C362-1157-42DA-806E-23EE3A33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9DBB0-667F-43E2-82C6-75DB3FB4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4BD4C-1BBD-4897-BF94-CBF1A79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0F1-E125-4BB2-9E8D-3025C0F4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E861F-28A3-436C-9534-A2577988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F98A9-7AD4-45CF-BA55-FD338266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5B26A-5C08-4147-B597-B92F11E8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6E355-7C08-4F0D-82D7-E9E53DEF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4E9BE-88B6-4E49-AD16-2395FAF6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903-6323-4CF0-B49D-0DC618FA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343-B0FE-4146-B851-D0D31EAD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E47-59C0-45D4-8A09-D64AE4D1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FA7-A363-4BA4-B00E-BD40DF7B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B36-750A-40AB-8E59-9B678E23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C80-0E27-4E23-9AD2-F3439B7B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1D4-4265-49B7-B0FE-54B9055A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A86A-4208-49FE-8B11-22B7D5BD7B3C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8F33-2216-45BE-89B3-7CA07BAB8CE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Nội dung cần nắm đượ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Các phương thức thuê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- Vận đơn (B/L - 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Trách nhiệm của người chuyên chở theo các công ước quốc tế và quy định của Việ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- Các điều khoản trong V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5- Khiếu nại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 Theo c¸c ®Æc tr­ng kinh tÕ – kü thuËt cña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uæ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®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u t¹o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p h¹ng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t¶i tµu (ULCC, VLCC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8360" y="220464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3. Theo ph­¬ng thøc kinh doanh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î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iner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¹y r«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tramp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: tµu chuyÕn, tµu ®Þnh h¹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4- ®éi tµu bu«n thÕ giíi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280" y="263664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ù ph¸t triÓn cña ®éi tµu bu«n thÕ gií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Xu h­íng tiÕn bé kü thuËt cña ®éi tµu bu«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5- ®éi tµu biÓn cña ViÖt Nam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55640" y="2707920"/>
            <a:ext cx="504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æng träng t¶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¬ cÊu ®é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1. ®Þnh nghÜ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Lµ n¬i ra vµo neo ®Ëu ®Ó xÕp dì hµng hãa cña tµu biÓ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 chøc n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ng: phôc vô tµu vµ hµ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2. trang thiÕt b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3. c¸c chØ tiªu ho¹t ®éng 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ra vµ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cã thÓ lµm hµng trong cïng mét kháang thêi g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Khèi l­îng hµng hãa xÕp dì trong 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n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4. P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hân loại cả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5. c¶ng biÓn ViÖ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9344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1268280"/>
            <a:ext cx="8425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- Ưu nhược điểm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Ưu điể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đầu tư cơ sở hạ tầng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năng lực chuyên chở lớ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giá thành VTB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Nhượ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ốc độ thấp: 14 </a:t>
            </a:r>
            <a:r>
              <a:rPr b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 20 hải lý/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Nhiều rủi 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9344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I- Cơ sở vật chất kỹ thuật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àu buô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merchant ship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ảng biể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por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Tàu buô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.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iện KTếHHải: là tàu chở hàng hóa hoặc hành khách vỡ mục đích thương mạ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 kinh tế kỹ thuật của tàu biể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26972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ên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hủ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ảng đăng ký của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của tàu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rau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không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có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ạch xếp hà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Load line) – vạch Plimso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Đ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00 CB = 2,83 m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D = M/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hÑ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D – light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Æ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HD – heavy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D = LD + träng l­îng hµng hãa vµ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-Träng t¶i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carrying capacity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ßan phÇn (DWC) = HD – 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Þnh (DWCC) = DWC – träng l­îng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ng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 ký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register ton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oµn phÇn (G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Gros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Þnh (N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Net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RT = GRT – dung tÝch c¸c phßng 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 ë, gi¶i trÝ, buång m¸y hoa tiª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-Dung tÝch chøa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argo space – CS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bao kiÖ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rê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oefficient loading – CL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L = CS / DWC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hµ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stowage factor -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3300"/>
                </a:solidFill>
                <a:latin typeface=".VnTime"/>
              </a:rPr>
              <a:t>Lµm thÕ nµo ®Ó xÕp hµng tèi ­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CL =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Sg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KÝch th­íc cña tµu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dµi: chiÒu dµi toµn bé vµ chiÒu dµi theo mín n­í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réng cña tµ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p h¹ng cña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lass of ship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: cê cña n­íc mµ tµu mang quèc tÞc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h­êng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onventional 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 of convinience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phæ biÕn trong TMQT v</a:t>
            </a:r>
            <a:r>
              <a:rPr b="1" lang="fr-BE" sz="3000" spc="-1" strike="noStrike">
                <a:solidFill>
                  <a:srgbClr val="000066"/>
                </a:solidFill>
                <a:latin typeface="Times New Roman"/>
              </a:rPr>
              <a:t>ì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 2 lý do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chÝnh tr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kinh t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. Theo c«ng dô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kh«: tµu chë hµng b¸ch ho¸, tµu container, tµu LASH, tµu RO-RO, tµu LO-LO, tµu chë hµng ®«ng l¹nh, tµu kÕt hîp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láng: tµu dÇu, tµu chë nhiªn liÖu hãa lá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3:27Z</dcterms:modified>
  <cp:revision>50</cp:revision>
  <dc:subject/>
  <dc:title>PowerPoint Presentation</dc:title>
</cp:coreProperties>
</file>