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BF5-24F5-4159-93B2-3B49CFE2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8F3-6B15-4B58-8CC0-0B509142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AE2-D140-4DF6-9F8A-3AA8F1A7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CDF-7981-4D93-B300-106714CB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969C-E204-499A-84E0-CDC7CCA3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C372-DE88-44AA-8BDD-F75C54F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E76C6-C2D6-4C0E-95C2-CA69DDE4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61058-39ED-4FEE-95A0-E909AFEA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E3215-0453-4CCC-8A54-010187EC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798D-971A-4CE5-AF43-AFCEDDB1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8221C-4D6E-4AF0-8A52-FFD7803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BA5-8C53-45C6-80AD-B758C281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42FFF-D215-4268-96D3-0393035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05A72-2A2D-46BF-ADA9-9EFA8F8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F615-1667-4F54-B8D2-842ED6E9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1EAB-2344-40D7-BA68-8A04FE97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D9BEA-3DD0-4938-A53E-DDD8E10A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980-DD6D-4BE4-9A0E-F9891C57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145-8738-4D90-884F-DB84E5C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8C5-E852-4695-8817-84CAAC8A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DF5-8087-485A-9D6D-5F7E2476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E0F-762E-4DC0-818D-51E6CA3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FAB-BC87-47D2-BB93-5621F46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5AB-6AB0-404E-BBD1-9A291EA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B47C-2C59-4B34-B63A-0A1A682E02A1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9D4D-5EF0-49AF-B100-E9367A339CA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7855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ợ là tàu chở hàng thường xuyên chạy trên một tuyến đường nhất định, ghé qua những cảng nhất định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huê tàu chợ là việc chủ hàng thông qua đại lý yêu cầu giành một chỗ trên tàu để chuyên chở hàng hóa từ nơi này đến nơ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Booking note </a:t>
            </a:r>
            <a:r>
              <a:rPr b="1" i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 giấy lưu khoang (giấy lưu cước tàu chợ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4.4- căn cứ vào việc đã xếp hàng hay chư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đã xếp (shipped on boar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nhận để xếp (received for shipment BL, taken in charg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4.5- một số loại BL và chứng từ vận tả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do người giao nhận cấp (FBL, FCT, Hous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theo hợp đồng thuê tàu (charter party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ã xuất trỡnh (surrendere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có thể thay đổi (switch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L thuyền phó (mate’s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Giấy gửi hàng đường biển (seawaybi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ến chậm (Stal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5- Nội du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5.2- Mặt sau: các điều khoản in sẵn của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ã</a:t>
            </a: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ng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th to blame collision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ffffff"/>
                </a:solidFill>
                <a:latin typeface="Tahoma"/>
              </a:rPr>
              <a:t>General average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guồn luật áp dụ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đặ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ạy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ước phí được công bố từ trướ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F = f + I + O + S (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ứng từ vận tải B/L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Áp dụng khi nà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l of lading, Ocean bill of lading, marine bill of l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Là chứng từ vận tải mà người chuyên chở cấp cho người gửi hàng khi nhận hàng để xếp hoặc xếp hàng lên tà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2- Cách phát hành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ược phát hành thành các bản gốc và bản copy (bản sa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ột bộ BL thường gồm 3 bản gốc và nhiều bản 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Số bản copy được cấp theo yêu cầu của người gửi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ằng chứng của hợp đồng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iên lai nhận hàng để chở của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Là chứng từ sở hữu hàng hóa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document of tit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BL: là việc ký và đóng dấu vào mặt sau của tờ BL, qua đó tài sản được chuyển từ sở hữu của người này sang người khá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ó 3 cách ký hậ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đích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theo lệ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vô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1- căn cứ vào người hưởng thụ trên BL (hoặc khả năng lưu thông của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đích danh (strai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theo lệnh (to order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vô danh (to bearer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2- căn cứ vào ghi chú trên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hoàn hảo (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BL không hoàn hảo (un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3- căn cứ vào hành trỡnh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i thẳ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irec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chở suốt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hrou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a phương thức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multimodal transport BL, intermodal transport BL, combined transport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7:57Z</dcterms:modified>
  <cp:revision>46</cp:revision>
  <dc:subject/>
  <dc:title>PowerPoint Presentation</dc:title>
</cp:coreProperties>
</file>