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94195-3AF9-4C10-99AD-4C457CFBB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6D71D-9638-48F4-8CF5-E483624B6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DF4CD-1210-4039-95BE-F2BB54AAC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C7644-9269-4E1F-9891-E9B1988B7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A70C5-3986-4143-A710-FB083A281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30A8A-D93A-4B7D-A4FC-8CF44FABD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164EB-25B9-4699-9EBF-55152D269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10F28-9B41-4925-AC54-8D0A37D95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5DD7A-5ACA-4884-954A-C8335BB0F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D2FFA-E4E7-4376-9F49-362A310CC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9F6DC-49D9-41ED-8FE5-5BC2D39AF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DA301-51DF-4118-AE01-75BC363E2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A1427-167A-4333-B543-4EB26C058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1D04-9F1C-44AF-8B7E-C535FE381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35CED-D43B-475D-AC4F-E44E5A15D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DC656-8810-4DE8-86CE-5734D0767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ED10C-6BCB-426C-8BF5-0B976D71F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E46A1-8619-4F6C-9BF1-6C9B10492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EAEDD-F2E2-4765-8640-B4317B30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2F32F-40A2-413D-830D-8C9C7AA1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3687D-56D7-4552-9CDB-240E628AE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8D52-A7EE-4D2C-A9BF-CB075B32B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C5CD-D4DB-458C-B8E8-0AAFB2EEC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631C6-D2AF-47C9-9922-9A26D5C70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D4DE-D9B1-4272-A815-13845CA90A4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86AF-7817-44B2-8653-30C506E716E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Vận tải và giao nhận hàng hóa XNK</a:t>
            </a:r>
            <a:endParaRPr b="1"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Tác dụng của vận tải quốc tế</a:t>
            </a:r>
            <a:br>
              <a:rPr sz="3200"/>
            </a:b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thúc đẩy buôn bán quốc tế phát triển: “Khối lượng hàng hóa lưu chuyển giữa hai nước tỷ lệ thuận với tích số tiềm năng kinh tế của hai nước và tỷ lệ nghịch với khoảng cách chuyên chở giữa hai nước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Q = P</a:t>
            </a:r>
            <a:r>
              <a:rPr b="1" lang="en-US" sz="2400" spc="-1" strike="noStrike" baseline="-25000">
                <a:solidFill>
                  <a:srgbClr val="800080"/>
                </a:solidFill>
                <a:latin typeface="Arial"/>
              </a:rPr>
              <a:t>1</a:t>
            </a:r>
            <a:r>
              <a:rPr b="1" lang="en-US" sz="2400" spc="-1" strike="noStrike">
                <a:solidFill>
                  <a:srgbClr val="800080"/>
                </a:solidFill>
                <a:latin typeface="Arial"/>
              </a:rPr>
              <a:t>P</a:t>
            </a:r>
            <a:r>
              <a:rPr b="1" lang="en-US" sz="2400" spc="-1" strike="noStrike" baseline="-25000">
                <a:solidFill>
                  <a:srgbClr val="800080"/>
                </a:solidFill>
                <a:latin typeface="Arial"/>
              </a:rPr>
              <a:t>2</a:t>
            </a:r>
            <a:r>
              <a:rPr b="1" lang="en-US" sz="2400" spc="-1" strike="noStrike">
                <a:solidFill>
                  <a:srgbClr val="800080"/>
                </a:solidFill>
                <a:latin typeface="Arial"/>
              </a:rPr>
              <a:t>/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mở rộng cơ cấu mặt hàng và cơ cấu thị trường trong buôn bán quốc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cải thiện cán cân thanh toán quốc tế</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1. Quyền vận tải và quyền thuê tà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vận tải là quyền và nghĩa vụ tổ chức quá trình chuyên chở hàng hóa và thanh toán cước phí trực tiếp với người chuyên ch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thuê tàu là quyền vận tải đường biể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 Phân chia trách nhiệm vận tải trong hợp đồng mua bán ngoại thươ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1. Căn cứ để phân chia trách nhiệm vận tải: các điều kiện cơ sở giao hàng trong Incoterms 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3.2.2. Cách thức phân ch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ăn cứ vào chặng vận tải chính</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E: EX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F: FCA, FOB, F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C: CIP, CPT, CIF, CF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D: DDP, DAT, DAP</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hững lợi ích khi giành được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Bên giành được quyền vận tải có được sự chủ động trong việc tổ chức chuyên chở, đàm phán, ký kết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iành được quyền thuê tàu cho phép ngoại thương sử dụng tốt lực lượng tàu buôn và phương tiện vận tải trong nước, đồng thời góp phần các nghiệp vụ khác cùng phát triển (bảo hiểm, môi giới, gom hàng, giao nhậ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Nếu hợp đồng mua bán ngoại thương không quy định một thời hạn giao hàng cụ thể, bên giành được quyền vận tải có được sự chủ động trong việc thuê tàu, giao nhận hàng hóa tại cảng biể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óp phần tăng thu, giảm chi ngoại tệ cho đất nướ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ó điều kiện tham gia vào phân công lao động trên thị trường thuê tàu trong khu vực và trên thế giới; chủ động thực hiện các chính sách đối ngoại, đẩy mạnh XK của Đảng và Nhà nướ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ff0000"/>
                </a:solidFill>
                <a:latin typeface="Arial"/>
              </a:rPr>
              <a:t>Một số trường hợp không nên giành quyền vận tải/ quyền thuê tà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giá cước trên thị trường thuê tàu có xu hướng tăng mạnh so với thời điểm ký kết hợp đồng mua bán ngoại thươ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thấy khó khăn trong việc thuê tàu để thực hiện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Tính toán thấy sự chênh lệch giữa giá XK CIF, CFR với giá NK FOB do người nước ngoài đề nghị không lớn và mức chênh lệch này không đủ để bù đắp cước phí vận tải và/ hoặc phí bảo hiểm mà chúng ta phải bỏ ra (hoặc sự chênh lệch giữa giá NK CIF/CFR do người nước ngoài chào và giá NK FOB mà chúng ta định mua quá nh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cần bán hoặc quá cần mua một mặt hàng nào đó mà phí đối phương lại muốn giành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Khi tập quán hoặc luật lệ quốc tế quy đị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ô tả môn học</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nTime"/>
              </a:rPr>
              <a:t>M</a:t>
            </a:r>
            <a:r>
              <a:rPr b="0" lang="en-US" sz="2800" spc="-1" strike="noStrike">
                <a:solidFill>
                  <a:srgbClr val="800080"/>
                </a:solidFill>
                <a:latin typeface="Arial"/>
              </a:rPr>
              <a:t>ôn học vận tải và giao nhận hàng hóa XNK gồm 3 đơn vị học trình (45 tiết )nhằm trang bị cho người học một cách có hệ thống, khoa học, toàn diện các kiến thức nghiệp vụ chủ yếu về vận tải giao nhận hàng hóa XNK trong lĩnh vực thương mại quốc tế.</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ết cấu nội dung môn học: 7 chương</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 Vận tải trong buôn bán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 Chuyên chở hàng hóa XNK bằng đường bi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Contain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đường hàng khô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V: Vận tải đa phương thức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VII: Giao nhận hàng hóa XNK chuyên chở bằng đường biể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áo trình- Tài liệu tham khả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ận tải và giao nhận trong ngoại thương, PGS.TS. Nguyễn Như Tiến, NXB Giao thông vận tải, 20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ác công ước quốc tế về vận tải và hàng hải, Trường ĐH Ngoại thương,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ộ luật hàng hải, 20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uật hàng không dân dụng, 200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ương I: Vận tải trong buôn bán quốc tế</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spcBef>
                <a:spcPts val="60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Khái quát về vận tải</a:t>
            </a:r>
            <a:endParaRPr b="0" lang="en-US" sz="2400" spc="-1" strike="noStrike">
              <a:solidFill>
                <a:srgbClr val="003366"/>
              </a:solidFill>
              <a:latin typeface="Arial"/>
            </a:endParaRPr>
          </a:p>
          <a:p>
            <a:pPr marL="711360" indent="-71136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Định nghĩa</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rộng: “Vận tải là một quy trình kỹ thuật của bất kỳ sự di chuyển vị trí nào trong không gian của con người và vật phẩm”</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hẹp (kinh tế): “Vận tải là một hoạt động kinh tế có mục đích của con người nhằm đáp ứng nhu cầu di chuyển vị trí trong không gian của đối tượng vận chuyển</a:t>
            </a:r>
            <a:r>
              <a:rPr b="0" lang="en-US" sz="2400" spc="-1" strike="noStrike">
                <a:solidFill>
                  <a:srgbClr val="800080"/>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2. Đặc điể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1" lang="en-US" sz="1800" spc="-1" strike="noStrike">
                <a:solidFill>
                  <a:srgbClr val="800080"/>
                </a:solidFill>
                <a:latin typeface="Arial"/>
              </a:rPr>
              <a:t>Sức lao động</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Đối tượng lao động</a:t>
            </a:r>
            <a:r>
              <a:rPr b="1" lang="en-US" sz="1800" spc="-1" strike="noStrike">
                <a:solidFill>
                  <a:srgbClr val="800080"/>
                </a:solidFill>
                <a:latin typeface="Arial"/>
              </a:rPr>
              <a:t>	</a:t>
            </a:r>
            <a:r>
              <a:rPr b="1" lang="en-US" sz="1800" spc="-1" strike="noStrike">
                <a:solidFill>
                  <a:srgbClr val="800080"/>
                </a:solidFill>
                <a:latin typeface="Arial"/>
              </a:rPr>
              <a:t>Sản phẩm mới</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ông cụ lao động</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 đặc biệ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xuất trong ngành vận tải là quá trình tác động vào đối tượng lao động về mặt không gia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phẩm của ngành vận tải có tính chất vô hìn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trình sản xuất và tiêu thụ không tách rời nhau</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p:nvPr/>
        </p:nvSpPr>
        <p:spPr>
          <a:xfrm>
            <a:off x="2895480" y="3429000"/>
            <a:ext cx="6858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flipV="1">
            <a:off x="2895480" y="3733920"/>
            <a:ext cx="6098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5867280" y="37339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910440" y="83412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3. Phân loại vận tải</a:t>
            </a:r>
            <a:endParaRPr b="0" lang="en-US" sz="20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1. Căn cứ vào phạm vi phục vụ</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nội bộ</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công cộng</a:t>
            </a:r>
            <a:endParaRPr b="0" lang="en-US" sz="16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2. Căn cứ vào môi trường hoạt động</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thủ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pha sô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hồ</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ộ:</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ắt</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ô tô</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hàng kh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máy ba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khinh khí cầu</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vệ tinh</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ốn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3. Căn cứ vào đối tượng chuyên chở</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g hó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h khá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4. Căn cứ vào cách tổ chức quá trình vận chuy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ơn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a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chặ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5. Căn cứ vào khoảng cách hoạt độ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gầ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x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I. Vận tải quốc tế</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Khái niệm và đặc điểm</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1. Khái niệm: “Vận tải quốc tế là quá trình chuyên chở hàng hóa được tiến hành trên lãnh thổ của hai hay nhiều nước khác nhau”</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2. Đặc điểm</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iệc chuyên chở diễn ra trên lãnh thổ của hai nước trở lên</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ơi đi và nơi đến phải thuộc hai nước khác nhau</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Các mối quan hệ phát sinh trong quá trình vận chuyển phải do các quy phạm pháp luật quốc tế điều chỉn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07:27Z</dcterms:created>
  <dc:creator> Ha</dc:creator>
  <dc:description/>
  <dc:language>en-US</dc:language>
  <cp:lastModifiedBy>Cun</cp:lastModifiedBy>
  <dcterms:modified xsi:type="dcterms:W3CDTF">2011-01-13T13:09:05Z</dcterms:modified>
  <cp:revision>48</cp:revision>
  <dc:subject/>
  <dc:title>Bảo hiểm trong kinh doanh</dc:title>
</cp:coreProperties>
</file>