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52B-9FEF-4921-9950-1CEAB186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A03-F29C-401F-AA50-54A2572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E58-F3F9-49A5-AB90-1A8A6F00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879-8AEA-4B1E-B8DE-4B7B385E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55E9F-85FA-40BC-A149-8616DDE8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76AF5-62A6-4C77-B8BD-B4533247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F1DD-D534-4A60-8A46-E4665341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96E88-834E-446D-ABD2-882074E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3B730-3A1A-4DC6-B8CA-27834D08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5067C-B4E7-4378-AAA9-67A51820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2D123-BBE1-40FF-ABA7-E2A69A7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AE1-8C62-4CF1-963B-A0B1A0A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F9CAD-85B5-4E90-90B4-0F17AAA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52D3E-65E3-4649-B4AE-E93CD50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F505-9E37-4D0A-8307-721A361A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6DC16-A5B3-42C5-9201-903232EB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E46A6-24B1-4B10-972A-73152A55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D39-E0EC-4920-B944-0EF3FDC7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0C1-2836-4D61-A621-B555A63B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66E-18E5-4624-99FF-AE9D3D75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B52-63ED-4DFC-B619-BE47F1A7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DA0-95CF-43E1-BAB7-8F7BB14B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150-84E0-4347-B37B-AC0966A6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F33-71C6-4609-B347-BE862CF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52F7-9568-447F-A656-5C9F2E65D954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F5B-C396-431F-86EE-9469CAE97BE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785520"/>
            <a:ext cx="8893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ợ là tàu chở hàng thường xuyên chạy trên một tuyến đường nhất định, ghé qua những cảng nhất định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huê tàu chợ là việc chủ hàng thông qua đại lý yêu cầu giành một chỗ trên tàu để chuyên chở hàng hóa từ nơi này đến nơ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Booking note </a:t>
            </a:r>
            <a:r>
              <a:rPr b="1" i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 giấy lưu khoang (giấy lưu cước tàu chợ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4.4- căn cứ vào việc đã xếp hàng hay chư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đã xếp (shipped on boar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nhận để xếp (received for shipment BL, taken in charg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4.5- một số loại BL và chứng từ vận tả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do người giao nhận cấp (FBL, FCT, Hous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theo hợp đồng thuê tàu (charter party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ã xuất trỡnh (surrendere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có thể thay đổi (switch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L thuyền phó (mate’s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Giấy gửi hàng đường biển (seawaybi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ến chậm (Stal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5- Nội du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5.2- Mặt sau: các điều khoản in sẵn của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ã</a:t>
            </a: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ng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th to blame collision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ffffff"/>
                </a:solidFill>
                <a:latin typeface="Tahoma"/>
              </a:rPr>
              <a:t>General average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guồn luật áp dụ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đặ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ạy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ước phí được công bố từ trướ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F = f + I + O + S (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ứng từ vận tải B/L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Áp dụng khi nà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l of lading, Ocean bill of lading, marine bill of l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Là chứng từ vận tải mà người chuyên chở cấp cho người gửi hàng khi nhận hàng để xếp hoặc xếp hàng lên tà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2- Cách phát hành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ược phát hành thành các bản gốc và bản copy (bản sa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ột bộ BL thường gồm 3 bản gốc và nhiều bản 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Số bản copy được cấp theo yêu cầu của người gửi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ằng chứng của hợp đồng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iên lai nhận hàng để chở của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Là chứng từ sở hữu hàng hóa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document of tit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BL: là việc ký và đóng dấu vào mặt sau của tờ BL, qua đó tài sản được chuyển từ sở hữu của người này sang người khá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ó 3 cách ký hậ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đích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theo lệ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vô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1- căn cứ vào người hưởng thụ trên BL (hoặc khả năng lưu thông của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đích danh (strai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theo lệnh (to order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vô danh (to bearer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2- căn cứ vào ghi chú trên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hoàn hảo (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BL không hoàn hảo (un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3- căn cứ vào hành trỡnh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i thẳ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irec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chở suốt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hrou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a phương thức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multimodal transport BL, intermodal transport BL, combined transport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7:57Z</dcterms:modified>
  <cp:revision>46</cp:revision>
  <dc:subject/>
  <dc:title>PowerPoint Presentation</dc:title>
</cp:coreProperties>
</file>