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A68E-2A2D-4734-B153-4581D46D8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9E68-3DC4-43C1-A055-DBD5D63CE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47EF-38EA-498E-923E-DCE715011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743D-3D70-44C9-B905-9E0688935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DB0F8A-1C85-4CD0-85B3-2E0530ABA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03EF3A-A050-416C-A74C-6EEA4CCDC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0BF127-7153-412F-A660-D976FBCC5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9E04F6-1523-4A2A-B0F7-7EDCC988D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54AE73-3939-4D55-8F1E-9D76A42AF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F3F503-53AF-4EE9-8340-A06D69E24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062F18-1552-49F8-90F3-ADF31C1A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59A4-8B29-4131-830D-A849F229E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98E649-4723-4CA0-B014-E8E557CF1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29FBB3-2B1B-4071-8AA3-DA6EA168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BF2D29-7AF2-4002-A232-18B31869B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4B2D02-4E99-4C0B-A0AB-3DB0641A1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804C17-47BF-4912-8F83-62FBAB232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C3DA-8876-438D-8A67-3FE780235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FCF1-B8D6-4AA1-89E8-A1AD6361F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0958-D613-48B3-BB9A-A3B32DA94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7C4C-95EE-402C-9A61-358790E1C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BE4D-77AE-4DD7-9D7B-2D7BC75F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3A1B-DAFF-419D-A281-C6F7D5DCA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2531-D9B1-4D76-902B-A2CEB399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C7A69-CDBF-4EB7-B6FC-84E093E5357D}" type="slidenum">
              <a:rPr b="0" lang="fr-B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A65D0-A7A2-466B-922D-4FA19E637EDA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964720" cy="1152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600" spc="-1" strike="noStrike">
                <a:solidFill>
                  <a:srgbClr val="ffffff"/>
                </a:solidFill>
                <a:latin typeface="Tahoma"/>
              </a:rPr>
              <a:t>Chương 2: Chuyên chở hàng hóa XNK bằng đường biể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68360" y="1844640"/>
            <a:ext cx="84247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 u="sng">
                <a:solidFill>
                  <a:srgbClr val="ffffff"/>
                </a:solidFill>
                <a:uFillTx/>
                <a:latin typeface="Tahoma"/>
              </a:rPr>
              <a:t>Nội dung cần nắm được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1- Các phương thức thuê tà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- Vận đơn (B/L - Bill of Lading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3- Trách nhiệm của người chuyên chở theo các công ước quốc tế và quy định của Việt N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4- Các điều khoản trong VC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5- Khiếu nại người chuyên ch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3300"/>
                </a:solidFill>
                <a:latin typeface=".VnTime"/>
              </a:rPr>
              <a:t>1.3- ph©n lo¹i tµu bu«n (Sgk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2400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2. Theo c¸c ®Æc tr­ng kinh tÕ – kü thuËt cña tµ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Tuæi tµ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®éng c¬ tµ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CÊu t¹o tµ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CÊp h¹ng tµ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Cê tµ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Träng t¶i tµu (ULCC, VLCC,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3300"/>
                </a:solidFill>
                <a:latin typeface=".VnTime"/>
              </a:rPr>
              <a:t>1.3- ph©n lo¹i tµu bu«n (Sgk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68360" y="2204640"/>
            <a:ext cx="842472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3. Theo ph­¬ng thøc kinh doanh tµ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Tµu chî (</a:t>
            </a:r>
            <a:r>
              <a:rPr b="1" i="1" lang="fr-BE" sz="3200" spc="-1" strike="noStrike">
                <a:solidFill>
                  <a:srgbClr val="000066"/>
                </a:solidFill>
                <a:latin typeface=".VnTime"/>
              </a:rPr>
              <a:t>liner</a:t>
            </a: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Tµu ch¹y r«ng (</a:t>
            </a:r>
            <a:r>
              <a:rPr b="1" i="1" lang="fr-BE" sz="3200" spc="-1" strike="noStrike">
                <a:solidFill>
                  <a:srgbClr val="000066"/>
                </a:solidFill>
                <a:latin typeface=".VnTime"/>
              </a:rPr>
              <a:t>tramp</a:t>
            </a: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): tµu chuyÕn, tµu ®Þnh h¹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3300"/>
                </a:solidFill>
                <a:latin typeface=".VnTime"/>
              </a:rPr>
              <a:t>1.4- ®éi tµu bu«n thÕ giíi (Sgk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539280" y="2636640"/>
            <a:ext cx="799308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Sù ph¸t triÓn cña ®éi tµu bu«n thÕ gií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Xu h­íng tiÕn bé kü thuËt cña ®éi tµu bu«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3300"/>
                </a:solidFill>
                <a:latin typeface=".VnTime"/>
              </a:rPr>
              <a:t>1.5- ®éi tµu biÓn cña ViÖt Nam (Sgk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2555640" y="2707920"/>
            <a:ext cx="504036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Tæng träng t¶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C¬ cÊu ®éi tµ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576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3300"/>
                </a:solidFill>
                <a:latin typeface=".VnTime"/>
              </a:rPr>
              <a:t>2- c¶ng biÓn (Sgk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0" y="1052640"/>
            <a:ext cx="8964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2.1. ®Þnh nghÜ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Lµ n¬i ra vµo neo ®Ëu ®Ó xÕp dì hµng hãa cña tµu biÓ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 </a:t>
            </a: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2 chøc n</a:t>
            </a:r>
            <a:r>
              <a:rPr b="1" lang="fr-BE" sz="3200" spc="-1" strike="noStrike">
                <a:solidFill>
                  <a:srgbClr val="000066"/>
                </a:solidFill>
                <a:latin typeface="Times New Roman"/>
              </a:rPr>
              <a:t>ă</a:t>
            </a: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ng: phôc vô tµu vµ hµ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2.2. trang thiÕt bÞ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cña c¶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718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3300"/>
                </a:solidFill>
                <a:latin typeface=".VnTime"/>
              </a:rPr>
              <a:t>2- c¶ng biÓn (Sgk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39280" y="1412640"/>
            <a:ext cx="8425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2.3. c¸c chØ tiªu ho¹t ®éng cña c¶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Sè l­îng tµu ra vµ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Sè l­îng tµu cã thÓ lµm hµng trong cïng mét kháang thêi gi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Khèi l­îng hµng hãa xÕp dì trong </a:t>
            </a:r>
            <a:r>
              <a:rPr b="1" lang="fr-BE" sz="3200" spc="-1" strike="noStrike">
                <a:solidFill>
                  <a:srgbClr val="000066"/>
                </a:solidFill>
                <a:latin typeface="Times New Roman"/>
              </a:rPr>
              <a:t>nă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ff3300"/>
                </a:solidFill>
                <a:latin typeface=".VnTime"/>
              </a:rPr>
              <a:t>2- c¶ng biÓn (Sgk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539280" y="1412640"/>
            <a:ext cx="8425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2.4. P</a:t>
            </a:r>
            <a:r>
              <a:rPr b="1" lang="fr-BE" sz="3200" spc="-1" strike="noStrike">
                <a:solidFill>
                  <a:srgbClr val="000066"/>
                </a:solidFill>
                <a:latin typeface="Times New Roman"/>
              </a:rPr>
              <a:t>hân loại cả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ff3300"/>
                </a:solidFill>
                <a:latin typeface=".VnTime"/>
              </a:rPr>
              <a:t>2- c¶ng biÓn (Sgk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539280" y="1412640"/>
            <a:ext cx="8425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2.5. c¶ng biÓn ViÖt N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893440" cy="431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ffffff"/>
                </a:solidFill>
                <a:latin typeface="Tahoma"/>
              </a:rPr>
              <a:t>Chương 2: Chuyên chở hàng hóa XNK bằng đường biể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39280" y="1268280"/>
            <a:ext cx="84250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I- Ưu nhược điểm của VT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1- Ưu điểm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đầu tư cơ sở hạ tầng thấ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năng lực chuyên chở lớ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giá thành VTB thấ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2- Nhược điể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Tốc độ thấp: 14 </a:t>
            </a:r>
            <a:r>
              <a:rPr b="1" lang="vi-V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 20 hải lý/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Nhiều rủi 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893440" cy="503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ffffff"/>
                </a:solidFill>
                <a:latin typeface="Tahoma"/>
              </a:rPr>
              <a:t>Chương 2: Chuyên chở hàng hóa XNK bằng đường biể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39280" y="1412640"/>
            <a:ext cx="8425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II- Cơ sở vật chất kỹ thuật của VT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Tàu buôn (</a:t>
            </a:r>
            <a:r>
              <a:rPr b="1" i="1" lang="fr-BE" sz="3200" spc="-1" strike="noStrike">
                <a:solidFill>
                  <a:srgbClr val="ffffff"/>
                </a:solidFill>
                <a:latin typeface="Tahoma"/>
              </a:rPr>
              <a:t>merchant ship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Cảng biển (</a:t>
            </a:r>
            <a:r>
              <a:rPr b="1" i="1" lang="fr-BE" sz="3200" spc="-1" strike="noStrike">
                <a:solidFill>
                  <a:srgbClr val="ffffff"/>
                </a:solidFill>
                <a:latin typeface="Tahoma"/>
              </a:rPr>
              <a:t>port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1- Tàu buô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1.1- khái niệ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Viện KTếHHải: là tàu chở hàng hóa hoặc hành khách vỡ mục đích thương mạ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1.2- đặc trư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1.2- đặc trưng kinh tế kỹ thuật của tàu biể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1269720"/>
            <a:ext cx="87850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Tên tà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Chủ tà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Cảng đăng ký của tà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Mớn nước của tàu (</a:t>
            </a:r>
            <a:r>
              <a:rPr b="1" i="1" lang="vi-VN" sz="3200" spc="-1" strike="noStrike">
                <a:solidFill>
                  <a:srgbClr val="ffffff"/>
                </a:solidFill>
                <a:latin typeface="Tahoma"/>
              </a:rPr>
              <a:t>draugh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Mớn nước khi tàu không hà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Mớn nước khi tàu có hà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Vạch xếp hàng (</a:t>
            </a:r>
            <a:r>
              <a:rPr b="1" i="1" lang="vi-VN" sz="3200" spc="-1" strike="noStrike">
                <a:solidFill>
                  <a:srgbClr val="ffffff"/>
                </a:solidFill>
                <a:latin typeface="Tahoma"/>
              </a:rPr>
              <a:t>Load line) – vạch Plimso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3300"/>
                </a:solidFill>
                <a:latin typeface=".VnTime"/>
              </a:rPr>
              <a:t>1.2- ®Æc tr­ng kinh tÕ kü thuËt cña tµu b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9280" y="1412640"/>
            <a:ext cx="8425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Đéng c¬ tµ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Träng l­îng cña tµu (</a:t>
            </a:r>
            <a:r>
              <a:rPr b="1" i="1" lang="fr-BE" sz="3200" spc="-1" strike="noStrike">
                <a:solidFill>
                  <a:srgbClr val="000066"/>
                </a:solidFill>
                <a:latin typeface=".VnTime"/>
              </a:rPr>
              <a:t>displacement</a:t>
            </a: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	</a:t>
            </a: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	</a:t>
            </a: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100 CB = 2,83 m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	</a:t>
            </a: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	</a:t>
            </a: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D = M/3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Träng l­îng nhÑ (</a:t>
            </a:r>
            <a:r>
              <a:rPr b="1" i="1" lang="fr-BE" sz="3200" spc="-1" strike="noStrike">
                <a:solidFill>
                  <a:srgbClr val="000066"/>
                </a:solidFill>
                <a:latin typeface=".VnTime"/>
              </a:rPr>
              <a:t>LD – light displacement</a:t>
            </a: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Träng l­îng nÆng (</a:t>
            </a:r>
            <a:r>
              <a:rPr b="1" i="1" lang="fr-BE" sz="3200" spc="-1" strike="noStrike">
                <a:solidFill>
                  <a:srgbClr val="000066"/>
                </a:solidFill>
                <a:latin typeface=".VnTime"/>
              </a:rPr>
              <a:t>HD – heavy displacement</a:t>
            </a: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HD = LD + träng l­îng hµng hãa vµ vËt phÈm cung ø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3300"/>
                </a:solidFill>
                <a:latin typeface=".VnTime"/>
              </a:rPr>
              <a:t>1.2- ®Æc tr­ng kinh tÕ kü thuËt cña tµu b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50560" y="98064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66"/>
                </a:solidFill>
                <a:latin typeface=".VnTime"/>
              </a:rPr>
              <a:t>-Träng t¶i cña tµu (</a:t>
            </a:r>
            <a:r>
              <a:rPr b="0" i="1" lang="fr-BE" sz="3200" spc="-1" strike="noStrike">
                <a:solidFill>
                  <a:srgbClr val="000066"/>
                </a:solidFill>
                <a:latin typeface=".VnTime"/>
              </a:rPr>
              <a:t>carrying capacity</a:t>
            </a:r>
            <a:r>
              <a:rPr b="0" lang="fr-BE" sz="3200" spc="-1" strike="noStrike">
                <a:solidFill>
                  <a:srgbClr val="000066"/>
                </a:solidFill>
                <a:latin typeface=".VnTime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66"/>
                </a:solidFill>
                <a:latin typeface=".VnTime"/>
              </a:rPr>
              <a:t>Träng t¶i tßan phÇn (DWC) = HD – 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66"/>
                </a:solidFill>
                <a:latin typeface=".VnTime"/>
              </a:rPr>
              <a:t>Träng t¶i tÞnh (DWCC) = DWC – träng l­îng vËt phÈm cung ø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66"/>
                </a:solidFill>
                <a:latin typeface=".VnTime"/>
              </a:rPr>
              <a:t>Dung tÝch ®</a:t>
            </a:r>
            <a:r>
              <a:rPr b="0" lang="fr-BE" sz="3200" spc="-1" strike="noStrike">
                <a:solidFill>
                  <a:srgbClr val="000066"/>
                </a:solidFill>
                <a:latin typeface="Times New Roman"/>
              </a:rPr>
              <a:t>ăng</a:t>
            </a:r>
            <a:r>
              <a:rPr b="0" lang="fr-BE" sz="3200" spc="-1" strike="noStrike">
                <a:solidFill>
                  <a:srgbClr val="000066"/>
                </a:solidFill>
                <a:latin typeface=".VnTime"/>
              </a:rPr>
              <a:t> ký cña tµu (</a:t>
            </a:r>
            <a:r>
              <a:rPr b="0" i="1" lang="fr-BE" sz="3200" spc="-1" strike="noStrike">
                <a:solidFill>
                  <a:srgbClr val="000066"/>
                </a:solidFill>
                <a:latin typeface=".VnTime"/>
              </a:rPr>
              <a:t>register tonnage</a:t>
            </a:r>
            <a:r>
              <a:rPr b="0" lang="fr-BE" sz="3200" spc="-1" strike="noStrike">
                <a:solidFill>
                  <a:srgbClr val="000066"/>
                </a:solidFill>
                <a:latin typeface=".VnTime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66"/>
                </a:solidFill>
                <a:latin typeface=".VnTime"/>
              </a:rPr>
              <a:t>Dung tÝch ®</a:t>
            </a:r>
            <a:r>
              <a:rPr b="0" lang="fr-BE" sz="3200" spc="-1" strike="noStrike">
                <a:solidFill>
                  <a:srgbClr val="000066"/>
                </a:solidFill>
                <a:latin typeface="Times New Roman"/>
              </a:rPr>
              <a:t>ă</a:t>
            </a:r>
            <a:r>
              <a:rPr b="0" lang="fr-BE" sz="3200" spc="-1" strike="noStrike">
                <a:solidFill>
                  <a:srgbClr val="000066"/>
                </a:solidFill>
                <a:latin typeface=".VnTime"/>
              </a:rPr>
              <a:t>ng ký toµn phÇn (GRT - </a:t>
            </a:r>
            <a:r>
              <a:rPr b="0" i="1" lang="fr-BE" sz="3200" spc="-1" strike="noStrike">
                <a:solidFill>
                  <a:srgbClr val="000066"/>
                </a:solidFill>
                <a:latin typeface=".VnTime"/>
              </a:rPr>
              <a:t>Gros Register Tonage</a:t>
            </a:r>
            <a:r>
              <a:rPr b="0" lang="fr-BE" sz="3200" spc="-1" strike="noStrike">
                <a:solidFill>
                  <a:srgbClr val="000066"/>
                </a:solidFill>
                <a:latin typeface=".VnTime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66"/>
                </a:solidFill>
                <a:latin typeface=".VnTime"/>
              </a:rPr>
              <a:t>Dung tÝch ®</a:t>
            </a:r>
            <a:r>
              <a:rPr b="0" lang="fr-BE" sz="3200" spc="-1" strike="noStrike">
                <a:solidFill>
                  <a:srgbClr val="000066"/>
                </a:solidFill>
                <a:latin typeface="Times New Roman"/>
              </a:rPr>
              <a:t>ă</a:t>
            </a:r>
            <a:r>
              <a:rPr b="0" lang="fr-BE" sz="3200" spc="-1" strike="noStrike">
                <a:solidFill>
                  <a:srgbClr val="000066"/>
                </a:solidFill>
                <a:latin typeface=".VnTime"/>
              </a:rPr>
              <a:t>ng ký tÞnh (NRT - </a:t>
            </a:r>
            <a:r>
              <a:rPr b="0" i="1" lang="fr-BE" sz="3200" spc="-1" strike="noStrike">
                <a:solidFill>
                  <a:srgbClr val="000066"/>
                </a:solidFill>
                <a:latin typeface=".VnTime"/>
              </a:rPr>
              <a:t>Net Register Tonage</a:t>
            </a:r>
            <a:r>
              <a:rPr b="0" lang="fr-BE" sz="3200" spc="-1" strike="noStrike">
                <a:solidFill>
                  <a:srgbClr val="000066"/>
                </a:solidFill>
                <a:latin typeface=".VnTime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66"/>
                </a:solidFill>
                <a:latin typeface=".VnTime"/>
              </a:rPr>
              <a:t>NRT = GRT – dung tÝch c¸c phßng </a:t>
            </a:r>
            <a:r>
              <a:rPr b="0" lang="fr-BE" sz="3200" spc="-1" strike="noStrike">
                <a:solidFill>
                  <a:srgbClr val="000066"/>
                </a:solidFill>
                <a:latin typeface="Times New Roman"/>
              </a:rPr>
              <a:t>ă</a:t>
            </a:r>
            <a:r>
              <a:rPr b="0" lang="fr-BE" sz="3200" spc="-1" strike="noStrike">
                <a:solidFill>
                  <a:srgbClr val="000066"/>
                </a:solidFill>
                <a:latin typeface=".VnTime"/>
              </a:rPr>
              <a:t>n ë, gi¶i trÝ, buång m¸y hoa tiª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431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3300"/>
                </a:solidFill>
                <a:latin typeface=".VnTime"/>
              </a:rPr>
              <a:t>1.2- ®Æc tr­ng kinh tÕ kü thuËt cña tµu b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50560" y="98064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-Dung tÝch chøa hµng cña tµu (</a:t>
            </a:r>
            <a:r>
              <a:rPr b="1" i="1" lang="fr-BE" sz="3200" spc="-1" strike="noStrike">
                <a:solidFill>
                  <a:srgbClr val="000066"/>
                </a:solidFill>
                <a:latin typeface=".VnTime"/>
              </a:rPr>
              <a:t>cargo space – CS</a:t>
            </a: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CS hµng bao kiÖ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CS hµng rê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HÖ sè xÕp hµng cña tµu (</a:t>
            </a:r>
            <a:r>
              <a:rPr b="1" i="1" lang="fr-BE" sz="3200" spc="-1" strike="noStrike">
                <a:solidFill>
                  <a:srgbClr val="000066"/>
                </a:solidFill>
                <a:latin typeface=".VnTime"/>
              </a:rPr>
              <a:t>coefficient loading – CL</a:t>
            </a: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CL = CS / DWC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HÖ sè xÕp hµng cña hµng (</a:t>
            </a:r>
            <a:r>
              <a:rPr b="1" i="1" lang="fr-BE" sz="3200" spc="-1" strike="noStrike">
                <a:solidFill>
                  <a:srgbClr val="000066"/>
                </a:solidFill>
                <a:latin typeface=".VnTime"/>
              </a:rPr>
              <a:t>stowage factor - SF</a:t>
            </a: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3200" spc="-1" strike="noStrike">
                <a:solidFill>
                  <a:srgbClr val="ff3300"/>
                </a:solidFill>
                <a:latin typeface=".VnTime"/>
              </a:rPr>
              <a:t>Lµm thÕ nµo ®Ó xÕp hµng tèi ­u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3300"/>
                </a:solidFill>
                <a:latin typeface=".VnTime"/>
              </a:rPr>
              <a:t>CL = SF</a:t>
            </a: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 </a:t>
            </a:r>
            <a:r>
              <a:rPr b="1" lang="fr-BE" sz="32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 Sg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360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3300"/>
                </a:solidFill>
                <a:latin typeface=".VnTime"/>
              </a:rPr>
              <a:t>1.2- ®Æc tr­ng kinh tÕ kü thuËt cña tµu b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00066"/>
                </a:solidFill>
                <a:latin typeface=".VnTime"/>
              </a:rPr>
              <a:t>KÝch th­íc cña tµu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3300"/>
              </a:buClr>
              <a:buSzPct val="12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00066"/>
                </a:solidFill>
                <a:latin typeface=".VnTime"/>
              </a:rPr>
              <a:t>ChiÒu dµi: chiÒu dµi toµn bé vµ chiÒu dµi theo mín n­íc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3300"/>
              </a:buClr>
              <a:buSzPct val="12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00066"/>
                </a:solidFill>
                <a:latin typeface=".VnTime"/>
              </a:rPr>
              <a:t>ChiÒu réng cña tµu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00066"/>
                </a:solidFill>
                <a:latin typeface=".VnTime"/>
              </a:rPr>
              <a:t>CÊp h¹ng cña tµu (</a:t>
            </a:r>
            <a:r>
              <a:rPr b="1" i="1" lang="fr-BE" sz="3000" spc="-1" strike="noStrike">
                <a:solidFill>
                  <a:srgbClr val="000066"/>
                </a:solidFill>
                <a:latin typeface=".VnTime"/>
              </a:rPr>
              <a:t>class of ship</a:t>
            </a:r>
            <a:r>
              <a:rPr b="1" lang="fr-BE" sz="3000" spc="-1" strike="noStrike">
                <a:solidFill>
                  <a:srgbClr val="000066"/>
                </a:solidFill>
                <a:latin typeface=".VnTime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00066"/>
                </a:solidFill>
                <a:latin typeface=".VnTime"/>
              </a:rPr>
              <a:t>Cê tµu (</a:t>
            </a:r>
            <a:r>
              <a:rPr b="1" i="1" lang="fr-BE" sz="3000" spc="-1" strike="noStrike">
                <a:solidFill>
                  <a:srgbClr val="000066"/>
                </a:solidFill>
                <a:latin typeface=".VnTime"/>
              </a:rPr>
              <a:t>flag</a:t>
            </a:r>
            <a:r>
              <a:rPr b="1" lang="fr-BE" sz="3000" spc="-1" strike="noStrike">
                <a:solidFill>
                  <a:srgbClr val="000066"/>
                </a:solidFill>
                <a:latin typeface=".VnTime"/>
              </a:rPr>
              <a:t>): cê cña n­íc mµ tµu mang quèc tÞch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3300"/>
              </a:buClr>
              <a:buSzPct val="12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00066"/>
                </a:solidFill>
                <a:latin typeface=".VnTime"/>
              </a:rPr>
              <a:t>Cê th­êng (</a:t>
            </a:r>
            <a:r>
              <a:rPr b="1" i="1" lang="fr-BE" sz="3000" spc="-1" strike="noStrike">
                <a:solidFill>
                  <a:srgbClr val="000066"/>
                </a:solidFill>
                <a:latin typeface=".VnTime"/>
              </a:rPr>
              <a:t>conventional flag</a:t>
            </a:r>
            <a:r>
              <a:rPr b="1" lang="fr-BE" sz="3000" spc="-1" strike="noStrike">
                <a:solidFill>
                  <a:srgbClr val="000066"/>
                </a:solidFill>
                <a:latin typeface=".VnTime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3300"/>
              </a:buClr>
              <a:buSzPct val="12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00066"/>
                </a:solidFill>
                <a:latin typeface=".VnTime"/>
              </a:rPr>
              <a:t>Cê ph­¬ng tiÖn (</a:t>
            </a:r>
            <a:r>
              <a:rPr b="1" i="1" lang="fr-BE" sz="3000" spc="-1" strike="noStrike">
                <a:solidFill>
                  <a:srgbClr val="000066"/>
                </a:solidFill>
                <a:latin typeface=".VnTime"/>
              </a:rPr>
              <a:t>flag of convinience</a:t>
            </a:r>
            <a:r>
              <a:rPr b="1" lang="fr-BE" sz="3000" spc="-1" strike="noStrike">
                <a:solidFill>
                  <a:srgbClr val="000066"/>
                </a:solidFill>
                <a:latin typeface=".VnTime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00066"/>
                </a:solidFill>
                <a:latin typeface=".VnTime"/>
              </a:rPr>
              <a:t>Cê ph­¬ng tiÖn phæ biÕn trong TMQT v</a:t>
            </a:r>
            <a:r>
              <a:rPr b="1" lang="fr-BE" sz="3000" spc="-1" strike="noStrike">
                <a:solidFill>
                  <a:srgbClr val="000066"/>
                </a:solidFill>
                <a:latin typeface="Times New Roman"/>
              </a:rPr>
              <a:t>ì</a:t>
            </a:r>
            <a:r>
              <a:rPr b="1" lang="fr-BE" sz="3000" spc="-1" strike="noStrike">
                <a:solidFill>
                  <a:srgbClr val="000066"/>
                </a:solidFill>
                <a:latin typeface=".VnTime"/>
              </a:rPr>
              <a:t> 2 lý do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00066"/>
                </a:solidFill>
                <a:latin typeface=".VnTime"/>
              </a:rPr>
              <a:t>	</a:t>
            </a:r>
            <a:r>
              <a:rPr b="1" lang="fr-BE" sz="3000" spc="-1" strike="noStrike">
                <a:solidFill>
                  <a:srgbClr val="000066"/>
                </a:solidFill>
                <a:latin typeface=".VnTime"/>
              </a:rPr>
              <a:t>	</a:t>
            </a:r>
            <a:r>
              <a:rPr b="1" lang="fr-BE" sz="3000" spc="-1" strike="noStrike">
                <a:solidFill>
                  <a:srgbClr val="000066"/>
                </a:solidFill>
                <a:latin typeface=".VnTime"/>
              </a:rPr>
              <a:t>+ chÝnh trÞ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00066"/>
                </a:solidFill>
                <a:latin typeface=".VnTime"/>
              </a:rPr>
              <a:t>	</a:t>
            </a:r>
            <a:r>
              <a:rPr b="1" lang="fr-BE" sz="3000" spc="-1" strike="noStrike">
                <a:solidFill>
                  <a:srgbClr val="000066"/>
                </a:solidFill>
                <a:latin typeface=".VnTime"/>
              </a:rPr>
              <a:t>	</a:t>
            </a:r>
            <a:r>
              <a:rPr b="1" lang="fr-BE" sz="3000" spc="-1" strike="noStrike">
                <a:solidFill>
                  <a:srgbClr val="000066"/>
                </a:solidFill>
                <a:latin typeface=".VnTime"/>
              </a:rPr>
              <a:t>+ kinh tÕ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3300"/>
                </a:solidFill>
                <a:latin typeface=".VnTime"/>
              </a:rPr>
              <a:t>1.3- ph©n lo¹i tµu bu«n (Sgk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24000" y="1555920"/>
            <a:ext cx="8640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1. Theo c«ng dông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Tµu chë hµng kh«: tµu chë hµng b¸ch ho¸, tµu container, tµu LASH, tµu RO-RO, tµu LO-LO, tµu chë hµng ®«ng l¹nh, tµu kÕt hîp,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Tµu chë hµng láng: tµu dÇu, tµu chë nhiªn liÖu hãa láng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rinh Huong</cp:lastModifiedBy>
  <dcterms:modified xsi:type="dcterms:W3CDTF">2010-12-18T21:53:27Z</dcterms:modified>
  <cp:revision>50</cp:revision>
  <dc:subject/>
  <dc:title>PowerPoint Presentation</dc:title>
</cp:coreProperties>
</file>