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2D0-6611-4A00-B524-0120D640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A91-E597-43FC-BC15-451773DB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C51-3E5A-4E90-AF64-EDA8E4D7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391-3B08-45E5-B814-CFAC7489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EAFDA-BAF3-42C8-9A31-96F8A783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54656-F71C-4324-9D23-2F8B62ED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A476C-90DE-4BA8-80E3-C0DB7A87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0A45B-2F32-4B54-8C1B-1C62ACCF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5AC48-4D73-4BE1-B8FF-8A29363F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ABD73-4E7D-4558-B9FE-2CA8811C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0B51B-9900-4C84-833A-9DBD062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B46-6349-47C9-8C65-88474592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D2CCD-1F56-470F-9254-5C5D7997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24C29-D3A5-48BE-B849-E4C74317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51C83-1658-4D24-9599-BA8A6D39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6F480-7FCD-4101-99E0-666710E0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35264-869E-4886-906F-0A7645DA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EE9-497B-48E9-9FB6-8C2BF418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E20-08C9-40F2-93BB-124D0A8F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A08-2240-4134-8C80-AE974269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ED2-33DD-465E-A911-1A5714F2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DC2-8987-4017-A08A-0438BD9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036-E164-4392-81CB-596116D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7E2-EE00-42CF-B58A-B44816F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D7EF-0F34-4BF9-BC8C-A9F929077B1A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1EAF-33B1-417E-98D7-55736BB0C7E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785520"/>
            <a:ext cx="8893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ợ là tàu chở hàng thường xuyên chạy trên một tuyến đường nhất định, ghé qua những cảng nhất định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huê tàu chợ là việc chủ hàng thông qua đại lý yêu cầu giành một chỗ trên tàu để chuyên chở hàng hóa từ nơi này đến nơ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Booking note </a:t>
            </a:r>
            <a:r>
              <a:rPr b="1" i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 giấy lưu khoang (giấy lưu cước tàu chợ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4.4- căn cứ vào việc đã xếp hàng hay chư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đã xếp (shipped on boar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nhận để xếp (received for shipment BL, taken in charg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4.5- một số loại BL và chứng từ vận tả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do người giao nhận cấp (FBL, FCT, Hous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theo hợp đồng thuê tàu (charter party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ã xuất trỡnh (surrendere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có thể thay đổi (switch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L thuyền phó (mate’s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Giấy gửi hàng đường biển (seawaybi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ến chậm (Stal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5- Nội du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5.2- Mặt sau: các điều khoản in sẵn của 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ã</a:t>
            </a: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ng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oth to blame collision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ffffff"/>
                </a:solidFill>
                <a:latin typeface="Tahoma"/>
              </a:rPr>
              <a:t>General average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guồn luật áp dụ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đặ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ạy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ước phí được công bố từ trướ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F = f + I + O + S (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ứng từ vận tải B/L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Áp dụng khi nà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ill of lading, Ocean bill of lading, marine bill of l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Là chứng từ vận tải mà người chuyên chở cấp cho người gửi hàng khi nhận hàng để xếp hoặc xếp hàng lên tà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2- Cách phát hành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ược phát hành thành các bản gốc và bản copy (bản sa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ột bộ BL thường gồm 3 bản gốc và nhiều bản s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Số bản copy được cấp theo yêu cầu của người gửi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ằng chứng của hợp đồng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iên lai nhận hàng để chở của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Là chứng từ sở hữu hàng hóa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document of tit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BL: là việc ký và đóng dấu vào mặt sau của tờ BL, qua đó tài sản được chuyển từ sở hữu của người này sang người khá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ó 3 cách ký hậ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đích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theo lệ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vô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1- căn cứ vào người hưởng thụ trên BL (hoặc khả năng lưu thông của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đích danh (strai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theo lệnh (to order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vô danh (to bearer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2- căn cứ vào ghi chú trên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hoàn hảo (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BL không hoàn hảo (un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713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3- căn cứ vào hành trỡnh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i thẳ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irec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chở suốt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hrou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a phương thức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multimodal transport BL, intermodal transport BL, combined transport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7:57Z</dcterms:modified>
  <cp:revision>46</cp:revision>
  <dc:subject/>
  <dc:title>PowerPoint Presentation</dc:title>
</cp:coreProperties>
</file>