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59E-45D0-4B89-B1F4-3F159F2C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2D7-156D-4DD1-871F-8907AF08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C363-BA7D-4014-8C8B-BD34A18E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B07-C2EB-4C49-9AC0-90C7B6B5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FE06-BA07-4653-B598-1F09096F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21FC-5723-4609-BB56-1EAF2CB4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743C-0361-44FC-8B06-61A80B07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B6DD-D092-4558-966A-4D072398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9280-3339-4F4D-9359-78888333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7F86-8976-456A-A251-01A61005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A10F-4C65-42A8-88A2-E3A6AEB7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3C57-5C16-4B53-A150-6CB0F1AC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E66D-5B68-42BB-AFE0-78E918A5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4164-3E1A-4424-BE51-6DE2CFF5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4508-83DF-407C-9DEF-BDA9C147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8D83-A847-41F7-8D92-96379E7B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0FC0-348C-4381-A14B-127E4B55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D8BEC-A045-4C34-A69A-0833C3EC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5B117-2E6D-4EC3-96D5-CD1FCBB0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5EDD7-03B8-430F-BF70-29A09D03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B2E6A-24A0-4A82-9BAA-E3A11F20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0C060-7425-42D8-AFBA-B453A488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2859-BC1A-4D6D-B622-2CE68530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92CE9-FE16-4E5C-B820-9147194E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5352B-A4FF-4223-894B-895F9F9A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58BD6-EAFB-4FE3-9D9F-88942DFF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812AB-15EF-478B-8964-B9404C05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7FC3F-C1D2-484C-BC8E-02D53D19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1D123-6F5E-4385-9898-E1C55CA4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859B3-A35D-4981-9BA2-D2F696A6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8AA48-D2EE-46F3-9A1C-16100D0F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3B29C-80B8-43AD-9739-A45F3A04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D9B73-D8F3-41B2-BB26-4B2F1D77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7347-5D06-4B5E-B2AD-9B536DE5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3836B-4CE7-4732-9FFE-03FC1A4B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23633-9385-4E5B-8E9D-D84F08FD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22753-59C2-41BE-8823-66F95CB6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9F1C3-41A1-4B45-8552-D49A11A1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7D3AF-3B6E-4402-9998-B8ED145F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CD3D8-BCE8-4A4C-9C73-0EE6B9C5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48858-C10B-43A2-BBA6-45A6E4AE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CA75D-65F7-4CFB-A3A5-8D8B1EA2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826C9-A768-4E57-931C-DDB20AE3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820-B822-4FB4-A6BF-054DEC79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08AC-A957-4BEC-89AB-32E0B53A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639-71FE-4FE3-A738-FDE8AB1D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8E9-22D3-44CA-9B68-39476A0C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734-613B-4D4A-902A-B7094C47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FCFA-051E-4F39-938D-B6D36BCCBAF8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B488-C9A0-4A28-A915-D241F7CC647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355C-F95D-4D53-A0CF-7F0FB6442CAE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9827-57DA-4107-BB9D-D6886CA2BCD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7EC0-800E-404E-B654-7A6A8FD226FC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EE15-CF96-4D08-B425-97938F70465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5F00-5F3C-4F3F-8DBF-FA4115DDFBD3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ECF3-F5CC-4C66-96BE-2AFA7ECF38C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4"/>
          <p:cNvSpPr/>
          <p:nvPr/>
        </p:nvSpPr>
        <p:spPr>
          <a:xfrm>
            <a:off x="973800" y="367200"/>
            <a:ext cx="70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Verdana"/>
              </a:rPr>
              <a:t>TỔNG HỢP SLIDE - TEMPLATES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ounded Rectangle 8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Rectangle 9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Rounded Rectangle 14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169" name="Rectangle 47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70" name="Rectangle 48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171" name="Oval 22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Group 24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173" name="Up Arrow 21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Round Same Side Corner Rectangle 23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5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48080"/>
          </a:xfrm>
          <a:prstGeom prst="rect">
            <a:avLst/>
          </a:prstGeom>
          <a:ln w="0">
            <a:noFill/>
          </a:ln>
        </p:spPr>
      </p:pic>
      <p:pic>
        <p:nvPicPr>
          <p:cNvPr id="176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14680"/>
          </a:xfrm>
          <a:prstGeom prst="rect">
            <a:avLst/>
          </a:prstGeom>
          <a:ln w="0">
            <a:noFill/>
          </a:ln>
        </p:spPr>
      </p:pic>
      <p:sp>
        <p:nvSpPr>
          <p:cNvPr id="177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224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5-Point Star 58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Group 59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180" name="Group 65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181" name="Oval 27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bdd5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3371a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7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9bc0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224c71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7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75a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18355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57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5996cd"/>
                </a:solidFill>
                <a:latin typeface="Arial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7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3371a9"/>
                </a:solidFill>
                <a:latin typeface="Arial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8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224c71"/>
                </a:solidFill>
                <a:latin typeface="Arial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28"/>
          <p:cNvSpPr/>
          <p:nvPr/>
        </p:nvSpPr>
        <p:spPr>
          <a:xfrm>
            <a:off x="2955960" y="4746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AIMIENPHI.V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82"/>
          <p:cNvSpPr/>
          <p:nvPr/>
        </p:nvSpPr>
        <p:spPr>
          <a:xfrm>
            <a:off x="2895480" y="3428640"/>
            <a:ext cx="167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OP TEMPL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83"/>
          <p:cNvSpPr/>
          <p:nvPr/>
        </p:nvSpPr>
        <p:spPr>
          <a:xfrm>
            <a:off x="2971800" y="2284920"/>
            <a:ext cx="167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OP SLI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ounded Rectangle 8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Rectangle 9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93" name="Rounded Rectangle 14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47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95" name="Rectangle 48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196" name="Oval 22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Group 24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198" name="Up Arrow 21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ound Same Side Corner Rectangle 23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0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6920"/>
          </a:xfrm>
          <a:prstGeom prst="rect">
            <a:avLst/>
          </a:prstGeom>
          <a:ln w="0">
            <a:noFill/>
          </a:ln>
        </p:spPr>
      </p:pic>
      <p:pic>
        <p:nvPicPr>
          <p:cNvPr id="201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2080"/>
          </a:xfrm>
          <a:prstGeom prst="rect">
            <a:avLst/>
          </a:prstGeom>
          <a:ln w="0">
            <a:noFill/>
          </a:ln>
        </p:spPr>
      </p:pic>
      <p:sp>
        <p:nvSpPr>
          <p:cNvPr id="202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5-Point Star 58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Group 59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05" name="Group 65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06" name="Oval 27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eba7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b24d1d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7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d788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8a2e4e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7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cd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87439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57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de6c36"/>
                </a:solidFill>
                <a:latin typeface="Arial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7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b83d68"/>
                </a:solidFill>
                <a:latin typeface="Arial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8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ac66bb"/>
                </a:solidFill>
                <a:latin typeface="Arial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8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8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8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6"/>
          <p:cNvSpPr/>
          <p:nvPr/>
        </p:nvSpPr>
        <p:spPr>
          <a:xfrm>
            <a:off x="7050600" y="650556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Arial"/>
                <a:ea typeface="Calibri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ounded Rectangle 41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Rectangle 42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19" name="Rounded Rectangle 43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220" name="Rectangle 44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45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222" name="Oval 46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oup 47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224" name="Up Arrow 48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ound Same Side Corner Rectangle 49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6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8360"/>
          </a:xfrm>
          <a:prstGeom prst="rect">
            <a:avLst/>
          </a:prstGeom>
          <a:ln w="0">
            <a:noFill/>
          </a:ln>
        </p:spPr>
      </p:pic>
      <p:pic>
        <p:nvPicPr>
          <p:cNvPr id="227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4960"/>
          </a:xfrm>
          <a:prstGeom prst="rect">
            <a:avLst/>
          </a:prstGeom>
          <a:ln w="0">
            <a:noFill/>
          </a:ln>
        </p:spPr>
      </p:pic>
      <p:sp>
        <p:nvSpPr>
          <p:cNvPr id="228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5-Point Star 53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Group 54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31" name="Group 57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32" name="Oval 65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c8a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705032"/>
                </a:solidFill>
                <a:latin typeface="Calibri"/>
                <a:ea typeface="SimSu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6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bdb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6c6f4c"/>
                </a:solidFill>
                <a:latin typeface="Calibri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6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fec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d77c01"/>
                </a:solidFill>
                <a:latin typeface="Calibri"/>
                <a:ea typeface="SimSu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68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56b43"/>
                </a:solidFill>
                <a:latin typeface="Calibri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6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09465"/>
                </a:solidFill>
                <a:latin typeface="Calibri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7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fea022"/>
                </a:solidFill>
                <a:latin typeface="Calibri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71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7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7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5"/>
          <p:cNvSpPr/>
          <p:nvPr/>
        </p:nvSpPr>
        <p:spPr>
          <a:xfrm>
            <a:off x="7131240" y="65055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Calibri"/>
                <a:ea typeface="SimSun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ounded Rectangle 41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Rectangle 42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45" name="Rounded Rectangle 43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44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45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248" name="Oval 46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47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250" name="Up Arrow 48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ound Same Side Corner Rectangle 49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2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8360"/>
          </a:xfrm>
          <a:prstGeom prst="rect">
            <a:avLst/>
          </a:prstGeom>
          <a:ln w="0">
            <a:noFill/>
          </a:ln>
        </p:spPr>
      </p:pic>
      <p:pic>
        <p:nvPicPr>
          <p:cNvPr id="253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4960"/>
          </a:xfrm>
          <a:prstGeom prst="rect">
            <a:avLst/>
          </a:prstGeom>
          <a:ln w="0">
            <a:noFill/>
          </a:ln>
        </p:spPr>
      </p:pic>
      <p:sp>
        <p:nvSpPr>
          <p:cNvPr id="254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5-Point Star 53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Group 54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57" name="Group 57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58" name="Oval 65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dff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6f9500"/>
                </a:solidFill>
                <a:latin typeface="Calibri"/>
                <a:ea typeface="SimSu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Oval 6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d0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4a6300"/>
                </a:solidFill>
                <a:latin typeface="Calibri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Oval 6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c4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354800"/>
                </a:solidFill>
                <a:latin typeface="Calibri"/>
                <a:ea typeface="SimSu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Oval 68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4c600"/>
                </a:solidFill>
                <a:latin typeface="Calibri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6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6f9500"/>
                </a:solidFill>
                <a:latin typeface="Calibri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val 7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4a6300"/>
                </a:solidFill>
                <a:latin typeface="Calibri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71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7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7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5"/>
          <p:cNvSpPr/>
          <p:nvPr/>
        </p:nvSpPr>
        <p:spPr>
          <a:xfrm>
            <a:off x="7131240" y="65055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Calibri"/>
                <a:ea typeface="SimSun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9:08:4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