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2C9-65A3-4744-8CB1-C17232FD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6AC1-7705-4FFD-90FE-28852EFF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F84-BC1C-496C-881C-12B8296A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B46-A335-4636-9543-591CD488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5441-89DA-40FC-B144-ACDA75C7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0D44-A7B4-4E22-AFB3-5F91CF0F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913A-3520-46F2-AE11-CA45EA26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2BF1-6F29-4715-8A8B-598EE398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DFC6-C453-4993-AA29-0C390907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FF7F-E238-4C47-A43E-8F15E06A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86EB-1FA7-4A4C-BDA1-3B4FBC54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43C-B2CA-43AE-908F-EBBDF176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AC59-D110-4124-A65E-53EB4652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B8E5-A27F-4972-8342-15AB9673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FFE3-DED1-4D39-A93B-D42A6BD7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397E-9E0B-4F18-AF1A-EDCC025D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0429-57F5-42E8-9DDC-5D178ED0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CFD04-2024-400E-87F0-0FD7651F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8F97D-9ECD-4878-80F8-CFF02BD1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D75AA-31EB-43DB-B2AC-D0898E28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3FE72-684B-45AC-8007-EDE13F23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AD631-6292-40A4-A372-2C080A42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5AC-6FDF-4D10-A94F-4CD18BF5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F1344-7AFD-4895-8902-B67FD82D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AC5A6-CF99-4920-8356-5D728121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2B963-8C55-4DC1-87A7-7739A4A2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2DB14-396A-464C-AA06-706DDB42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81308-8644-4D97-832F-EB61ABB0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FDE28-EB94-45CB-A98C-65C1D95D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BF778-8ABB-4CC9-B999-31C1E650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6EC3-0322-4227-8A77-5FC41917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F27-1314-432A-8D98-712CB0B8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3F25-B5E3-4A00-8325-55B85614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8708-46DB-403C-B7EA-5409D640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38E-D132-448F-92E7-DA094C29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42B4-1CB1-4EFA-897F-34EB61AA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470E-E463-49EC-A9E6-6F9641119E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8564-6ABE-4EE8-A19B-67EEBD1F4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3"/>
          <a:srcRect l="6884" t="0" r="21082" b="0"/>
          <a:stretch/>
        </p:blipFill>
        <p:spPr>
          <a:xfrm>
            <a:off x="0" y="507960"/>
            <a:ext cx="9144000" cy="584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3"/>
          <a:srcRect l="6790" t="0" r="21202" b="0"/>
          <a:stretch/>
        </p:blipFill>
        <p:spPr>
          <a:xfrm>
            <a:off x="0" y="468360"/>
            <a:ext cx="9144000" cy="584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A863-B8C0-4177-8507-8289B1929A8A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6210-6A1A-408E-AF2E-F1677B00282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3"/>
          <a:srcRect l="6884" t="0" r="21082" b="0"/>
          <a:stretch/>
        </p:blipFill>
        <p:spPr>
          <a:xfrm>
            <a:off x="0" y="507960"/>
            <a:ext cx="9144000" cy="5840280"/>
          </a:xfrm>
          <a:prstGeom prst="rect">
            <a:avLst/>
          </a:prstGeom>
          <a:ln w="0">
            <a:noFill/>
          </a:ln>
        </p:spPr>
      </p:pic>
      <p:sp>
        <p:nvSpPr>
          <p:cNvPr id="85" name="Rounded Rectangle 7"/>
          <p:cNvSpPr/>
          <p:nvPr/>
        </p:nvSpPr>
        <p:spPr>
          <a:xfrm>
            <a:off x="160200" y="144360"/>
            <a:ext cx="8831520" cy="6561360"/>
          </a:xfrm>
          <a:prstGeom prst="roundRect">
            <a:avLst>
              <a:gd name="adj" fmla="val 3912"/>
            </a:avLst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FDBA-148C-49CF-B31A-66912E7F93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A30B-22A7-4E79-A0DF-450E7244E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6"/>
          <p:cNvSpPr/>
          <p:nvPr/>
        </p:nvSpPr>
        <p:spPr>
          <a:xfrm>
            <a:off x="-7920" y="4792680"/>
            <a:ext cx="9159840" cy="2970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206c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5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30a2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52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206c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53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30a2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4eca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Group 13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7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36" name="Frame 15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16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6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9" name="Group 20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140" name="Freeform 73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5-Point Star 81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32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1a564b"/>
              </a:gs>
              <a:gs pos="100000">
                <a:srgbClr val="206c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30a28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4eca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5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1a564b"/>
              </a:gs>
              <a:gs pos="100000">
                <a:srgbClr val="206c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ac2a8"/>
              </a:gs>
              <a:gs pos="100000">
                <a:srgbClr val="30a28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37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8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9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40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1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42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43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44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f4f0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45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64"/>
          <p:cNvSpPr/>
          <p:nvPr/>
        </p:nvSpPr>
        <p:spPr>
          <a:xfrm>
            <a:off x="-7920" y="4792680"/>
            <a:ext cx="9159840" cy="2970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3627360" y="30600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760928"/>
              </a:gs>
              <a:gs pos="100000">
                <a:srgbClr val="930c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c00f41"/>
              </a:gs>
              <a:gs pos="100000">
                <a:srgbClr val="dd11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9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760928"/>
              </a:gs>
              <a:gs pos="100000">
                <a:srgbClr val="930c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0f41"/>
              </a:gs>
              <a:gs pos="100000">
                <a:srgbClr val="dd11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930c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5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d1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52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930c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53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d1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f14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Group 13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7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71" name="Frame 15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Rectangle 6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4" name="Group 20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175" name="Freeform 73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5-Point Star 81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f3065"/>
              </a:gs>
              <a:gs pos="100000">
                <a:srgbClr val="f14d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31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2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33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34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5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36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37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8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39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40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dbe5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42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9"/>
          <p:cNvSpPr/>
          <p:nvPr/>
        </p:nvSpPr>
        <p:spPr>
          <a:xfrm>
            <a:off x="-7920" y="4724280"/>
            <a:ext cx="9159840" cy="3654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4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5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6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Group 7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5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198" name="Frame 16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17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Rectangle 1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1" name="Group 19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202" name="Freeform 22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5-Point Star 23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3b4f00"/>
              </a:gs>
              <a:gs pos="100000">
                <a:srgbClr val="4a6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608100"/>
              </a:gs>
              <a:gs pos="100000">
                <a:srgbClr val="6f9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5b200"/>
              </a:gs>
              <a:gs pos="100000">
                <a:srgbClr val="9bd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27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3b4f00"/>
              </a:gs>
              <a:gs pos="100000">
                <a:srgbClr val="4a6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08100"/>
              </a:gs>
              <a:gs pos="100000">
                <a:srgbClr val="6f9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30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“ </a:t>
            </a: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1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2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3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4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5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6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37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38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9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fc1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40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55"/>
          <p:cNvSpPr/>
          <p:nvPr/>
        </p:nvSpPr>
        <p:spPr>
          <a:xfrm>
            <a:off x="-7920" y="4724280"/>
            <a:ext cx="9159840" cy="365400"/>
          </a:xfrm>
          <a:prstGeom prst="rect">
            <a:avLst/>
          </a:prstGeom>
          <a:gradFill rotWithShape="0">
            <a:gsLst>
              <a:gs pos="0">
                <a:srgbClr val="8a8a8a">
                  <a:alpha val="0"/>
                </a:srgbClr>
              </a:gs>
              <a:gs pos="100000">
                <a:srgbClr val="b0b0b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3768480" y="30600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e1d6"/>
                </a:solidFill>
                <a:latin typeface="Calibri"/>
                <a:ea typeface="Verdana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2"/>
          <p:cNvSpPr/>
          <p:nvPr/>
        </p:nvSpPr>
        <p:spPr>
          <a:xfrm>
            <a:off x="939960" y="2048040"/>
            <a:ext cx="2098440" cy="3647880"/>
          </a:xfrm>
          <a:prstGeom prst="pie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231444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77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4"/>
          <p:cNvSpPr/>
          <p:nvPr/>
        </p:nvSpPr>
        <p:spPr>
          <a:xfrm flipH="1">
            <a:off x="6099120" y="2048040"/>
            <a:ext cx="2100240" cy="3647880"/>
          </a:xfrm>
          <a:prstGeom prst="pie">
            <a:avLst/>
          </a:prstGeom>
          <a:solidFill>
            <a:srgbClr val="8f5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5"/>
          <p:cNvSpPr/>
          <p:nvPr/>
        </p:nvSpPr>
        <p:spPr>
          <a:xfrm flipH="1">
            <a:off x="5243400" y="1606680"/>
            <a:ext cx="1581120" cy="4089240"/>
          </a:xfrm>
          <a:custGeom>
            <a:avLst/>
            <a:gdLst/>
            <a:ahLst/>
            <a:rect l="l" t="t" r="r" b="b"/>
            <a:pathLst>
              <a:path w="1299003" h="4089400">
                <a:moveTo>
                  <a:pt x="584216" y="0"/>
                </a:moveTo>
                <a:lnTo>
                  <a:pt x="584216" y="3203575"/>
                </a:lnTo>
                <a:cubicBezTo>
                  <a:pt x="567434" y="3390900"/>
                  <a:pt x="544270" y="3482975"/>
                  <a:pt x="428578" y="3594100"/>
                </a:cubicBezTo>
                <a:lnTo>
                  <a:pt x="0" y="4089400"/>
                </a:lnTo>
                <a:lnTo>
                  <a:pt x="1022272" y="4086225"/>
                </a:lnTo>
                <a:lnTo>
                  <a:pt x="1212866" y="3594100"/>
                </a:lnTo>
                <a:cubicBezTo>
                  <a:pt x="1286110" y="3438525"/>
                  <a:pt x="1301922" y="3416300"/>
                  <a:pt x="1298591" y="3108325"/>
                </a:cubicBezTo>
                <a:lnTo>
                  <a:pt x="1298591" y="3175"/>
                </a:lnTo>
                <a:lnTo>
                  <a:pt x="584216" y="0"/>
                </a:lnTo>
                <a:close/>
              </a:path>
            </a:pathLst>
          </a:custGeom>
          <a:solidFill>
            <a:srgbClr val="d77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6"/>
          <p:cNvSpPr/>
          <p:nvPr/>
        </p:nvSpPr>
        <p:spPr>
          <a:xfrm>
            <a:off x="3559320" y="1225440"/>
            <a:ext cx="2033280" cy="4473720"/>
          </a:xfrm>
          <a:custGeom>
            <a:avLst/>
            <a:gdLst/>
            <a:ahLst/>
            <a:rect l="l" t="t" r="r" b="b"/>
            <a:pathLst>
              <a:path w="1676400" h="4473575">
                <a:moveTo>
                  <a:pt x="269875" y="3175"/>
                </a:moveTo>
                <a:lnTo>
                  <a:pt x="1387572" y="0"/>
                </a:lnTo>
                <a:cubicBezTo>
                  <a:pt x="1389656" y="1189567"/>
                  <a:pt x="1391741" y="2379133"/>
                  <a:pt x="1393825" y="3568700"/>
                </a:cubicBezTo>
                <a:cubicBezTo>
                  <a:pt x="1397000" y="3821642"/>
                  <a:pt x="1422400" y="3849158"/>
                  <a:pt x="1498600" y="4032250"/>
                </a:cubicBezTo>
                <a:lnTo>
                  <a:pt x="1676400" y="4473575"/>
                </a:lnTo>
                <a:lnTo>
                  <a:pt x="0" y="4470400"/>
                </a:lnTo>
                <a:lnTo>
                  <a:pt x="203200" y="3946525"/>
                </a:lnTo>
                <a:cubicBezTo>
                  <a:pt x="263525" y="3798358"/>
                  <a:pt x="266700" y="3802592"/>
                  <a:pt x="269875" y="3454400"/>
                </a:cubicBezTo>
                <a:lnTo>
                  <a:pt x="269875" y="3175"/>
                </a:lnTo>
                <a:close/>
              </a:path>
            </a:pathLst>
          </a:custGeom>
          <a:solidFill>
            <a:srgbClr val="fea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Group 7" descr=""/>
          <p:cNvPicPr/>
          <p:nvPr/>
        </p:nvPicPr>
        <p:blipFill>
          <a:blip r:embed="rId1"/>
          <a:stretch/>
        </p:blipFill>
        <p:spPr>
          <a:xfrm>
            <a:off x="4200480" y="1263600"/>
            <a:ext cx="727200" cy="73980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15"/>
          <p:cNvGrpSpPr/>
          <p:nvPr/>
        </p:nvGrpSpPr>
        <p:grpSpPr>
          <a:xfrm>
            <a:off x="3222720" y="1916280"/>
            <a:ext cx="474480" cy="438120"/>
            <a:chOff x="3222720" y="1916280"/>
            <a:chExt cx="474480" cy="438120"/>
          </a:xfrm>
        </p:grpSpPr>
        <p:sp>
          <p:nvSpPr>
            <p:cNvPr id="229" name="Frame 16"/>
            <p:cNvSpPr/>
            <p:nvPr/>
          </p:nvSpPr>
          <p:spPr>
            <a:xfrm>
              <a:off x="3222720" y="1916280"/>
              <a:ext cx="474480" cy="321120"/>
            </a:xfrm>
            <a:custGeom>
              <a:avLst/>
              <a:gdLst/>
              <a:ahLst/>
              <a:rect l="l" t="t" r="r" b="b"/>
              <a:pathLst>
                <a:path w="473869" h="320675">
                  <a:moveTo>
                    <a:pt x="0" y="0"/>
                  </a:moveTo>
                  <a:lnTo>
                    <a:pt x="473869" y="0"/>
                  </a:lnTo>
                  <a:lnTo>
                    <a:pt x="473869" y="320675"/>
                  </a:lnTo>
                  <a:lnTo>
                    <a:pt x="0" y="320675"/>
                  </a:lnTo>
                  <a:close/>
                  <a:moveTo>
                    <a:pt x="40084" y="40084"/>
                  </a:moveTo>
                  <a:lnTo>
                    <a:pt x="40084" y="280590"/>
                  </a:lnTo>
                  <a:lnTo>
                    <a:pt x="433784" y="280590"/>
                  </a:lnTo>
                  <a:lnTo>
                    <a:pt x="433784" y="400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17"/>
            <p:cNvSpPr/>
            <p:nvPr/>
          </p:nvSpPr>
          <p:spPr>
            <a:xfrm>
              <a:off x="3345480" y="2237400"/>
              <a:ext cx="228960" cy="7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3292200" y="2308680"/>
              <a:ext cx="3351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2" name="Group 19" descr=""/>
          <p:cNvPicPr/>
          <p:nvPr/>
        </p:nvPicPr>
        <p:blipFill>
          <a:blip r:embed="rId2"/>
          <a:stretch/>
        </p:blipFill>
        <p:spPr>
          <a:xfrm>
            <a:off x="5419800" y="1920960"/>
            <a:ext cx="579240" cy="425520"/>
          </a:xfrm>
          <a:prstGeom prst="rect">
            <a:avLst/>
          </a:prstGeom>
          <a:ln w="0">
            <a:noFill/>
          </a:ln>
        </p:spPr>
      </p:pic>
      <p:sp>
        <p:nvSpPr>
          <p:cNvPr id="233" name="Freeform 22"/>
          <p:cNvSpPr/>
          <p:nvPr/>
        </p:nvSpPr>
        <p:spPr>
          <a:xfrm>
            <a:off x="6446880" y="2311560"/>
            <a:ext cx="276120" cy="444240"/>
          </a:xfrm>
          <a:custGeom>
            <a:avLst/>
            <a:gdLst/>
            <a:ahLst/>
            <a:rect l="l" t="t" r="r" b="b"/>
            <a:pathLst>
              <a:path w="726997" h="1164431">
                <a:moveTo>
                  <a:pt x="709613" y="273844"/>
                </a:moveTo>
                <a:lnTo>
                  <a:pt x="566738" y="423862"/>
                </a:lnTo>
                <a:cubicBezTo>
                  <a:pt x="491332" y="357187"/>
                  <a:pt x="432593" y="326231"/>
                  <a:pt x="350043" y="326231"/>
                </a:cubicBezTo>
                <a:cubicBezTo>
                  <a:pt x="228599" y="327025"/>
                  <a:pt x="233363" y="434974"/>
                  <a:pt x="350044" y="447675"/>
                </a:cubicBezTo>
                <a:cubicBezTo>
                  <a:pt x="499269" y="481012"/>
                  <a:pt x="648494" y="502444"/>
                  <a:pt x="709613" y="652462"/>
                </a:cubicBezTo>
                <a:cubicBezTo>
                  <a:pt x="777081" y="874712"/>
                  <a:pt x="637382" y="1001711"/>
                  <a:pt x="476250" y="1040605"/>
                </a:cubicBezTo>
                <a:cubicBezTo>
                  <a:pt x="477044" y="1087436"/>
                  <a:pt x="477837" y="1117599"/>
                  <a:pt x="478631" y="1164430"/>
                </a:cubicBezTo>
                <a:lnTo>
                  <a:pt x="271463" y="1164431"/>
                </a:lnTo>
                <a:lnTo>
                  <a:pt x="271463" y="1038225"/>
                </a:lnTo>
                <a:cubicBezTo>
                  <a:pt x="154781" y="1016794"/>
                  <a:pt x="57151" y="966787"/>
                  <a:pt x="0" y="866775"/>
                </a:cubicBezTo>
                <a:lnTo>
                  <a:pt x="145256" y="733424"/>
                </a:lnTo>
                <a:cubicBezTo>
                  <a:pt x="223837" y="803274"/>
                  <a:pt x="311944" y="851694"/>
                  <a:pt x="438150" y="828675"/>
                </a:cubicBezTo>
                <a:cubicBezTo>
                  <a:pt x="558006" y="793750"/>
                  <a:pt x="508794" y="704055"/>
                  <a:pt x="376238" y="681037"/>
                </a:cubicBezTo>
                <a:cubicBezTo>
                  <a:pt x="191295" y="646906"/>
                  <a:pt x="34926" y="596106"/>
                  <a:pt x="28576" y="371475"/>
                </a:cubicBezTo>
                <a:cubicBezTo>
                  <a:pt x="50007" y="242887"/>
                  <a:pt x="147638" y="145256"/>
                  <a:pt x="271463" y="128587"/>
                </a:cubicBezTo>
                <a:lnTo>
                  <a:pt x="271463" y="0"/>
                </a:lnTo>
                <a:lnTo>
                  <a:pt x="466725" y="0"/>
                </a:lnTo>
                <a:lnTo>
                  <a:pt x="471488" y="128587"/>
                </a:lnTo>
                <a:cubicBezTo>
                  <a:pt x="573882" y="150812"/>
                  <a:pt x="661989" y="208756"/>
                  <a:pt x="709613" y="2738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5-Point Star 23"/>
          <p:cNvSpPr/>
          <p:nvPr/>
        </p:nvSpPr>
        <p:spPr>
          <a:xfrm>
            <a:off x="2357280" y="2306520"/>
            <a:ext cx="412920" cy="419040"/>
          </a:xfrm>
          <a:custGeom>
            <a:avLst/>
            <a:gdLst/>
            <a:ahLst/>
            <a:rect l="l" t="t" r="r" b="b"/>
            <a:pathLst>
              <a:path w="412750" h="419100">
                <a:moveTo>
                  <a:pt x="0" y="160081"/>
                </a:moveTo>
                <a:lnTo>
                  <a:pt x="139907" y="134000"/>
                </a:lnTo>
                <a:lnTo>
                  <a:pt x="206375" y="0"/>
                </a:lnTo>
                <a:lnTo>
                  <a:pt x="272842" y="134000"/>
                </a:lnTo>
                <a:lnTo>
                  <a:pt x="412749" y="160081"/>
                </a:lnTo>
                <a:lnTo>
                  <a:pt x="313920" y="268979"/>
                </a:lnTo>
                <a:lnTo>
                  <a:pt x="333921" y="419098"/>
                </a:lnTo>
                <a:lnTo>
                  <a:pt x="206375" y="352401"/>
                </a:lnTo>
                <a:lnTo>
                  <a:pt x="78828" y="419098"/>
                </a:lnTo>
                <a:lnTo>
                  <a:pt x="98829" y="2689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947880" y="5695920"/>
            <a:ext cx="1369800" cy="1162080"/>
          </a:xfrm>
          <a:prstGeom prst="rect">
            <a:avLst/>
          </a:prstGeom>
          <a:gradFill rotWithShape="0">
            <a:gsLst>
              <a:gs pos="0">
                <a:srgbClr val="734201"/>
              </a:gs>
              <a:gs pos="100000">
                <a:srgbClr val="8f52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2301840" y="5691240"/>
            <a:ext cx="1255680" cy="1166760"/>
          </a:xfrm>
          <a:custGeom>
            <a:avLst/>
            <a:gdLst/>
            <a:ahLst/>
            <a:rect l="l" t="t" r="r" b="b"/>
            <a:pathLst>
              <a:path w="1255183" h="1166813">
                <a:moveTo>
                  <a:pt x="0" y="4763"/>
                </a:moveTo>
                <a:lnTo>
                  <a:pt x="1255183" y="0"/>
                </a:lnTo>
                <a:cubicBezTo>
                  <a:pt x="1253596" y="388938"/>
                  <a:pt x="1252008" y="777875"/>
                  <a:pt x="1250421" y="1166813"/>
                </a:cubicBezTo>
                <a:lnTo>
                  <a:pt x="0" y="1166813"/>
                </a:lnTo>
                <a:lnTo>
                  <a:pt x="0" y="4763"/>
                </a:lnTo>
                <a:close/>
              </a:path>
            </a:pathLst>
          </a:custGeom>
          <a:gradFill rotWithShape="0">
            <a:gsLst>
              <a:gs pos="0">
                <a:srgbClr val="ba6b01"/>
              </a:gs>
              <a:gs pos="100000">
                <a:srgbClr val="d77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42"/>
          <p:cNvSpPr/>
          <p:nvPr/>
        </p:nvSpPr>
        <p:spPr>
          <a:xfrm>
            <a:off x="3548160" y="5688000"/>
            <a:ext cx="2055600" cy="1170000"/>
          </a:xfrm>
          <a:custGeom>
            <a:avLst/>
            <a:gdLst/>
            <a:ahLst/>
            <a:rect l="l" t="t" r="r" b="b"/>
            <a:pathLst>
              <a:path w="2055142" h="1169194">
                <a:moveTo>
                  <a:pt x="0" y="0"/>
                </a:moveTo>
                <a:lnTo>
                  <a:pt x="2055142" y="0"/>
                </a:lnTo>
                <a:cubicBezTo>
                  <a:pt x="2054348" y="389731"/>
                  <a:pt x="2053555" y="779463"/>
                  <a:pt x="2052761" y="1169194"/>
                </a:cubicBezTo>
                <a:lnTo>
                  <a:pt x="2382" y="11691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9405"/>
              </a:gs>
              <a:gs pos="100000">
                <a:srgbClr val="fea02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27"/>
          <p:cNvSpPr/>
          <p:nvPr/>
        </p:nvSpPr>
        <p:spPr>
          <a:xfrm>
            <a:off x="6835680" y="5695920"/>
            <a:ext cx="1371600" cy="1162080"/>
          </a:xfrm>
          <a:prstGeom prst="rect">
            <a:avLst/>
          </a:prstGeom>
          <a:gradFill rotWithShape="0">
            <a:gsLst>
              <a:gs pos="0">
                <a:srgbClr val="734201"/>
              </a:gs>
              <a:gs pos="100000">
                <a:srgbClr val="8f52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51"/>
          <p:cNvSpPr/>
          <p:nvPr/>
        </p:nvSpPr>
        <p:spPr>
          <a:xfrm>
            <a:off x="5600880" y="5691240"/>
            <a:ext cx="1250640" cy="1166760"/>
          </a:xfrm>
          <a:custGeom>
            <a:avLst/>
            <a:gdLst/>
            <a:ahLst/>
            <a:rect l="l" t="t" r="r" b="b"/>
            <a:pathLst>
              <a:path w="1250421" h="1166812">
                <a:moveTo>
                  <a:pt x="0" y="0"/>
                </a:moveTo>
                <a:lnTo>
                  <a:pt x="1250421" y="4762"/>
                </a:lnTo>
                <a:lnTo>
                  <a:pt x="1250421" y="1166812"/>
                </a:lnTo>
                <a:lnTo>
                  <a:pt x="0" y="11668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a6b01"/>
              </a:gs>
              <a:gs pos="100000">
                <a:srgbClr val="d77c0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5"/>
          <p:cNvSpPr/>
          <p:nvPr/>
        </p:nvSpPr>
        <p:spPr>
          <a:xfrm>
            <a:off x="7238880" y="3871800"/>
            <a:ext cx="194796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“ </a:t>
            </a: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huyên cung cấp</a:t>
            </a:r>
            <a:br>
              <a:rPr sz="1200"/>
            </a:br>
            <a:r>
              <a:rPr b="0" lang="en-US" sz="1200" spc="-1" strike="noStrike">
                <a:solidFill>
                  <a:srgbClr val="c8a685"/>
                </a:solidFill>
                <a:latin typeface="Calibri"/>
                <a:ea typeface="SimSun"/>
              </a:rPr>
              <a:t>các mẫu thiết kế hàng đầu về PowerPoint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6"/>
          <p:cNvSpPr/>
          <p:nvPr/>
        </p:nvSpPr>
        <p:spPr>
          <a:xfrm>
            <a:off x="3997440" y="250200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37"/>
          <p:cNvSpPr/>
          <p:nvPr/>
        </p:nvSpPr>
        <p:spPr>
          <a:xfrm>
            <a:off x="508644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38"/>
          <p:cNvSpPr/>
          <p:nvPr/>
        </p:nvSpPr>
        <p:spPr>
          <a:xfrm>
            <a:off x="602460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9"/>
          <p:cNvSpPr/>
          <p:nvPr/>
        </p:nvSpPr>
        <p:spPr>
          <a:xfrm>
            <a:off x="1994040" y="370368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40"/>
          <p:cNvSpPr/>
          <p:nvPr/>
        </p:nvSpPr>
        <p:spPr>
          <a:xfrm>
            <a:off x="2890800" y="3041640"/>
            <a:ext cx="113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  <a:ea typeface="Arial"/>
              </a:rPr>
              <a:t>Tóm tắt nội dung của bạ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41"/>
          <p:cNvSpPr/>
          <p:nvPr/>
        </p:nvSpPr>
        <p:spPr>
          <a:xfrm>
            <a:off x="399744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42"/>
          <p:cNvSpPr/>
          <p:nvPr/>
        </p:nvSpPr>
        <p:spPr>
          <a:xfrm>
            <a:off x="2357280" y="5861160"/>
            <a:ext cx="114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Box 43"/>
          <p:cNvSpPr/>
          <p:nvPr/>
        </p:nvSpPr>
        <p:spPr>
          <a:xfrm>
            <a:off x="10620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44"/>
          <p:cNvSpPr/>
          <p:nvPr/>
        </p:nvSpPr>
        <p:spPr>
          <a:xfrm>
            <a:off x="695160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ecd3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45"/>
          <p:cNvSpPr/>
          <p:nvPr/>
        </p:nvSpPr>
        <p:spPr>
          <a:xfrm>
            <a:off x="5656320" y="5861160"/>
            <a:ext cx="11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  <a:ea typeface="SimSun"/>
              </a:rPr>
              <a:t>Chú thí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8T07:15:53Z</dcterms:created>
  <dc:creator>dell</dc:creator>
  <dc:description/>
  <dc:language>en-US</dc:language>
  <cp:lastModifiedBy>MavisVermillion</cp:lastModifiedBy>
  <dcterms:modified xsi:type="dcterms:W3CDTF">2016-05-16T08:53:22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