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936-A0BB-4D19-A0B9-5B5CD221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53C-FB1C-4A5B-B18B-41DE905B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AB20-4B94-48EC-BEB7-7357B1D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385-FA8E-4997-9340-24ACE646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5D9A-AF85-4BA3-B300-2D792E2B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4A5-B27A-43D3-9ED9-FF28A66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3CC8-0209-4A57-9B72-04428737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2AAF-27B5-4ACA-9594-1FDCFDFB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33C-46CD-4554-B327-4A404B0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26D2-21E9-48BF-8070-F1C0A7D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55BD-90D1-4F7E-97E5-FD4599ED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C6A-39C0-4A62-AE35-4E41334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1671-FCD7-4335-9077-2044651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90D3-22B0-4D34-A1FB-8D1AB30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668E-8BCC-4B62-959B-38E80D53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62D0-7DD7-4619-83D0-3F927562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E057-9D38-4CFF-965C-16DBD3B2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01E-98F3-44B1-BD5F-02AE2B05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965-BC03-45E1-8EF1-821E863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962-DDC3-4047-BF8D-23192843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BE0-DD6E-44EF-A1FB-77E711AE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7DB-CCF1-4CDA-8129-914FA6D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A31-6E8B-4FD7-898D-785F79A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5A6-4762-479C-99A7-2E52C5DB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C7E0-F3F0-48A0-B5B3-5C92443B16C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66EB-A1B8-476A-ACCF-C2A71E2FB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92D-38F2-40E4-A0DB-8098095451C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9E50-1E57-4D12-B53C-01ECCCAD0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4"/>
          <p:cNvSpPr/>
          <p:nvPr/>
        </p:nvSpPr>
        <p:spPr>
          <a:xfrm>
            <a:off x="609480" y="140184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5"/>
          <p:cNvSpPr/>
          <p:nvPr/>
        </p:nvSpPr>
        <p:spPr>
          <a:xfrm>
            <a:off x="851040" y="16383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sosceles Triangle 11"/>
          <p:cNvSpPr/>
          <p:nvPr/>
        </p:nvSpPr>
        <p:spPr>
          <a:xfrm rot="5400000">
            <a:off x="2034000" y="178020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3657600" y="169920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IMIENPHI.V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1371600" y="158364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2924640" y="152280"/>
            <a:ext cx="32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AIMIENPHI.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ounded Rectangle 6"/>
          <p:cNvSpPr/>
          <p:nvPr/>
        </p:nvSpPr>
        <p:spPr>
          <a:xfrm>
            <a:off x="609480" y="2286000"/>
            <a:ext cx="716292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7732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1266840" y="246960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sosceles Triangle 24"/>
          <p:cNvSpPr/>
          <p:nvPr/>
        </p:nvSpPr>
        <p:spPr>
          <a:xfrm rot="5400000">
            <a:off x="2034720" y="2660400"/>
            <a:ext cx="146160" cy="127080"/>
          </a:xfrm>
          <a:prstGeom prst="triangle">
            <a:avLst>
              <a:gd name="adj" fmla="val 50000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5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6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8"/>
          <p:cNvSpPr/>
          <p:nvPr/>
        </p:nvSpPr>
        <p:spPr>
          <a:xfrm>
            <a:off x="609480" y="317340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7732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3"/>
          <p:cNvSpPr/>
          <p:nvPr/>
        </p:nvSpPr>
        <p:spPr>
          <a:xfrm>
            <a:off x="1266840" y="33472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21"/>
          <p:cNvSpPr/>
          <p:nvPr/>
        </p:nvSpPr>
        <p:spPr>
          <a:xfrm rot="5400000">
            <a:off x="2034000" y="354384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ounded Rectangle 9"/>
          <p:cNvSpPr/>
          <p:nvPr/>
        </p:nvSpPr>
        <p:spPr>
          <a:xfrm>
            <a:off x="609480" y="4057560"/>
            <a:ext cx="716292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1270080" y="4941720"/>
            <a:ext cx="701028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7732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4986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Isosceles Triangle 11"/>
          <p:cNvSpPr/>
          <p:nvPr/>
        </p:nvSpPr>
        <p:spPr>
          <a:xfrm rot="5400000">
            <a:off x="2034000" y="44200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1266840" y="422388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ounded Rectangle 6"/>
          <p:cNvSpPr/>
          <p:nvPr/>
        </p:nvSpPr>
        <p:spPr>
          <a:xfrm>
            <a:off x="1270080" y="2286000"/>
            <a:ext cx="7010280" cy="887400"/>
          </a:xfrm>
          <a:prstGeom prst="roundRect">
            <a:avLst>
              <a:gd name="adj" fmla="val 16667"/>
            </a:avLst>
          </a:prstGeom>
          <a:solidFill>
            <a:srgbClr val="ffa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ounded Rectangle 8"/>
          <p:cNvSpPr/>
          <p:nvPr/>
        </p:nvSpPr>
        <p:spPr>
          <a:xfrm>
            <a:off x="1270080" y="317340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b26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ounded Rectangle 9"/>
          <p:cNvSpPr/>
          <p:nvPr/>
        </p:nvSpPr>
        <p:spPr>
          <a:xfrm>
            <a:off x="1270080" y="405756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ef8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ounded Rectangle 10"/>
          <p:cNvSpPr/>
          <p:nvPr/>
        </p:nvSpPr>
        <p:spPr>
          <a:xfrm>
            <a:off x="609480" y="4941720"/>
            <a:ext cx="7162920" cy="882720"/>
          </a:xfrm>
          <a:prstGeom prst="roundRect">
            <a:avLst>
              <a:gd name="adj" fmla="val 16667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ounded Rectangle 4"/>
          <p:cNvSpPr/>
          <p:nvPr/>
        </p:nvSpPr>
        <p:spPr>
          <a:xfrm>
            <a:off x="1270080" y="1401840"/>
            <a:ext cx="7010280" cy="884160"/>
          </a:xfrm>
          <a:prstGeom prst="roundRect">
            <a:avLst>
              <a:gd name="adj" fmla="val 16667"/>
            </a:avLst>
          </a:prstGeom>
          <a:solidFill>
            <a:srgbClr val="5ba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1498680" y="25146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1498680" y="339876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14"/>
          <p:cNvSpPr/>
          <p:nvPr/>
        </p:nvSpPr>
        <p:spPr>
          <a:xfrm>
            <a:off x="1498680" y="4275000"/>
            <a:ext cx="419040" cy="4194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5"/>
          <p:cNvSpPr/>
          <p:nvPr/>
        </p:nvSpPr>
        <p:spPr>
          <a:xfrm>
            <a:off x="773280" y="516420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ounded Rectangle 3"/>
          <p:cNvSpPr/>
          <p:nvPr/>
        </p:nvSpPr>
        <p:spPr>
          <a:xfrm>
            <a:off x="2044800" y="1143000"/>
            <a:ext cx="5524560" cy="4965840"/>
          </a:xfrm>
          <a:prstGeom prst="roundRect">
            <a:avLst>
              <a:gd name="adj" fmla="val 2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Isosceles Triangle 11"/>
          <p:cNvSpPr/>
          <p:nvPr/>
        </p:nvSpPr>
        <p:spPr>
          <a:xfrm rot="5400000">
            <a:off x="2034000" y="5309280"/>
            <a:ext cx="147600" cy="127080"/>
          </a:xfrm>
          <a:prstGeom prst="triangle">
            <a:avLst>
              <a:gd name="adj" fmla="val 5000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ounded Rectangle 16"/>
          <p:cNvSpPr/>
          <p:nvPr/>
        </p:nvSpPr>
        <p:spPr>
          <a:xfrm>
            <a:off x="2554200" y="1401840"/>
            <a:ext cx="4498920" cy="1050840"/>
          </a:xfrm>
          <a:prstGeom prst="roundRect">
            <a:avLst>
              <a:gd name="adj" fmla="val 8380"/>
            </a:avLst>
          </a:prstGeom>
          <a:solidFill>
            <a:srgbClr val="a6c6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18"/>
          <p:cNvSpPr/>
          <p:nvPr/>
        </p:nvSpPr>
        <p:spPr>
          <a:xfrm>
            <a:off x="2805120" y="1563840"/>
            <a:ext cx="708120" cy="7077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2468520" y="2655720"/>
            <a:ext cx="46944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3657600" y="16981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498680" y="1635120"/>
            <a:ext cx="419040" cy="41904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3"/>
          <p:cNvSpPr/>
          <p:nvPr/>
        </p:nvSpPr>
        <p:spPr>
          <a:xfrm>
            <a:off x="1266840" y="5123160"/>
            <a:ext cx="7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ú thí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21"/>
          <p:cNvSpPr/>
          <p:nvPr/>
        </p:nvSpPr>
        <p:spPr>
          <a:xfrm>
            <a:off x="3677400" y="15228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Arial"/>
                <a:ea typeface="Arial"/>
              </a:rPr>
              <a:t>TIÊU Đ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2468520" y="574524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25"/>
          <p:cNvSpPr/>
          <p:nvPr/>
        </p:nvSpPr>
        <p:spPr>
          <a:xfrm>
            <a:off x="6311880" y="574524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SimSun"/>
              </a:rPr>
              <a:t>Hotli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04:19:13Z</dcterms:created>
  <dc:creator>dell</dc:creator>
  <dc:description/>
  <dc:language>en-US</dc:language>
  <cp:lastModifiedBy>MavisVermillion</cp:lastModifiedBy>
  <dcterms:modified xsi:type="dcterms:W3CDTF">2016-05-16T08:52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510</vt:lpwstr>
  </property>
</Properties>
</file>