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CA7-018E-4A10-8F0F-A5C102E0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F48-9896-4BCB-B65D-9240DD5D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EC6-07D0-45F9-ACD8-A3251996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B18-1634-4837-B678-1CF1A19B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DDFB-AFAB-4934-8C53-E8E5E018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2E1E-0BEA-4FBB-9FC1-B205EF29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5412-9C30-452E-A302-DFFBC3EB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3676-9ED5-41C5-A4EE-40822B05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3063-6B21-44DB-996B-D6409A0C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8F63-6D30-4169-8E8B-08F9B83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349B-8EA0-422E-B07E-4CA27832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6BA-7134-459C-9F01-F600F4B4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D19D-459F-433B-95A8-CA58F4C1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6F8C-0D97-42B4-902F-1C6D760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BF75-F44B-40F4-A37A-3862528B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317B-8D28-4ABF-B056-BCF36B69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91B1-B2CA-409D-8CBC-BF36AAAA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753-50C5-45D3-87E1-2FC34B3D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727-CE8E-41DC-B262-919B4B05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DA6-3171-406D-8C62-3F2585B1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EF8-0D93-420A-B59A-DDF8152B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43A-727C-4EDE-99CA-F3C07C8C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050-F555-4997-A197-C487953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6ED-FA2F-42EC-B6A0-9FA2C71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60F3-37F9-4F37-A519-EAFD58DD4E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DD83-BCAA-495B-9D10-2BDC3B347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16BD-BD73-460F-9CFC-8B56E8377A2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3710-7CD1-419A-846F-30E4EC39E2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4"/>
          <p:cNvSpPr/>
          <p:nvPr/>
        </p:nvSpPr>
        <p:spPr>
          <a:xfrm>
            <a:off x="609480" y="140184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5"/>
          <p:cNvSpPr/>
          <p:nvPr/>
        </p:nvSpPr>
        <p:spPr>
          <a:xfrm>
            <a:off x="851040" y="16383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sosceles Triangle 11"/>
          <p:cNvSpPr/>
          <p:nvPr/>
        </p:nvSpPr>
        <p:spPr>
          <a:xfrm rot="5400000">
            <a:off x="2034000" y="178020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657600" y="169920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IMIENPHI.V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1371600" y="158364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2924640" y="1522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AIMIENPHI.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6"/>
          <p:cNvSpPr/>
          <p:nvPr/>
        </p:nvSpPr>
        <p:spPr>
          <a:xfrm>
            <a:off x="609480" y="2286000"/>
            <a:ext cx="716292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7732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1266840" y="246960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sosceles Triangle 24"/>
          <p:cNvSpPr/>
          <p:nvPr/>
        </p:nvSpPr>
        <p:spPr>
          <a:xfrm rot="5400000">
            <a:off x="2034720" y="2660400"/>
            <a:ext cx="146160" cy="127080"/>
          </a:xfrm>
          <a:prstGeom prst="triangle">
            <a:avLst>
              <a:gd name="adj" fmla="val 5000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8"/>
          <p:cNvSpPr/>
          <p:nvPr/>
        </p:nvSpPr>
        <p:spPr>
          <a:xfrm>
            <a:off x="609480" y="317340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732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1266840" y="33472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21"/>
          <p:cNvSpPr/>
          <p:nvPr/>
        </p:nvSpPr>
        <p:spPr>
          <a:xfrm rot="5400000">
            <a:off x="2034000" y="354384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9"/>
          <p:cNvSpPr/>
          <p:nvPr/>
        </p:nvSpPr>
        <p:spPr>
          <a:xfrm>
            <a:off x="609480" y="405756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7732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sosceles Triangle 11"/>
          <p:cNvSpPr/>
          <p:nvPr/>
        </p:nvSpPr>
        <p:spPr>
          <a:xfrm rot="5400000">
            <a:off x="2034000" y="44200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1266840" y="42238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ounded Rectangle 10"/>
          <p:cNvSpPr/>
          <p:nvPr/>
        </p:nvSpPr>
        <p:spPr>
          <a:xfrm>
            <a:off x="609480" y="4941720"/>
            <a:ext cx="716292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7732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sosceles Triangle 11"/>
          <p:cNvSpPr/>
          <p:nvPr/>
        </p:nvSpPr>
        <p:spPr>
          <a:xfrm rot="5400000">
            <a:off x="2034000" y="53092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266840" y="512316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4:19:13Z</dcterms:created>
  <dc:creator>dell</dc:creator>
  <dc:description/>
  <dc:language>en-US</dc:language>
  <cp:lastModifiedBy>MavisVermillion</cp:lastModifiedBy>
  <dcterms:modified xsi:type="dcterms:W3CDTF">2016-05-16T08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