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785F-CE1F-4E6F-9861-AE920DCF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EBC-51C7-4E3E-8E44-A8EE08EC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843-6C13-4E68-9411-89079F0A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0C1-C77D-4CA3-9BC5-EA815603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5990-BE3B-4965-B184-2018424B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9638-23A0-4518-A31D-DFDA7F7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D047-097E-4DE6-93AA-9D4B24D7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5363-43A7-4EAF-8223-DCF7357D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1017-7FD4-471A-9491-4D6F713E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9F92-2EF0-4A2F-A6A0-FA1FE234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8C04-D6CB-413A-8194-45146FA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A7C-5F15-43E5-8D8A-7CC5D76D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450D-8FFE-4186-AF81-B6D8EA71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13C7-2135-49D1-99AC-BCB8D8FF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9CD-2973-4BC6-B84E-46CB8228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C265-0E8F-4C57-A976-FA6AD946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94CD-DBD7-4B33-B9C7-CF307BD3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942B-9E23-45F3-8186-33ECD84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EB056-7822-4CF5-A4CB-CBF1DE73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D5C78-B542-4CCE-9666-D2F2E615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9529-72D6-4D8D-8FB3-A2EAF3A2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0DC62-FEB3-4A0D-B3AA-599F73B2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1D6-3975-4E61-9601-D048A4BF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A5D7-FEAB-4464-923A-1675C23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9D12-FFC2-45CF-8484-B6658038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87C5-19D3-4B4E-B1BB-7BC7E8AC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FFD4-1A73-49CB-B2E4-D3C3454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1613F-E5B6-4680-9759-0B73D54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6C03-C3D8-4FE4-A9B6-6E852557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6FAE-FE54-46F4-A3DF-173C48F7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2D7-4951-4D0C-A231-383C74E7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D992-0D02-41D0-8578-1E111E4B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EE9-917C-4D89-983D-715C979E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0CA-0A7B-41EE-B25C-DA6D2D94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9E8-C8B6-452A-93F7-61FEAD29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075-EBB9-4837-AC68-5E8061EF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3B1E-FE3A-4010-84D5-C477481B7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5FED-2006-4EA0-BF82-28E8C2DA4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34AE-5ACE-45DC-B78F-611A2E88309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1494-5A88-40B6-9EF5-32DAB2C815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703B-EC6F-460A-B0CB-B550F386C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8A71-D6DB-43AB-9FA8-E8B51304D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1407600" y="816840"/>
            <a:ext cx="6223680" cy="5739480"/>
            <a:chOff x="1407600" y="816840"/>
            <a:chExt cx="6223680" cy="5739480"/>
          </a:xfrm>
        </p:grpSpPr>
        <p:grpSp>
          <p:nvGrpSpPr>
            <p:cNvPr id="126" name="Group 10"/>
            <p:cNvGrpSpPr/>
            <p:nvPr/>
          </p:nvGrpSpPr>
          <p:grpSpPr>
            <a:xfrm>
              <a:off x="1407600" y="816840"/>
              <a:ext cx="6223680" cy="2121840"/>
              <a:chOff x="1407600" y="816840"/>
              <a:chExt cx="6223680" cy="2121840"/>
            </a:xfrm>
          </p:grpSpPr>
          <p:grpSp>
            <p:nvGrpSpPr>
              <p:cNvPr id="127" name="Group 7"/>
              <p:cNvGrpSpPr/>
              <p:nvPr/>
            </p:nvGrpSpPr>
            <p:grpSpPr>
              <a:xfrm>
                <a:off x="1407600" y="1364400"/>
                <a:ext cx="6223680" cy="1574280"/>
                <a:chOff x="1407600" y="1364400"/>
                <a:chExt cx="6223680" cy="1574280"/>
              </a:xfrm>
            </p:grpSpPr>
            <p:pic>
              <p:nvPicPr>
                <p:cNvPr id="128" name="Picture 345" descr="shadow_1_m"/>
                <p:cNvPicPr/>
                <p:nvPr/>
              </p:nvPicPr>
              <p:blipFill>
                <a:blip r:embed="rId1"/>
                <a:srcRect l="0" t="1518" r="0" b="0"/>
                <a:stretch/>
              </p:blipFill>
              <p:spPr>
                <a:xfrm>
                  <a:off x="1407600" y="257904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Rectangle 38"/>
                <p:cNvSpPr/>
                <p:nvPr/>
              </p:nvSpPr>
              <p:spPr>
                <a:xfrm>
                  <a:off x="1963080" y="1364400"/>
                  <a:ext cx="5346000" cy="1439280"/>
                </a:xfrm>
                <a:prstGeom prst="rect">
                  <a:avLst/>
                </a:prstGeom>
                <a:solidFill>
                  <a:srgbClr val="e66c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Rectangle 1"/>
                <p:cNvSpPr/>
                <p:nvPr/>
              </p:nvSpPr>
              <p:spPr>
                <a:xfrm>
                  <a:off x="2085840" y="148716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Group 6"/>
              <p:cNvGrpSpPr/>
              <p:nvPr/>
            </p:nvGrpSpPr>
            <p:grpSpPr>
              <a:xfrm>
                <a:off x="1420560" y="816840"/>
                <a:ext cx="2106360" cy="1894680"/>
                <a:chOff x="1420560" y="816840"/>
                <a:chExt cx="2106360" cy="1894680"/>
              </a:xfrm>
            </p:grpSpPr>
            <p:sp>
              <p:nvSpPr>
                <p:cNvPr id="132" name="Right Triangle 5"/>
                <p:cNvSpPr/>
                <p:nvPr/>
              </p:nvSpPr>
              <p:spPr>
                <a:xfrm flipH="1">
                  <a:off x="1765440" y="253764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Right Triangle 41"/>
                <p:cNvSpPr/>
                <p:nvPr/>
              </p:nvSpPr>
              <p:spPr>
                <a:xfrm flipH="1">
                  <a:off x="3304800" y="11905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rapezoid 2"/>
                <p:cNvSpPr/>
                <p:nvPr/>
              </p:nvSpPr>
              <p:spPr>
                <a:xfrm rot="19191000">
                  <a:off x="1320840" y="149688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" name="Group 46"/>
            <p:cNvGrpSpPr/>
            <p:nvPr/>
          </p:nvGrpSpPr>
          <p:grpSpPr>
            <a:xfrm>
              <a:off x="1407600" y="2630520"/>
              <a:ext cx="6223680" cy="2121840"/>
              <a:chOff x="1407600" y="2630520"/>
              <a:chExt cx="6223680" cy="2121840"/>
            </a:xfrm>
          </p:grpSpPr>
          <p:grpSp>
            <p:nvGrpSpPr>
              <p:cNvPr id="136" name="Group 49"/>
              <p:cNvGrpSpPr/>
              <p:nvPr/>
            </p:nvGrpSpPr>
            <p:grpSpPr>
              <a:xfrm>
                <a:off x="1407600" y="3178080"/>
                <a:ext cx="6223680" cy="1574280"/>
                <a:chOff x="1407600" y="3178080"/>
                <a:chExt cx="6223680" cy="1574280"/>
              </a:xfrm>
            </p:grpSpPr>
            <p:pic>
              <p:nvPicPr>
                <p:cNvPr id="137" name="Picture 345" descr="shadow_1_m"/>
                <p:cNvPicPr/>
                <p:nvPr/>
              </p:nvPicPr>
              <p:blipFill>
                <a:blip r:embed="rId2"/>
                <a:srcRect l="0" t="1518" r="0" b="0"/>
                <a:stretch/>
              </p:blipFill>
              <p:spPr>
                <a:xfrm>
                  <a:off x="1407600" y="439272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Rectangle 61"/>
                <p:cNvSpPr/>
                <p:nvPr/>
              </p:nvSpPr>
              <p:spPr>
                <a:xfrm>
                  <a:off x="1963080" y="3178080"/>
                  <a:ext cx="5346000" cy="1439280"/>
                </a:xfrm>
                <a:prstGeom prst="rect">
                  <a:avLst/>
                </a:prstGeom>
                <a:solidFill>
                  <a:srgbClr val="60b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Rectangle 62"/>
                <p:cNvSpPr/>
                <p:nvPr/>
              </p:nvSpPr>
              <p:spPr>
                <a:xfrm>
                  <a:off x="2085840" y="330084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Group 50"/>
              <p:cNvGrpSpPr/>
              <p:nvPr/>
            </p:nvGrpSpPr>
            <p:grpSpPr>
              <a:xfrm>
                <a:off x="1420560" y="2630520"/>
                <a:ext cx="2106360" cy="1894680"/>
                <a:chOff x="1420560" y="2630520"/>
                <a:chExt cx="2106360" cy="1894680"/>
              </a:xfrm>
            </p:grpSpPr>
            <p:sp>
              <p:nvSpPr>
                <p:cNvPr id="141" name="Right Triangle 51"/>
                <p:cNvSpPr/>
                <p:nvPr/>
              </p:nvSpPr>
              <p:spPr>
                <a:xfrm flipH="1">
                  <a:off x="1765440" y="435132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" name="Right Triangle 52"/>
                <p:cNvSpPr/>
                <p:nvPr/>
              </p:nvSpPr>
              <p:spPr>
                <a:xfrm flipH="1">
                  <a:off x="3304800" y="300420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Trapezoid 2"/>
                <p:cNvSpPr/>
                <p:nvPr/>
              </p:nvSpPr>
              <p:spPr>
                <a:xfrm rot="19191000">
                  <a:off x="1320840" y="331056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4" name="Group 63"/>
            <p:cNvGrpSpPr/>
            <p:nvPr/>
          </p:nvGrpSpPr>
          <p:grpSpPr>
            <a:xfrm>
              <a:off x="1407600" y="4434480"/>
              <a:ext cx="6223680" cy="2121840"/>
              <a:chOff x="1407600" y="4434480"/>
              <a:chExt cx="6223680" cy="2121840"/>
            </a:xfrm>
          </p:grpSpPr>
          <p:grpSp>
            <p:nvGrpSpPr>
              <p:cNvPr id="145" name="Group 67"/>
              <p:cNvGrpSpPr/>
              <p:nvPr/>
            </p:nvGrpSpPr>
            <p:grpSpPr>
              <a:xfrm>
                <a:off x="1407600" y="4982040"/>
                <a:ext cx="6223680" cy="1574280"/>
                <a:chOff x="1407600" y="4982040"/>
                <a:chExt cx="6223680" cy="1574280"/>
              </a:xfrm>
            </p:grpSpPr>
            <p:pic>
              <p:nvPicPr>
                <p:cNvPr id="146" name="Picture 345" descr="shadow_1_m"/>
                <p:cNvPicPr/>
                <p:nvPr/>
              </p:nvPicPr>
              <p:blipFill>
                <a:blip r:embed="rId3"/>
                <a:srcRect l="0" t="1518" r="0" b="0"/>
                <a:stretch/>
              </p:blipFill>
              <p:spPr>
                <a:xfrm>
                  <a:off x="1407600" y="6196680"/>
                  <a:ext cx="6223680" cy="35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" name="Rectangle 85"/>
                <p:cNvSpPr/>
                <p:nvPr/>
              </p:nvSpPr>
              <p:spPr>
                <a:xfrm>
                  <a:off x="1963080" y="4982040"/>
                  <a:ext cx="5346000" cy="1439280"/>
                </a:xfrm>
                <a:prstGeom prst="rect">
                  <a:avLst/>
                </a:prstGeom>
                <a:solidFill>
                  <a:srgbClr val="5a63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" name="Rectangle 86"/>
                <p:cNvSpPr/>
                <p:nvPr/>
              </p:nvSpPr>
              <p:spPr>
                <a:xfrm>
                  <a:off x="2085840" y="5104800"/>
                  <a:ext cx="5117760" cy="118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e7e7e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9" name="Group 68"/>
              <p:cNvGrpSpPr/>
              <p:nvPr/>
            </p:nvGrpSpPr>
            <p:grpSpPr>
              <a:xfrm>
                <a:off x="1420560" y="4434480"/>
                <a:ext cx="2106360" cy="1894680"/>
                <a:chOff x="1420560" y="4434480"/>
                <a:chExt cx="2106360" cy="1894680"/>
              </a:xfrm>
            </p:grpSpPr>
            <p:sp>
              <p:nvSpPr>
                <p:cNvPr id="150" name="Right Triangle 73"/>
                <p:cNvSpPr/>
                <p:nvPr/>
              </p:nvSpPr>
              <p:spPr>
                <a:xfrm flipH="1">
                  <a:off x="1765440" y="615528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Right Triangle 78"/>
                <p:cNvSpPr/>
                <p:nvPr/>
              </p:nvSpPr>
              <p:spPr>
                <a:xfrm flipH="1">
                  <a:off x="3304800" y="4808160"/>
                  <a:ext cx="197280" cy="173880"/>
                </a:xfrm>
                <a:prstGeom prst="rtTriangle">
                  <a:avLst/>
                </a:prstGeom>
                <a:solidFill>
                  <a:srgbClr val="98a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Trapezoid 2"/>
                <p:cNvSpPr/>
                <p:nvPr/>
              </p:nvSpPr>
              <p:spPr>
                <a:xfrm rot="19191000">
                  <a:off x="1320840" y="5114520"/>
                  <a:ext cx="2305440" cy="533880"/>
                </a:xfrm>
                <a:custGeom>
                  <a:avLst/>
                  <a:gdLst/>
                  <a:ahLst/>
                  <a:rect l="l" t="t" r="r" b="b"/>
                  <a:pathLst>
                    <a:path w="2001385" h="463642">
                      <a:moveTo>
                        <a:pt x="0" y="463642"/>
                      </a:moveTo>
                      <a:lnTo>
                        <a:pt x="402156" y="0"/>
                      </a:lnTo>
                      <a:lnTo>
                        <a:pt x="1514076" y="7706"/>
                      </a:lnTo>
                      <a:lnTo>
                        <a:pt x="2001385" y="426441"/>
                      </a:lnTo>
                      <a:lnTo>
                        <a:pt x="0" y="46364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b8b8"/>
                    </a:gs>
                    <a:gs pos="100000">
                      <a:srgbClr val="f2f2f2"/>
                    </a:gs>
                  </a:gsLst>
                  <a:lin ang="6012000"/>
                </a:gradFill>
                <a:ln w="0">
                  <a:noFill/>
                </a:ln>
                <a:effectLst>
                  <a:outerShdw dist="38183" dir="270000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5-Point Star 87"/>
          <p:cNvSpPr/>
          <p:nvPr/>
        </p:nvSpPr>
        <p:spPr>
          <a:xfrm>
            <a:off x="624528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88" descr=""/>
          <p:cNvPicPr/>
          <p:nvPr/>
        </p:nvPicPr>
        <p:blipFill>
          <a:blip r:embed="rId4"/>
          <a:stretch/>
        </p:blipFill>
        <p:spPr>
          <a:xfrm>
            <a:off x="6257880" y="5486400"/>
            <a:ext cx="617760" cy="453960"/>
          </a:xfrm>
          <a:prstGeom prst="rect">
            <a:avLst/>
          </a:prstGeom>
          <a:ln w="0">
            <a:noFill/>
          </a:ln>
        </p:spPr>
      </p:pic>
      <p:pic>
        <p:nvPicPr>
          <p:cNvPr id="155" name="Group 91" descr=""/>
          <p:cNvPicPr/>
          <p:nvPr/>
        </p:nvPicPr>
        <p:blipFill>
          <a:blip r:embed="rId5"/>
          <a:stretch/>
        </p:blipFill>
        <p:spPr>
          <a:xfrm>
            <a:off x="6095880" y="1582560"/>
            <a:ext cx="8398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0"/>
          <p:cNvSpPr/>
          <p:nvPr/>
        </p:nvSpPr>
        <p:spPr>
          <a:xfrm>
            <a:off x="2851200" y="180972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1"/>
          <p:cNvSpPr/>
          <p:nvPr/>
        </p:nvSpPr>
        <p:spPr>
          <a:xfrm>
            <a:off x="2851200" y="3603600"/>
            <a:ext cx="3206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2"/>
          <p:cNvSpPr/>
          <p:nvPr/>
        </p:nvSpPr>
        <p:spPr>
          <a:xfrm>
            <a:off x="2851200" y="5435640"/>
            <a:ext cx="320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3"/>
          <p:cNvSpPr/>
          <p:nvPr/>
        </p:nvSpPr>
        <p:spPr>
          <a:xfrm rot="19125600">
            <a:off x="159084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04"/>
          <p:cNvSpPr/>
          <p:nvPr/>
        </p:nvSpPr>
        <p:spPr>
          <a:xfrm rot="19125600">
            <a:off x="159048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05"/>
          <p:cNvSpPr/>
          <p:nvPr/>
        </p:nvSpPr>
        <p:spPr>
          <a:xfrm rot="19125600">
            <a:off x="1590840" y="5186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3"/>
          <p:cNvGrpSpPr/>
          <p:nvPr/>
        </p:nvGrpSpPr>
        <p:grpSpPr>
          <a:xfrm>
            <a:off x="1322280" y="1295280"/>
            <a:ext cx="2822760" cy="1498680"/>
            <a:chOff x="1322280" y="1295280"/>
            <a:chExt cx="2822760" cy="1498680"/>
          </a:xfrm>
        </p:grpSpPr>
        <p:sp>
          <p:nvSpPr>
            <p:cNvPr id="163" name="Rectangle 3"/>
            <p:cNvSpPr/>
            <p:nvPr/>
          </p:nvSpPr>
          <p:spPr>
            <a:xfrm>
              <a:off x="132228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1322280" y="1295280"/>
              <a:ext cx="2822760" cy="380880"/>
            </a:xfrm>
            <a:prstGeom prst="rect">
              <a:avLst/>
            </a:prstGeom>
            <a:solidFill>
              <a:srgbClr val="e66c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12"/>
            <p:cNvSpPr/>
            <p:nvPr/>
          </p:nvSpPr>
          <p:spPr>
            <a:xfrm>
              <a:off x="132228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4892760" y="1295280"/>
            <a:ext cx="2833560" cy="1498680"/>
            <a:chOff x="4892760" y="1295280"/>
            <a:chExt cx="2833560" cy="1498680"/>
          </a:xfrm>
        </p:grpSpPr>
        <p:sp>
          <p:nvSpPr>
            <p:cNvPr id="167" name="Rectangle 33"/>
            <p:cNvSpPr/>
            <p:nvPr/>
          </p:nvSpPr>
          <p:spPr>
            <a:xfrm>
              <a:off x="4903560" y="12952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4903560" y="1295280"/>
              <a:ext cx="2822760" cy="3808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Straight Connector 76"/>
            <p:cNvSpPr/>
            <p:nvPr/>
          </p:nvSpPr>
          <p:spPr>
            <a:xfrm>
              <a:off x="4892760" y="1739880"/>
              <a:ext cx="2822760" cy="0"/>
            </a:xfrm>
            <a:prstGeom prst="line">
              <a:avLst/>
            </a:prstGeom>
            <a:ln w="12600">
              <a:solidFill>
                <a:srgbClr val="e66c7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5"/>
          <p:cNvGrpSpPr/>
          <p:nvPr/>
        </p:nvGrpSpPr>
        <p:grpSpPr>
          <a:xfrm>
            <a:off x="1322280" y="3124080"/>
            <a:ext cx="2822760" cy="1498680"/>
            <a:chOff x="1322280" y="3124080"/>
            <a:chExt cx="2822760" cy="1498680"/>
          </a:xfrm>
        </p:grpSpPr>
        <p:sp>
          <p:nvSpPr>
            <p:cNvPr id="171" name="Rectangle 35"/>
            <p:cNvSpPr/>
            <p:nvPr/>
          </p:nvSpPr>
          <p:spPr>
            <a:xfrm>
              <a:off x="132228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36"/>
            <p:cNvSpPr/>
            <p:nvPr/>
          </p:nvSpPr>
          <p:spPr>
            <a:xfrm>
              <a:off x="1322280" y="3124080"/>
              <a:ext cx="2822760" cy="380880"/>
            </a:xfrm>
            <a:prstGeom prst="rect">
              <a:avLst/>
            </a:prstGeom>
            <a:solidFill>
              <a:srgbClr val="5a6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Straight Connector 77"/>
            <p:cNvSpPr/>
            <p:nvPr/>
          </p:nvSpPr>
          <p:spPr>
            <a:xfrm>
              <a:off x="1322280" y="3568680"/>
              <a:ext cx="2822760" cy="0"/>
            </a:xfrm>
            <a:prstGeom prst="line">
              <a:avLst/>
            </a:prstGeom>
            <a:ln w="12600">
              <a:solidFill>
                <a:srgbClr val="5a637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4892760" y="3124080"/>
            <a:ext cx="2833560" cy="1498680"/>
            <a:chOff x="4892760" y="3124080"/>
            <a:chExt cx="2833560" cy="1498680"/>
          </a:xfrm>
        </p:grpSpPr>
        <p:sp>
          <p:nvSpPr>
            <p:cNvPr id="175" name="Rectangle 37"/>
            <p:cNvSpPr/>
            <p:nvPr/>
          </p:nvSpPr>
          <p:spPr>
            <a:xfrm>
              <a:off x="4903560" y="312408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9"/>
            <p:cNvSpPr/>
            <p:nvPr/>
          </p:nvSpPr>
          <p:spPr>
            <a:xfrm>
              <a:off x="4903560" y="3124080"/>
              <a:ext cx="2822760" cy="380880"/>
            </a:xfrm>
            <a:prstGeom prst="rect">
              <a:avLst/>
            </a:prstGeom>
            <a:solidFill>
              <a:srgbClr val="60b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79"/>
            <p:cNvSpPr/>
            <p:nvPr/>
          </p:nvSpPr>
          <p:spPr>
            <a:xfrm>
              <a:off x="4892760" y="3568680"/>
              <a:ext cx="2822760" cy="0"/>
            </a:xfrm>
            <a:prstGeom prst="line">
              <a:avLst/>
            </a:prstGeom>
            <a:ln w="12600">
              <a:solidFill>
                <a:srgbClr val="60b5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1322280" y="4924440"/>
            <a:ext cx="2822760" cy="1498680"/>
            <a:chOff x="1322280" y="4924440"/>
            <a:chExt cx="2822760" cy="1498680"/>
          </a:xfrm>
        </p:grpSpPr>
        <p:sp>
          <p:nvSpPr>
            <p:cNvPr id="179" name="Rectangle 40"/>
            <p:cNvSpPr/>
            <p:nvPr/>
          </p:nvSpPr>
          <p:spPr>
            <a:xfrm>
              <a:off x="132228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43"/>
            <p:cNvSpPr/>
            <p:nvPr/>
          </p:nvSpPr>
          <p:spPr>
            <a:xfrm>
              <a:off x="1322280" y="4924440"/>
              <a:ext cx="2822760" cy="380880"/>
            </a:xfrm>
            <a:prstGeom prst="rect">
              <a:avLst/>
            </a:prstGeom>
            <a:solidFill>
              <a:srgbClr val="6bb7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80"/>
            <p:cNvSpPr/>
            <p:nvPr/>
          </p:nvSpPr>
          <p:spPr>
            <a:xfrm>
              <a:off x="1322280" y="5385240"/>
              <a:ext cx="2822760" cy="0"/>
            </a:xfrm>
            <a:prstGeom prst="line">
              <a:avLst/>
            </a:prstGeom>
            <a:ln w="12600">
              <a:solidFill>
                <a:srgbClr val="6bb76d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4892760" y="4924440"/>
            <a:ext cx="2833560" cy="1498680"/>
            <a:chOff x="4892760" y="4924440"/>
            <a:chExt cx="2833560" cy="1498680"/>
          </a:xfrm>
        </p:grpSpPr>
        <p:sp>
          <p:nvSpPr>
            <p:cNvPr id="183" name="Rectangle 44"/>
            <p:cNvSpPr/>
            <p:nvPr/>
          </p:nvSpPr>
          <p:spPr>
            <a:xfrm>
              <a:off x="4903560" y="4924440"/>
              <a:ext cx="2822760" cy="149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45"/>
            <p:cNvSpPr/>
            <p:nvPr/>
          </p:nvSpPr>
          <p:spPr>
            <a:xfrm>
              <a:off x="4903560" y="4924440"/>
              <a:ext cx="2822760" cy="380880"/>
            </a:xfrm>
            <a:prstGeom prst="rect">
              <a:avLst/>
            </a:prstGeom>
            <a:solidFill>
              <a:srgbClr val="e88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82"/>
            <p:cNvSpPr/>
            <p:nvPr/>
          </p:nvSpPr>
          <p:spPr>
            <a:xfrm>
              <a:off x="4892760" y="5385240"/>
              <a:ext cx="2822760" cy="0"/>
            </a:xfrm>
            <a:prstGeom prst="line">
              <a:avLst/>
            </a:prstGeom>
            <a:ln w="12600">
              <a:solidFill>
                <a:srgbClr val="e8865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1547640" y="1962000"/>
            <a:ext cx="66060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66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47"/>
          <p:cNvSpPr/>
          <p:nvPr/>
        </p:nvSpPr>
        <p:spPr>
          <a:xfrm>
            <a:off x="5073480" y="1962000"/>
            <a:ext cx="662040" cy="50508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48"/>
          <p:cNvSpPr/>
          <p:nvPr/>
        </p:nvSpPr>
        <p:spPr>
          <a:xfrm>
            <a:off x="1547640" y="377676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5a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5073480" y="377676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0b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1547640" y="5518080"/>
            <a:ext cx="66060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6bb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57"/>
          <p:cNvSpPr/>
          <p:nvPr/>
        </p:nvSpPr>
        <p:spPr>
          <a:xfrm>
            <a:off x="5073480" y="5518080"/>
            <a:ext cx="662040" cy="504720"/>
          </a:xfrm>
          <a:custGeom>
            <a:avLst/>
            <a:gdLst/>
            <a:ahLst/>
            <a:rect l="l" t="t" r="r" b="b"/>
            <a:pathLst>
              <a:path w="445220" h="305258">
                <a:moveTo>
                  <a:pt x="179971" y="184370"/>
                </a:moveTo>
                <a:lnTo>
                  <a:pt x="84721" y="105789"/>
                </a:lnTo>
                <a:cubicBezTo>
                  <a:pt x="31540" y="79595"/>
                  <a:pt x="-24023" y="115314"/>
                  <a:pt x="10902" y="177226"/>
                </a:cubicBezTo>
                <a:lnTo>
                  <a:pt x="137108" y="289145"/>
                </a:lnTo>
                <a:cubicBezTo>
                  <a:pt x="170445" y="310576"/>
                  <a:pt x="199021" y="312957"/>
                  <a:pt x="229977" y="282001"/>
                </a:cubicBezTo>
                <a:cubicBezTo>
                  <a:pt x="277602" y="197863"/>
                  <a:pt x="322846" y="108963"/>
                  <a:pt x="408571" y="43876"/>
                </a:cubicBezTo>
                <a:cubicBezTo>
                  <a:pt x="453815" y="17683"/>
                  <a:pt x="468102" y="-15654"/>
                  <a:pt x="387139" y="8158"/>
                </a:cubicBezTo>
                <a:cubicBezTo>
                  <a:pt x="287127" y="35939"/>
                  <a:pt x="234739" y="125633"/>
                  <a:pt x="179971" y="184370"/>
                </a:cubicBezTo>
                <a:close/>
              </a:path>
            </a:pathLst>
          </a:custGeom>
          <a:solidFill>
            <a:srgbClr val="e88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262080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9"/>
          <p:cNvSpPr/>
          <p:nvPr/>
        </p:nvSpPr>
        <p:spPr>
          <a:xfrm>
            <a:off x="262080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60"/>
          <p:cNvSpPr/>
          <p:nvPr/>
        </p:nvSpPr>
        <p:spPr>
          <a:xfrm>
            <a:off x="262080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4"/>
          <p:cNvSpPr/>
          <p:nvPr/>
        </p:nvSpPr>
        <p:spPr>
          <a:xfrm>
            <a:off x="6126120" y="192492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65"/>
          <p:cNvSpPr/>
          <p:nvPr/>
        </p:nvSpPr>
        <p:spPr>
          <a:xfrm>
            <a:off x="6126120" y="373860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6"/>
          <p:cNvSpPr/>
          <p:nvPr/>
        </p:nvSpPr>
        <p:spPr>
          <a:xfrm>
            <a:off x="6126120" y="55191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404040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181764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181764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1"/>
          <p:cNvSpPr/>
          <p:nvPr/>
        </p:nvSpPr>
        <p:spPr>
          <a:xfrm>
            <a:off x="181764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2"/>
          <p:cNvSpPr/>
          <p:nvPr/>
        </p:nvSpPr>
        <p:spPr>
          <a:xfrm>
            <a:off x="5398920" y="13172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4"/>
          <p:cNvSpPr/>
          <p:nvPr/>
        </p:nvSpPr>
        <p:spPr>
          <a:xfrm>
            <a:off x="5398920" y="314604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75"/>
          <p:cNvSpPr/>
          <p:nvPr/>
        </p:nvSpPr>
        <p:spPr>
          <a:xfrm>
            <a:off x="5398920" y="4945320"/>
            <a:ext cx="183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0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1"/>
          <p:cNvSpPr/>
          <p:nvPr/>
        </p:nvSpPr>
        <p:spPr>
          <a:xfrm>
            <a:off x="1206360" y="1090440"/>
            <a:ext cx="2857680" cy="1424160"/>
          </a:xfrm>
          <a:custGeom>
            <a:avLst/>
            <a:gdLst/>
            <a:ahLst/>
            <a:rect l="l" t="t" r="r" b="b"/>
            <a:pathLst>
              <a:path w="2338397" h="1164664">
                <a:moveTo>
                  <a:pt x="399528" y="1157520"/>
                </a:moveTo>
                <a:lnTo>
                  <a:pt x="1910034" y="1164664"/>
                </a:lnTo>
                <a:cubicBezTo>
                  <a:pt x="2016661" y="1128946"/>
                  <a:pt x="2266163" y="1043220"/>
                  <a:pt x="2327547" y="705083"/>
                </a:cubicBezTo>
                <a:cubicBezTo>
                  <a:pt x="2336542" y="575703"/>
                  <a:pt x="2390783" y="351070"/>
                  <a:pt x="2133078" y="95483"/>
                </a:cubicBezTo>
                <a:cubicBezTo>
                  <a:pt x="2004226" y="-24109"/>
                  <a:pt x="1708686" y="-69882"/>
                  <a:pt x="1536972" y="191526"/>
                </a:cubicBezTo>
                <a:cubicBezTo>
                  <a:pt x="1252016" y="79078"/>
                  <a:pt x="983728" y="114267"/>
                  <a:pt x="796403" y="354245"/>
                </a:cubicBezTo>
                <a:cubicBezTo>
                  <a:pt x="439215" y="199728"/>
                  <a:pt x="53453" y="485743"/>
                  <a:pt x="110603" y="805095"/>
                </a:cubicBezTo>
                <a:cubicBezTo>
                  <a:pt x="-116939" y="979720"/>
                  <a:pt x="19851" y="1149582"/>
                  <a:pt x="399528" y="1157520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"/>
          <p:cNvSpPr/>
          <p:nvPr/>
        </p:nvSpPr>
        <p:spPr>
          <a:xfrm>
            <a:off x="3925800" y="2478240"/>
            <a:ext cx="3586320" cy="1614240"/>
          </a:xfrm>
          <a:custGeom>
            <a:avLst/>
            <a:gdLst/>
            <a:ahLst/>
            <a:rect l="l" t="t" r="r" b="b"/>
            <a:pathLst>
              <a:path w="3008161" h="1285704">
                <a:moveTo>
                  <a:pt x="420994" y="1285704"/>
                </a:moveTo>
                <a:lnTo>
                  <a:pt x="2497444" y="1285704"/>
                </a:lnTo>
                <a:cubicBezTo>
                  <a:pt x="2800127" y="1269829"/>
                  <a:pt x="2934536" y="1209504"/>
                  <a:pt x="2976869" y="1085679"/>
                </a:cubicBezTo>
                <a:cubicBezTo>
                  <a:pt x="3073177" y="872954"/>
                  <a:pt x="2928186" y="730079"/>
                  <a:pt x="2799069" y="676104"/>
                </a:cubicBezTo>
                <a:cubicBezTo>
                  <a:pt x="2787427" y="258062"/>
                  <a:pt x="2299536" y="49571"/>
                  <a:pt x="1964044" y="279229"/>
                </a:cubicBezTo>
                <a:cubicBezTo>
                  <a:pt x="1792594" y="-106004"/>
                  <a:pt x="1087744" y="-88013"/>
                  <a:pt x="897244" y="304629"/>
                </a:cubicBezTo>
                <a:cubicBezTo>
                  <a:pt x="468619" y="101429"/>
                  <a:pt x="1894" y="488779"/>
                  <a:pt x="297169" y="895179"/>
                </a:cubicBezTo>
                <a:cubicBezTo>
                  <a:pt x="-188606" y="965029"/>
                  <a:pt x="-29856" y="1266654"/>
                  <a:pt x="420994" y="1285704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5"/>
          <p:cNvSpPr/>
          <p:nvPr/>
        </p:nvSpPr>
        <p:spPr>
          <a:xfrm>
            <a:off x="320760" y="3627360"/>
            <a:ext cx="3406680" cy="1712880"/>
          </a:xfrm>
          <a:custGeom>
            <a:avLst/>
            <a:gdLst/>
            <a:ahLst/>
            <a:rect l="l" t="t" r="r" b="b"/>
            <a:pathLst>
              <a:path w="2679088" h="1359584">
                <a:moveTo>
                  <a:pt x="423812" y="1359584"/>
                </a:moveTo>
                <a:lnTo>
                  <a:pt x="2236737" y="1359584"/>
                </a:lnTo>
                <a:cubicBezTo>
                  <a:pt x="2656895" y="1356409"/>
                  <a:pt x="2851629" y="896034"/>
                  <a:pt x="2487562" y="664259"/>
                </a:cubicBezTo>
                <a:cubicBezTo>
                  <a:pt x="2492854" y="595467"/>
                  <a:pt x="2472745" y="428251"/>
                  <a:pt x="2255787" y="505509"/>
                </a:cubicBezTo>
                <a:cubicBezTo>
                  <a:pt x="2253670" y="392267"/>
                  <a:pt x="2242029" y="279026"/>
                  <a:pt x="2030362" y="280084"/>
                </a:cubicBezTo>
                <a:cubicBezTo>
                  <a:pt x="2004962" y="137209"/>
                  <a:pt x="1795412" y="-21541"/>
                  <a:pt x="1601737" y="156259"/>
                </a:cubicBezTo>
                <a:cubicBezTo>
                  <a:pt x="1470504" y="-88216"/>
                  <a:pt x="1209095" y="-15191"/>
                  <a:pt x="1112787" y="165784"/>
                </a:cubicBezTo>
                <a:cubicBezTo>
                  <a:pt x="1008012" y="122392"/>
                  <a:pt x="865137" y="98051"/>
                  <a:pt x="817512" y="280084"/>
                </a:cubicBezTo>
                <a:cubicBezTo>
                  <a:pt x="568804" y="70534"/>
                  <a:pt x="53395" y="245159"/>
                  <a:pt x="166637" y="572184"/>
                </a:cubicBezTo>
                <a:cubicBezTo>
                  <a:pt x="-110646" y="775384"/>
                  <a:pt x="-13280" y="1102409"/>
                  <a:pt x="249187" y="1267509"/>
                </a:cubicBezTo>
                <a:cubicBezTo>
                  <a:pt x="288345" y="1352176"/>
                  <a:pt x="346554" y="1357467"/>
                  <a:pt x="423812" y="1359584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6"/>
          <p:cNvSpPr/>
          <p:nvPr/>
        </p:nvSpPr>
        <p:spPr>
          <a:xfrm>
            <a:off x="5072040" y="4702320"/>
            <a:ext cx="3154320" cy="1622160"/>
          </a:xfrm>
          <a:custGeom>
            <a:avLst/>
            <a:gdLst/>
            <a:ahLst/>
            <a:rect l="l" t="t" r="r" b="b"/>
            <a:pathLst>
              <a:path w="2565854" h="1319019">
                <a:moveTo>
                  <a:pt x="323711" y="1319019"/>
                </a:moveTo>
                <a:lnTo>
                  <a:pt x="2228711" y="1319019"/>
                </a:lnTo>
                <a:cubicBezTo>
                  <a:pt x="2606536" y="1287269"/>
                  <a:pt x="2689086" y="814194"/>
                  <a:pt x="2362061" y="633219"/>
                </a:cubicBezTo>
                <a:cubicBezTo>
                  <a:pt x="2659453" y="331594"/>
                  <a:pt x="2283744" y="-176406"/>
                  <a:pt x="1857236" y="179194"/>
                </a:cubicBezTo>
                <a:cubicBezTo>
                  <a:pt x="1719653" y="50077"/>
                  <a:pt x="1540794" y="32086"/>
                  <a:pt x="1387336" y="220469"/>
                </a:cubicBezTo>
                <a:cubicBezTo>
                  <a:pt x="1247636" y="-148889"/>
                  <a:pt x="936486" y="8802"/>
                  <a:pt x="872986" y="236344"/>
                </a:cubicBezTo>
                <a:cubicBezTo>
                  <a:pt x="609461" y="94527"/>
                  <a:pt x="301486" y="241636"/>
                  <a:pt x="330061" y="477644"/>
                </a:cubicBezTo>
                <a:cubicBezTo>
                  <a:pt x="104636" y="466002"/>
                  <a:pt x="41136" y="613111"/>
                  <a:pt x="158611" y="709419"/>
                </a:cubicBezTo>
                <a:cubicBezTo>
                  <a:pt x="70769" y="788794"/>
                  <a:pt x="84528" y="880869"/>
                  <a:pt x="152261" y="947544"/>
                </a:cubicBezTo>
                <a:cubicBezTo>
                  <a:pt x="-127139" y="1033269"/>
                  <a:pt x="6211" y="1299969"/>
                  <a:pt x="323711" y="131901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11"/>
          <p:cNvGrpSpPr/>
          <p:nvPr/>
        </p:nvGrpSpPr>
        <p:grpSpPr>
          <a:xfrm>
            <a:off x="4064040" y="1866960"/>
            <a:ext cx="369720" cy="647640"/>
            <a:chOff x="4064040" y="1866960"/>
            <a:chExt cx="369720" cy="647640"/>
          </a:xfrm>
        </p:grpSpPr>
        <p:sp>
          <p:nvSpPr>
            <p:cNvPr id="211" name="Oval 10"/>
            <p:cNvSpPr/>
            <p:nvPr/>
          </p:nvSpPr>
          <p:spPr>
            <a:xfrm>
              <a:off x="4064040" y="233460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45"/>
            <p:cNvSpPr/>
            <p:nvPr/>
          </p:nvSpPr>
          <p:spPr>
            <a:xfrm>
              <a:off x="4244040" y="212868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46"/>
            <p:cNvSpPr/>
            <p:nvPr/>
          </p:nvSpPr>
          <p:spPr>
            <a:xfrm>
              <a:off x="4253760" y="1866960"/>
              <a:ext cx="180000" cy="180000"/>
            </a:xfrm>
            <a:prstGeom prst="ellipse">
              <a:avLst/>
            </a:prstGeom>
            <a:solidFill>
              <a:srgbClr val="f0ad00"/>
            </a:solidFill>
            <a:ln w="2844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Group 62" descr=""/>
          <p:cNvPicPr/>
          <p:nvPr/>
        </p:nvPicPr>
        <p:blipFill>
          <a:blip r:embed="rId1"/>
          <a:stretch/>
        </p:blipFill>
        <p:spPr>
          <a:xfrm>
            <a:off x="7551720" y="3357720"/>
            <a:ext cx="434880" cy="822240"/>
          </a:xfrm>
          <a:prstGeom prst="rect">
            <a:avLst/>
          </a:prstGeom>
          <a:ln w="0">
            <a:noFill/>
          </a:ln>
        </p:spPr>
      </p:pic>
      <p:pic>
        <p:nvPicPr>
          <p:cNvPr id="215" name="Group 73" descr=""/>
          <p:cNvPicPr/>
          <p:nvPr/>
        </p:nvPicPr>
        <p:blipFill>
          <a:blip r:embed="rId2"/>
          <a:stretch/>
        </p:blipFill>
        <p:spPr>
          <a:xfrm>
            <a:off x="8308800" y="5549760"/>
            <a:ext cx="435240" cy="822600"/>
          </a:xfrm>
          <a:prstGeom prst="rect">
            <a:avLst/>
          </a:prstGeom>
          <a:ln w="0">
            <a:noFill/>
          </a:ln>
        </p:spPr>
      </p:pic>
      <p:pic>
        <p:nvPicPr>
          <p:cNvPr id="216" name="Group 85" descr=""/>
          <p:cNvPicPr/>
          <p:nvPr/>
        </p:nvPicPr>
        <p:blipFill>
          <a:blip r:embed="rId3"/>
          <a:stretch/>
        </p:blipFill>
        <p:spPr>
          <a:xfrm>
            <a:off x="3741840" y="4627440"/>
            <a:ext cx="473040" cy="808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1"/>
          <p:cNvSpPr/>
          <p:nvPr/>
        </p:nvSpPr>
        <p:spPr>
          <a:xfrm>
            <a:off x="1809720" y="167904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4916520" y="311544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5842080" y="535716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1"/>
          <p:cNvSpPr/>
          <p:nvPr/>
        </p:nvSpPr>
        <p:spPr>
          <a:xfrm>
            <a:off x="1163520" y="4306320"/>
            <a:ext cx="172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hêm nội dung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676680" y="1320840"/>
            <a:ext cx="1590480" cy="25970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66c7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8"/>
          <p:cNvSpPr/>
          <p:nvPr/>
        </p:nvSpPr>
        <p:spPr>
          <a:xfrm flipH="1" flipV="1" rot="151800">
            <a:off x="3745440" y="3947040"/>
            <a:ext cx="159048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e88651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9"/>
          <p:cNvSpPr/>
          <p:nvPr/>
        </p:nvSpPr>
        <p:spPr>
          <a:xfrm flipH="1" flipV="1" rot="14441400">
            <a:off x="4827960" y="193932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0b5cc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30"/>
          <p:cNvSpPr/>
          <p:nvPr/>
        </p:nvSpPr>
        <p:spPr>
          <a:xfrm flipH="1" flipV="1" rot="18011400">
            <a:off x="4829040" y="3270600"/>
            <a:ext cx="1590840" cy="259920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6bb76d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31"/>
          <p:cNvSpPr/>
          <p:nvPr/>
        </p:nvSpPr>
        <p:spPr>
          <a:xfrm rot="17884800">
            <a:off x="2499480" y="200700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f0ad00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32"/>
          <p:cNvSpPr/>
          <p:nvPr/>
        </p:nvSpPr>
        <p:spPr>
          <a:xfrm rot="14421600">
            <a:off x="2626200" y="3327840"/>
            <a:ext cx="1590840" cy="2598840"/>
          </a:xfrm>
          <a:custGeom>
            <a:avLst/>
            <a:gdLst/>
            <a:ahLst/>
            <a:rect l="l" t="t" r="r" b="b"/>
            <a:pathLst>
              <a:path w="1590462" h="2598539">
                <a:moveTo>
                  <a:pt x="818095" y="2598539"/>
                </a:moveTo>
                <a:cubicBezTo>
                  <a:pt x="771793" y="2281039"/>
                  <a:pt x="789784" y="1984970"/>
                  <a:pt x="610132" y="1638895"/>
                </a:cubicBezTo>
                <a:cubicBezTo>
                  <a:pt x="484191" y="1469032"/>
                  <a:pt x="324911" y="1322983"/>
                  <a:pt x="132295" y="1150739"/>
                </a:cubicBezTo>
                <a:cubicBezTo>
                  <a:pt x="-34922" y="997281"/>
                  <a:pt x="-78313" y="672372"/>
                  <a:pt x="209288" y="290314"/>
                </a:cubicBezTo>
                <a:cubicBezTo>
                  <a:pt x="560390" y="-112382"/>
                  <a:pt x="1037699" y="-65022"/>
                  <a:pt x="1345938" y="241895"/>
                </a:cubicBezTo>
                <a:cubicBezTo>
                  <a:pt x="1606553" y="511506"/>
                  <a:pt x="1664761" y="864458"/>
                  <a:pt x="1491988" y="1315045"/>
                </a:cubicBezTo>
                <a:cubicBezTo>
                  <a:pt x="1293551" y="1783357"/>
                  <a:pt x="1073682" y="2189758"/>
                  <a:pt x="818095" y="2598539"/>
                </a:cubicBezTo>
                <a:close/>
              </a:path>
            </a:pathLst>
          </a:custGeom>
          <a:solidFill>
            <a:srgbClr val="5a6378"/>
          </a:solidFill>
          <a:ln w="7632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TG_Oval 58" descr=""/>
          <p:cNvPicPr/>
          <p:nvPr/>
        </p:nvPicPr>
        <p:blipFill>
          <a:blip r:embed="rId1"/>
          <a:stretch/>
        </p:blipFill>
        <p:spPr>
          <a:xfrm>
            <a:off x="4181400" y="3684600"/>
            <a:ext cx="668520" cy="7999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6"/>
          <p:cNvSpPr/>
          <p:nvPr/>
        </p:nvSpPr>
        <p:spPr>
          <a:xfrm>
            <a:off x="3890880" y="17938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3890880" y="54374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5316480" y="4497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5408640" y="272196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2374920" y="450864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371680" y="2742480"/>
            <a:ext cx="12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Arial"/>
                <a:ea typeface="Arial"/>
              </a:rPr>
              <a:t>Văn bản của bạ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ound Same Side Corner Rectangle 3"/>
          <p:cNvSpPr/>
          <p:nvPr/>
        </p:nvSpPr>
        <p:spPr>
          <a:xfrm rot="16200000">
            <a:off x="3444840" y="-45252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e66c7d"/>
              </a:gs>
              <a:gs pos="100000">
                <a:srgbClr val="d9253e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ound Same Side Corner Rectangle 6"/>
          <p:cNvSpPr/>
          <p:nvPr/>
        </p:nvSpPr>
        <p:spPr>
          <a:xfrm flipH="1" rot="5400000">
            <a:off x="6303240" y="140148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d9253e"/>
              </a:gs>
              <a:gs pos="100000">
                <a:srgbClr val="e66c7d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 Same Side Corner Rectangle 26"/>
          <p:cNvSpPr/>
          <p:nvPr/>
        </p:nvSpPr>
        <p:spPr>
          <a:xfrm rot="16200000">
            <a:off x="3444840" y="732960"/>
            <a:ext cx="988920" cy="4713480"/>
          </a:xfrm>
          <a:custGeom>
            <a:avLst/>
            <a:gdLst/>
            <a:ahLst/>
            <a:rect l="l" t="t" r="r" b="b"/>
            <a:pathLst>
              <a:path w="989012" h="4713287">
                <a:moveTo>
                  <a:pt x="230647" y="0"/>
                </a:moveTo>
                <a:lnTo>
                  <a:pt x="758364" y="0"/>
                </a:lnTo>
                <a:cubicBezTo>
                  <a:pt x="885747" y="0"/>
                  <a:pt x="989011" y="103264"/>
                  <a:pt x="989011" y="230647"/>
                </a:cubicBezTo>
                <a:lnTo>
                  <a:pt x="989012" y="4713287"/>
                </a:lnTo>
                <a:lnTo>
                  <a:pt x="989012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647"/>
                </a:lnTo>
                <a:cubicBezTo>
                  <a:pt x="0" y="103264"/>
                  <a:pt x="103264" y="0"/>
                  <a:pt x="230647" y="0"/>
                </a:cubicBezTo>
                <a:close/>
              </a:path>
            </a:pathLst>
          </a:custGeom>
          <a:gradFill rotWithShape="0">
            <a:gsLst>
              <a:gs pos="0">
                <a:srgbClr val="60b5cc"/>
              </a:gs>
              <a:gs pos="100000">
                <a:srgbClr val="3792a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ound Same Side Corner Rectangle 27"/>
          <p:cNvSpPr/>
          <p:nvPr/>
        </p:nvSpPr>
        <p:spPr>
          <a:xfrm flipH="1" rot="5400000">
            <a:off x="6303240" y="2587320"/>
            <a:ext cx="988920" cy="1004760"/>
          </a:xfrm>
          <a:custGeom>
            <a:avLst/>
            <a:gdLst/>
            <a:ahLst/>
            <a:rect l="l" t="t" r="r" b="b"/>
            <a:pathLst>
              <a:path w="989012" h="1004887">
                <a:moveTo>
                  <a:pt x="342979" y="0"/>
                </a:moveTo>
                <a:lnTo>
                  <a:pt x="646032" y="0"/>
                </a:lnTo>
                <a:cubicBezTo>
                  <a:pt x="835454" y="0"/>
                  <a:pt x="989011" y="153557"/>
                  <a:pt x="989011" y="342979"/>
                </a:cubicBezTo>
                <a:lnTo>
                  <a:pt x="989012" y="1004887"/>
                </a:lnTo>
                <a:lnTo>
                  <a:pt x="989012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979"/>
                </a:lnTo>
                <a:cubicBezTo>
                  <a:pt x="0" y="153557"/>
                  <a:pt x="153557" y="0"/>
                  <a:pt x="342979" y="0"/>
                </a:cubicBezTo>
                <a:close/>
              </a:path>
            </a:pathLst>
          </a:custGeom>
          <a:gradFill rotWithShape="0">
            <a:gsLst>
              <a:gs pos="0">
                <a:srgbClr val="3792aa"/>
              </a:gs>
              <a:gs pos="100000">
                <a:srgbClr val="60b5cc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und Same Side Corner Rectangle 28"/>
          <p:cNvSpPr/>
          <p:nvPr/>
        </p:nvSpPr>
        <p:spPr>
          <a:xfrm rot="16200000">
            <a:off x="3445560" y="195444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5a6378"/>
              </a:gs>
              <a:gs pos="100000">
                <a:srgbClr val="444a5a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ound Same Side Corner Rectangle 29"/>
          <p:cNvSpPr/>
          <p:nvPr/>
        </p:nvSpPr>
        <p:spPr>
          <a:xfrm flipH="1" rot="5400000">
            <a:off x="6303960" y="380880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444a5a"/>
              </a:gs>
              <a:gs pos="100000">
                <a:srgbClr val="5a6378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und Same Side Corner Rectangle 30"/>
          <p:cNvSpPr/>
          <p:nvPr/>
        </p:nvSpPr>
        <p:spPr>
          <a:xfrm rot="16200000">
            <a:off x="3445560" y="3140280"/>
            <a:ext cx="987480" cy="4713480"/>
          </a:xfrm>
          <a:custGeom>
            <a:avLst/>
            <a:gdLst/>
            <a:ahLst/>
            <a:rect l="l" t="t" r="r" b="b"/>
            <a:pathLst>
              <a:path w="987425" h="4713287">
                <a:moveTo>
                  <a:pt x="230277" y="0"/>
                </a:moveTo>
                <a:lnTo>
                  <a:pt x="757147" y="0"/>
                </a:lnTo>
                <a:cubicBezTo>
                  <a:pt x="884325" y="0"/>
                  <a:pt x="987424" y="103099"/>
                  <a:pt x="987424" y="230277"/>
                </a:cubicBezTo>
                <a:lnTo>
                  <a:pt x="987425" y="4713287"/>
                </a:lnTo>
                <a:lnTo>
                  <a:pt x="987425" y="4713287"/>
                </a:lnTo>
                <a:lnTo>
                  <a:pt x="0" y="4713287"/>
                </a:lnTo>
                <a:lnTo>
                  <a:pt x="0" y="4713287"/>
                </a:lnTo>
                <a:lnTo>
                  <a:pt x="0" y="230277"/>
                </a:lnTo>
                <a:cubicBezTo>
                  <a:pt x="0" y="103099"/>
                  <a:pt x="103099" y="0"/>
                  <a:pt x="230277" y="0"/>
                </a:cubicBezTo>
                <a:close/>
              </a:path>
            </a:pathLst>
          </a:custGeom>
          <a:gradFill rotWithShape="0">
            <a:gsLst>
              <a:gs pos="0">
                <a:srgbClr val="f0ad00"/>
              </a:gs>
              <a:gs pos="100000">
                <a:srgbClr val="b48200"/>
              </a:gs>
            </a:gsLst>
            <a:lin ang="10800000"/>
          </a:gradFill>
          <a:ln w="0">
            <a:noFill/>
          </a:ln>
          <a:effectLst>
            <a:outerShdw dist="38183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 Same Side Corner Rectangle 31"/>
          <p:cNvSpPr/>
          <p:nvPr/>
        </p:nvSpPr>
        <p:spPr>
          <a:xfrm flipH="1" rot="5400000">
            <a:off x="6303960" y="4994640"/>
            <a:ext cx="987480" cy="1004760"/>
          </a:xfrm>
          <a:custGeom>
            <a:avLst/>
            <a:gdLst/>
            <a:ahLst/>
            <a:rect l="l" t="t" r="r" b="b"/>
            <a:pathLst>
              <a:path w="987425" h="1004887">
                <a:moveTo>
                  <a:pt x="342429" y="0"/>
                </a:moveTo>
                <a:lnTo>
                  <a:pt x="644995" y="0"/>
                </a:lnTo>
                <a:cubicBezTo>
                  <a:pt x="834113" y="0"/>
                  <a:pt x="987424" y="153311"/>
                  <a:pt x="987424" y="342429"/>
                </a:cubicBezTo>
                <a:lnTo>
                  <a:pt x="987425" y="1004887"/>
                </a:lnTo>
                <a:lnTo>
                  <a:pt x="987425" y="1004887"/>
                </a:lnTo>
                <a:lnTo>
                  <a:pt x="0" y="1004887"/>
                </a:lnTo>
                <a:lnTo>
                  <a:pt x="0" y="1004887"/>
                </a:lnTo>
                <a:lnTo>
                  <a:pt x="0" y="342429"/>
                </a:lnTo>
                <a:cubicBezTo>
                  <a:pt x="0" y="153311"/>
                  <a:pt x="153311" y="0"/>
                  <a:pt x="342429" y="0"/>
                </a:cubicBezTo>
                <a:close/>
              </a:path>
            </a:pathLst>
          </a:custGeom>
          <a:gradFill rotWithShape="0">
            <a:gsLst>
              <a:gs pos="0">
                <a:srgbClr val="b48200"/>
              </a:gs>
              <a:gs pos="100000">
                <a:srgbClr val="f0ad00"/>
              </a:gs>
            </a:gsLst>
            <a:lin ang="0"/>
          </a:gra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45" descr="shadow_1_m"/>
          <p:cNvPicPr/>
          <p:nvPr/>
        </p:nvPicPr>
        <p:blipFill>
          <a:blip r:embed="rId1"/>
          <a:srcRect l="0" t="0" r="61593" b="0"/>
          <a:stretch/>
        </p:blipFill>
        <p:spPr>
          <a:xfrm>
            <a:off x="6165720" y="185760"/>
            <a:ext cx="131760" cy="7134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8"/>
          <p:cNvSpPr/>
          <p:nvPr/>
        </p:nvSpPr>
        <p:spPr>
          <a:xfrm>
            <a:off x="6515640" y="15516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6515640" y="27374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34"/>
          <p:cNvSpPr/>
          <p:nvPr/>
        </p:nvSpPr>
        <p:spPr>
          <a:xfrm>
            <a:off x="6515640" y="3959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35"/>
          <p:cNvSpPr/>
          <p:nvPr/>
        </p:nvSpPr>
        <p:spPr>
          <a:xfrm>
            <a:off x="6515640" y="51458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2055960" y="173520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7"/>
          <p:cNvSpPr/>
          <p:nvPr/>
        </p:nvSpPr>
        <p:spPr>
          <a:xfrm>
            <a:off x="2055960" y="29210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2055960" y="414324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9"/>
          <p:cNvSpPr/>
          <p:nvPr/>
        </p:nvSpPr>
        <p:spPr>
          <a:xfrm>
            <a:off x="2055960" y="5329080"/>
            <a:ext cx="37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5840" y="1335240"/>
            <a:ext cx="5094360" cy="16351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6b101c"/>
              </a:gs>
              <a:gs pos="100000">
                <a:srgbClr val="d6203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Group 6"/>
          <p:cNvGrpSpPr/>
          <p:nvPr/>
        </p:nvGrpSpPr>
        <p:grpSpPr>
          <a:xfrm>
            <a:off x="4471920" y="1047600"/>
            <a:ext cx="662040" cy="1814760"/>
            <a:chOff x="4471920" y="1047600"/>
            <a:chExt cx="662040" cy="1814760"/>
          </a:xfrm>
        </p:grpSpPr>
        <p:sp>
          <p:nvSpPr>
            <p:cNvPr id="256" name="Freeform 4"/>
            <p:cNvSpPr/>
            <p:nvPr/>
          </p:nvSpPr>
          <p:spPr>
            <a:xfrm>
              <a:off x="4471920" y="1156680"/>
              <a:ext cx="662040" cy="170568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5"/>
            <p:cNvSpPr/>
            <p:nvPr/>
          </p:nvSpPr>
          <p:spPr>
            <a:xfrm>
              <a:off x="4643280" y="1047600"/>
              <a:ext cx="39996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6b101c"/>
                </a:gs>
                <a:gs pos="50000">
                  <a:srgbClr val="d62037"/>
                </a:gs>
                <a:gs pos="100000">
                  <a:srgbClr val="6b10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Freeform 78"/>
          <p:cNvSpPr/>
          <p:nvPr/>
        </p:nvSpPr>
        <p:spPr>
          <a:xfrm>
            <a:off x="-15840" y="3070080"/>
            <a:ext cx="6172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986c00"/>
              </a:gs>
              <a:gs pos="100000">
                <a:srgbClr val="ffc3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79"/>
          <p:cNvGrpSpPr/>
          <p:nvPr/>
        </p:nvGrpSpPr>
        <p:grpSpPr>
          <a:xfrm>
            <a:off x="5648400" y="2766960"/>
            <a:ext cx="555480" cy="1816200"/>
            <a:chOff x="5648400" y="2766960"/>
            <a:chExt cx="555480" cy="1816200"/>
          </a:xfrm>
        </p:grpSpPr>
        <p:sp>
          <p:nvSpPr>
            <p:cNvPr id="260" name="Freeform 80"/>
            <p:cNvSpPr/>
            <p:nvPr/>
          </p:nvSpPr>
          <p:spPr>
            <a:xfrm>
              <a:off x="5648400" y="2876040"/>
              <a:ext cx="555480" cy="17071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1"/>
            <p:cNvSpPr/>
            <p:nvPr/>
          </p:nvSpPr>
          <p:spPr>
            <a:xfrm>
              <a:off x="5792040" y="2766960"/>
              <a:ext cx="335880" cy="16740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86c00"/>
                </a:gs>
                <a:gs pos="50000">
                  <a:srgbClr val="ffc331"/>
                </a:gs>
                <a:gs pos="100000">
                  <a:srgbClr val="986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Freeform 82"/>
          <p:cNvSpPr/>
          <p:nvPr/>
        </p:nvSpPr>
        <p:spPr>
          <a:xfrm>
            <a:off x="-15840" y="4813200"/>
            <a:ext cx="7207200" cy="1636920"/>
          </a:xfrm>
          <a:custGeom>
            <a:avLst/>
            <a:gdLst/>
            <a:ahLst/>
            <a:rect l="l" t="t" r="r" b="b"/>
            <a:pathLst>
              <a:path w="5094014" h="1636395">
                <a:moveTo>
                  <a:pt x="0" y="20955"/>
                </a:moveTo>
                <a:lnTo>
                  <a:pt x="0" y="1636395"/>
                </a:lnTo>
                <a:lnTo>
                  <a:pt x="4663440" y="1636395"/>
                </a:lnTo>
                <a:cubicBezTo>
                  <a:pt x="4905375" y="1634490"/>
                  <a:pt x="5047298" y="1575435"/>
                  <a:pt x="5093970" y="1525905"/>
                </a:cubicBezTo>
                <a:cubicBezTo>
                  <a:pt x="5095557" y="1015682"/>
                  <a:pt x="5054283" y="510223"/>
                  <a:pt x="5055870" y="0"/>
                </a:cubicBezTo>
                <a:lnTo>
                  <a:pt x="0" y="20955"/>
                </a:lnTo>
                <a:close/>
              </a:path>
            </a:pathLst>
          </a:custGeom>
          <a:gradFill rotWithShape="0">
            <a:gsLst>
              <a:gs pos="0">
                <a:srgbClr val="844102"/>
              </a:gs>
              <a:gs pos="100000">
                <a:srgbClr val="fb8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83"/>
          <p:cNvGrpSpPr/>
          <p:nvPr/>
        </p:nvGrpSpPr>
        <p:grpSpPr>
          <a:xfrm>
            <a:off x="6832440" y="4525920"/>
            <a:ext cx="397080" cy="1814400"/>
            <a:chOff x="6832440" y="4525920"/>
            <a:chExt cx="397080" cy="1814400"/>
          </a:xfrm>
        </p:grpSpPr>
        <p:sp>
          <p:nvSpPr>
            <p:cNvPr id="264" name="Freeform 84"/>
            <p:cNvSpPr/>
            <p:nvPr/>
          </p:nvSpPr>
          <p:spPr>
            <a:xfrm>
              <a:off x="6832440" y="4635000"/>
              <a:ext cx="397080" cy="1705320"/>
            </a:xfrm>
            <a:custGeom>
              <a:avLst/>
              <a:gdLst/>
              <a:ahLst/>
              <a:rect l="l" t="t" r="r" b="b"/>
              <a:pathLst>
                <a:path w="661988" h="1706055">
                  <a:moveTo>
                    <a:pt x="604838" y="1706055"/>
                  </a:moveTo>
                  <a:cubicBezTo>
                    <a:pt x="446088" y="1699705"/>
                    <a:pt x="196850" y="1693355"/>
                    <a:pt x="42863" y="1515555"/>
                  </a:cubicBezTo>
                  <a:lnTo>
                    <a:pt x="0" y="167767"/>
                  </a:lnTo>
                  <a:cubicBezTo>
                    <a:pt x="104776" y="12193"/>
                    <a:pt x="442912" y="-5270"/>
                    <a:pt x="614363" y="1080"/>
                  </a:cubicBezTo>
                  <a:cubicBezTo>
                    <a:pt x="687388" y="4255"/>
                    <a:pt x="646113" y="64580"/>
                    <a:pt x="661988" y="96330"/>
                  </a:cubicBezTo>
                  <a:lnTo>
                    <a:pt x="604838" y="1706055"/>
                  </a:ln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85"/>
            <p:cNvSpPr/>
            <p:nvPr/>
          </p:nvSpPr>
          <p:spPr>
            <a:xfrm>
              <a:off x="6935040" y="4525920"/>
              <a:ext cx="240120" cy="167040"/>
            </a:xfrm>
            <a:custGeom>
              <a:avLst/>
              <a:gdLst/>
              <a:ahLst/>
              <a:rect l="l" t="t" r="r" b="b"/>
              <a:pathLst>
                <a:path w="400050" h="167360">
                  <a:moveTo>
                    <a:pt x="0" y="167360"/>
                  </a:moveTo>
                  <a:lnTo>
                    <a:pt x="9525" y="122116"/>
                  </a:lnTo>
                  <a:cubicBezTo>
                    <a:pt x="98425" y="7022"/>
                    <a:pt x="277812" y="-3297"/>
                    <a:pt x="333375" y="672"/>
                  </a:cubicBezTo>
                  <a:cubicBezTo>
                    <a:pt x="365125" y="2260"/>
                    <a:pt x="394493" y="15753"/>
                    <a:pt x="400050" y="34010"/>
                  </a:cubicBezTo>
                  <a:lnTo>
                    <a:pt x="385763" y="110210"/>
                  </a:lnTo>
                  <a:cubicBezTo>
                    <a:pt x="288131" y="110210"/>
                    <a:pt x="130969" y="119735"/>
                    <a:pt x="0" y="167360"/>
                  </a:cubicBezTo>
                  <a:close/>
                </a:path>
              </a:pathLst>
            </a:custGeom>
            <a:gradFill rotWithShape="0">
              <a:gsLst>
                <a:gs pos="0">
                  <a:srgbClr val="844102"/>
                </a:gs>
                <a:gs pos="50000">
                  <a:srgbClr val="fb8212"/>
                </a:gs>
                <a:gs pos="100000">
                  <a:srgbClr val="84410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TextBox 86"/>
          <p:cNvSpPr/>
          <p:nvPr/>
        </p:nvSpPr>
        <p:spPr>
          <a:xfrm>
            <a:off x="204480" y="169416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7"/>
          <p:cNvSpPr/>
          <p:nvPr/>
        </p:nvSpPr>
        <p:spPr>
          <a:xfrm>
            <a:off x="204480" y="34300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88"/>
          <p:cNvSpPr/>
          <p:nvPr/>
        </p:nvSpPr>
        <p:spPr>
          <a:xfrm>
            <a:off x="204480" y="51732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  <a:ea typeface="Calibri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89"/>
          <p:cNvSpPr/>
          <p:nvPr/>
        </p:nvSpPr>
        <p:spPr>
          <a:xfrm>
            <a:off x="1341360" y="1893960"/>
            <a:ext cx="2621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90"/>
          <p:cNvSpPr/>
          <p:nvPr/>
        </p:nvSpPr>
        <p:spPr>
          <a:xfrm>
            <a:off x="1341360" y="3629160"/>
            <a:ext cx="408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91"/>
          <p:cNvSpPr/>
          <p:nvPr/>
        </p:nvSpPr>
        <p:spPr>
          <a:xfrm>
            <a:off x="1341360" y="5052960"/>
            <a:ext cx="408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d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17"/>
          <p:cNvGrpSpPr/>
          <p:nvPr/>
        </p:nvGrpSpPr>
        <p:grpSpPr>
          <a:xfrm>
            <a:off x="1451880" y="816840"/>
            <a:ext cx="6223680" cy="2151720"/>
            <a:chOff x="1451880" y="816840"/>
            <a:chExt cx="6223680" cy="2151720"/>
          </a:xfrm>
        </p:grpSpPr>
        <p:grpSp>
          <p:nvGrpSpPr>
            <p:cNvPr id="274" name="Group 18"/>
            <p:cNvGrpSpPr/>
            <p:nvPr/>
          </p:nvGrpSpPr>
          <p:grpSpPr>
            <a:xfrm>
              <a:off x="1451880" y="1364400"/>
              <a:ext cx="6223680" cy="1604160"/>
              <a:chOff x="1451880" y="1364400"/>
              <a:chExt cx="6223680" cy="1604160"/>
            </a:xfrm>
          </p:grpSpPr>
          <p:pic>
            <p:nvPicPr>
              <p:cNvPr id="275" name="Picture 345" descr="shadow_1_m"/>
              <p:cNvPicPr/>
              <p:nvPr/>
            </p:nvPicPr>
            <p:blipFill>
              <a:blip r:embed="rId1"/>
              <a:srcRect l="0" t="1518" r="0" b="0"/>
              <a:stretch/>
            </p:blipFill>
            <p:spPr>
              <a:xfrm>
                <a:off x="1451880" y="2608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Rectangle 24"/>
              <p:cNvSpPr/>
              <p:nvPr/>
            </p:nvSpPr>
            <p:spPr>
              <a:xfrm>
                <a:off x="2007360" y="1364400"/>
                <a:ext cx="5346000" cy="1439640"/>
              </a:xfrm>
              <a:prstGeom prst="rect">
                <a:avLst/>
              </a:prstGeom>
              <a:solidFill>
                <a:srgbClr val="d62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7" name="Group 19"/>
            <p:cNvGrpSpPr/>
            <p:nvPr/>
          </p:nvGrpSpPr>
          <p:grpSpPr>
            <a:xfrm>
              <a:off x="1464840" y="816840"/>
              <a:ext cx="2106360" cy="1895040"/>
              <a:chOff x="1464840" y="816840"/>
              <a:chExt cx="2106360" cy="1895040"/>
            </a:xfrm>
          </p:grpSpPr>
          <p:sp>
            <p:nvSpPr>
              <p:cNvPr id="278" name="Right Triangle 20"/>
              <p:cNvSpPr/>
              <p:nvPr/>
            </p:nvSpPr>
            <p:spPr>
              <a:xfrm flipH="1">
                <a:off x="1809720" y="2538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Right Triangle 21"/>
              <p:cNvSpPr/>
              <p:nvPr/>
            </p:nvSpPr>
            <p:spPr>
              <a:xfrm flipH="1">
                <a:off x="3349080" y="1190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rapezoid 2"/>
              <p:cNvSpPr/>
              <p:nvPr/>
            </p:nvSpPr>
            <p:spPr>
              <a:xfrm rot="19191000">
                <a:off x="1365120" y="1496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Group 26"/>
          <p:cNvGrpSpPr/>
          <p:nvPr/>
        </p:nvGrpSpPr>
        <p:grpSpPr>
          <a:xfrm>
            <a:off x="1451880" y="2630160"/>
            <a:ext cx="6223680" cy="2152800"/>
            <a:chOff x="1451880" y="2630160"/>
            <a:chExt cx="6223680" cy="2152800"/>
          </a:xfrm>
        </p:grpSpPr>
        <p:grpSp>
          <p:nvGrpSpPr>
            <p:cNvPr id="282" name="Group 27"/>
            <p:cNvGrpSpPr/>
            <p:nvPr/>
          </p:nvGrpSpPr>
          <p:grpSpPr>
            <a:xfrm>
              <a:off x="1451880" y="3177360"/>
              <a:ext cx="6223680" cy="1605600"/>
              <a:chOff x="1451880" y="3177360"/>
              <a:chExt cx="6223680" cy="1605600"/>
            </a:xfrm>
          </p:grpSpPr>
          <p:pic>
            <p:nvPicPr>
              <p:cNvPr id="283" name="Picture 345" descr="shadow_1_m"/>
              <p:cNvPicPr/>
              <p:nvPr/>
            </p:nvPicPr>
            <p:blipFill>
              <a:blip r:embed="rId2"/>
              <a:srcRect l="0" t="1518" r="0" b="0"/>
              <a:stretch/>
            </p:blipFill>
            <p:spPr>
              <a:xfrm>
                <a:off x="1451880" y="4422960"/>
                <a:ext cx="622368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Rectangle 33"/>
              <p:cNvSpPr/>
              <p:nvPr/>
            </p:nvSpPr>
            <p:spPr>
              <a:xfrm>
                <a:off x="2007360" y="3177360"/>
                <a:ext cx="5346000" cy="1440720"/>
              </a:xfrm>
              <a:prstGeom prst="rect">
                <a:avLst/>
              </a:prstGeom>
              <a:solidFill>
                <a:srgbClr val="ffc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5" name="Group 28"/>
            <p:cNvGrpSpPr/>
            <p:nvPr/>
          </p:nvGrpSpPr>
          <p:grpSpPr>
            <a:xfrm>
              <a:off x="1464480" y="2630160"/>
              <a:ext cx="2106720" cy="1895760"/>
              <a:chOff x="1464480" y="2630160"/>
              <a:chExt cx="2106720" cy="1895760"/>
            </a:xfrm>
          </p:grpSpPr>
          <p:sp>
            <p:nvSpPr>
              <p:cNvPr id="286" name="Right Triangle 29"/>
              <p:cNvSpPr/>
              <p:nvPr/>
            </p:nvSpPr>
            <p:spPr>
              <a:xfrm flipH="1">
                <a:off x="1809720" y="435204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ight Triangle 30"/>
              <p:cNvSpPr/>
              <p:nvPr/>
            </p:nvSpPr>
            <p:spPr>
              <a:xfrm flipH="1">
                <a:off x="3349080" y="300348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Trapezoid 2"/>
              <p:cNvSpPr/>
              <p:nvPr/>
            </p:nvSpPr>
            <p:spPr>
              <a:xfrm rot="19191000">
                <a:off x="1365120" y="3310200"/>
                <a:ext cx="2305440" cy="53460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9" name="Group 35"/>
          <p:cNvGrpSpPr/>
          <p:nvPr/>
        </p:nvGrpSpPr>
        <p:grpSpPr>
          <a:xfrm>
            <a:off x="1451880" y="4434840"/>
            <a:ext cx="6223680" cy="2151720"/>
            <a:chOff x="1451880" y="4434840"/>
            <a:chExt cx="6223680" cy="2151720"/>
          </a:xfrm>
        </p:grpSpPr>
        <p:grpSp>
          <p:nvGrpSpPr>
            <p:cNvPr id="290" name="Group 36"/>
            <p:cNvGrpSpPr/>
            <p:nvPr/>
          </p:nvGrpSpPr>
          <p:grpSpPr>
            <a:xfrm>
              <a:off x="1451880" y="4982400"/>
              <a:ext cx="6223680" cy="1604160"/>
              <a:chOff x="1451880" y="4982400"/>
              <a:chExt cx="6223680" cy="1604160"/>
            </a:xfrm>
          </p:grpSpPr>
          <p:pic>
            <p:nvPicPr>
              <p:cNvPr id="291" name="Picture 345" descr="shadow_1_m"/>
              <p:cNvPicPr/>
              <p:nvPr/>
            </p:nvPicPr>
            <p:blipFill>
              <a:blip r:embed="rId3"/>
              <a:srcRect l="0" t="1518" r="0" b="0"/>
              <a:stretch/>
            </p:blipFill>
            <p:spPr>
              <a:xfrm>
                <a:off x="1451880" y="6226920"/>
                <a:ext cx="622368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42"/>
              <p:cNvSpPr/>
              <p:nvPr/>
            </p:nvSpPr>
            <p:spPr>
              <a:xfrm>
                <a:off x="2007360" y="4982400"/>
                <a:ext cx="5346000" cy="1439640"/>
              </a:xfrm>
              <a:prstGeom prst="rect">
                <a:avLst/>
              </a:prstGeom>
              <a:solidFill>
                <a:srgbClr val="fb8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3" name="Group 37"/>
            <p:cNvGrpSpPr/>
            <p:nvPr/>
          </p:nvGrpSpPr>
          <p:grpSpPr>
            <a:xfrm>
              <a:off x="1464840" y="4434840"/>
              <a:ext cx="2106360" cy="1895040"/>
              <a:chOff x="1464840" y="4434840"/>
              <a:chExt cx="2106360" cy="1895040"/>
            </a:xfrm>
          </p:grpSpPr>
          <p:sp>
            <p:nvSpPr>
              <p:cNvPr id="294" name="Right Triangle 38"/>
              <p:cNvSpPr/>
              <p:nvPr/>
            </p:nvSpPr>
            <p:spPr>
              <a:xfrm flipH="1">
                <a:off x="1809720" y="615600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Right Triangle 39"/>
              <p:cNvSpPr/>
              <p:nvPr/>
            </p:nvSpPr>
            <p:spPr>
              <a:xfrm flipH="1">
                <a:off x="3349080" y="4808520"/>
                <a:ext cx="197280" cy="173880"/>
              </a:xfrm>
              <a:prstGeom prst="rtTriangle">
                <a:avLst/>
              </a:prstGeom>
              <a:solidFill>
                <a:srgbClr val="9997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rapezoid 2"/>
              <p:cNvSpPr/>
              <p:nvPr/>
            </p:nvSpPr>
            <p:spPr>
              <a:xfrm rot="19191000">
                <a:off x="1365120" y="5114880"/>
                <a:ext cx="2305440" cy="533880"/>
              </a:xfrm>
              <a:custGeom>
                <a:avLst/>
                <a:gdLst/>
                <a:ahLst/>
                <a:rect l="l" t="t" r="r" b="b"/>
                <a:pathLst>
                  <a:path w="2001385" h="463642">
                    <a:moveTo>
                      <a:pt x="0" y="463642"/>
                    </a:moveTo>
                    <a:lnTo>
                      <a:pt x="402156" y="0"/>
                    </a:lnTo>
                    <a:lnTo>
                      <a:pt x="1514076" y="7706"/>
                    </a:lnTo>
                    <a:lnTo>
                      <a:pt x="2001385" y="426441"/>
                    </a:lnTo>
                    <a:lnTo>
                      <a:pt x="0" y="4636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b8b8"/>
                  </a:gs>
                  <a:gs pos="100000">
                    <a:srgbClr val="f2f2f2"/>
                  </a:gs>
                </a:gsLst>
                <a:lin ang="6012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5-Point Star 44"/>
          <p:cNvSpPr/>
          <p:nvPr/>
        </p:nvSpPr>
        <p:spPr>
          <a:xfrm>
            <a:off x="6289560" y="3578400"/>
            <a:ext cx="561960" cy="568080"/>
          </a:xfrm>
          <a:custGeom>
            <a:avLst/>
            <a:gdLst/>
            <a:ahLst/>
            <a:rect l="l" t="t" r="r" b="b"/>
            <a:pathLst>
              <a:path w="561975" h="568325">
                <a:moveTo>
                  <a:pt x="0" y="217080"/>
                </a:moveTo>
                <a:lnTo>
                  <a:pt x="190490" y="181712"/>
                </a:lnTo>
                <a:lnTo>
                  <a:pt x="280987" y="0"/>
                </a:lnTo>
                <a:lnTo>
                  <a:pt x="371484" y="181712"/>
                </a:lnTo>
                <a:lnTo>
                  <a:pt x="561974" y="217080"/>
                </a:lnTo>
                <a:lnTo>
                  <a:pt x="427415" y="364752"/>
                </a:lnTo>
                <a:lnTo>
                  <a:pt x="454646" y="568323"/>
                </a:lnTo>
                <a:lnTo>
                  <a:pt x="280987" y="477877"/>
                </a:lnTo>
                <a:lnTo>
                  <a:pt x="107328" y="568323"/>
                </a:lnTo>
                <a:lnTo>
                  <a:pt x="134559" y="3647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Group 45" descr=""/>
          <p:cNvPicPr/>
          <p:nvPr/>
        </p:nvPicPr>
        <p:blipFill>
          <a:blip r:embed="rId4"/>
          <a:stretch/>
        </p:blipFill>
        <p:spPr>
          <a:xfrm>
            <a:off x="6302520" y="5486400"/>
            <a:ext cx="617400" cy="453960"/>
          </a:xfrm>
          <a:prstGeom prst="rect">
            <a:avLst/>
          </a:prstGeom>
          <a:ln w="0">
            <a:noFill/>
          </a:ln>
        </p:spPr>
      </p:pic>
      <p:pic>
        <p:nvPicPr>
          <p:cNvPr id="299" name="Group 48" descr=""/>
          <p:cNvPicPr/>
          <p:nvPr/>
        </p:nvPicPr>
        <p:blipFill>
          <a:blip r:embed="rId5"/>
          <a:stretch/>
        </p:blipFill>
        <p:spPr>
          <a:xfrm>
            <a:off x="6140520" y="1582560"/>
            <a:ext cx="838080" cy="8589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6"/>
          <p:cNvSpPr/>
          <p:nvPr/>
        </p:nvSpPr>
        <p:spPr>
          <a:xfrm>
            <a:off x="3156120" y="17924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3156120" y="360504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156120" y="5410080"/>
            <a:ext cx="28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óm tắt nội dung của bạn ngắn gọ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9"/>
          <p:cNvSpPr/>
          <p:nvPr/>
        </p:nvSpPr>
        <p:spPr>
          <a:xfrm rot="19125600">
            <a:off x="1635120" y="1556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0"/>
          <p:cNvSpPr/>
          <p:nvPr/>
        </p:nvSpPr>
        <p:spPr>
          <a:xfrm rot="19125600">
            <a:off x="1634760" y="33645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1"/>
          <p:cNvSpPr/>
          <p:nvPr/>
        </p:nvSpPr>
        <p:spPr>
          <a:xfrm rot="19125600">
            <a:off x="1635120" y="5158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Arial"/>
              </a:rPr>
              <a:t>Nội dung 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4:11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