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7D7-4A2A-4865-809A-6F3ACB2D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808-63B9-47A4-90A1-5294B14F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3DE-7CA7-4E8B-AD4B-A58FDD0F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EC4-C4A0-4276-8B40-15553DAC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6F5D-24B7-48CD-B36E-1231720B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C99C-7ED6-4EBA-832E-0286899E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D3F7-1205-437E-A3FC-DA30F10D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EEDB-0B96-4845-9760-4EA190A3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27D7-99B6-4ECF-A32C-DAAB4D6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5A3D-26B7-4F52-8C57-87F354B3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5D3E-CCDA-4545-A0FC-852ED316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EDD-483F-428D-AC3F-0A38FA43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4549-BDAD-4747-85E3-A1DAFBA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77C9-9BCE-4E6A-941A-B4111A09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087A-E9E9-4F1B-88D0-3F53BEF3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D7EF-14F8-4D43-A22F-5782167C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46D1-6519-496C-A9D6-8D10BC68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9A26-1FDC-456C-8908-EBA40AEF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1080-EAE5-4A2F-A90B-CD7B6C40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B393F-63F1-40EE-9452-3D275683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2158-1C74-4B45-8171-5A01AD72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3732-8359-4FB3-9CBF-83AA32A2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F63-BEE7-4F34-AA81-5CB6CE9B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5F92-F043-4AD9-BBAD-43444116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AC87-ACBE-49F1-AFC8-203FFE66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2593-86E7-4190-A3BA-8953DDC5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A76D-F72E-444E-9D84-1F20C1A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76FB7-8EB0-40D8-9C38-E47C68EE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C827-C930-4F72-AC2A-C7E7BB8F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5E6E6-FD76-4C87-8A86-10EFD8A8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E71-42E8-44CF-87EC-65722664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207-55F1-4DEF-9597-C0CA7E12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885-E30C-401B-897B-F114F8EE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961-3961-4F7C-B472-884EBFB0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DF2-8D20-4C80-945A-092F0693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883-9C47-43E1-8878-D60302F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80C5-614C-4B85-8C3C-4C675E937D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341A-6812-4827-BCDE-7569755A8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3"/>
          <a:srcRect l="6790" t="0" r="21202" b="0"/>
          <a:stretch/>
        </p:blipFill>
        <p:spPr>
          <a:xfrm>
            <a:off x="0" y="4683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F354-D379-4402-99C6-9339BDAFC63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B0C8-C57D-4A14-82A1-B7A7B99D709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le 7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EECB-F3C9-44B3-AFB1-BADB10B638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C294-15F0-4F02-9DB0-E14D1A1BB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6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4ec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36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40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4ec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64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14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71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3065"/>
              </a:gs>
              <a:gs pos="100000">
                <a:srgbClr val="f14d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2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3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4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5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6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7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8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9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0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2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9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98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5b200"/>
              </a:gs>
              <a:gs pos="100000">
                <a:srgbClr val="9bd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2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7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8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9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40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55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229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9405"/>
              </a:gs>
              <a:gs pos="100000">
                <a:srgbClr val="fea0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3:2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