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110-AA09-42EA-AE49-8C9DF2EC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46B-B3CB-4886-99B9-68144737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408-EDD7-4205-9B6A-D2D6E5CB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A3B-0F8F-4CBA-B0F8-A05D0B25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9099-5A08-4DEF-85A9-E2316699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CCF6-BEE1-4C55-BEA8-FD61D3C4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7A4D-9A6A-4846-8A2C-B46D21A3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8D7A-0E45-4AE5-896F-D23386D8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EB2A-E2A4-43F7-A99C-FC2B5B07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E610-8417-4284-9AD6-5A170AEB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0550-0EC9-484A-9D9C-A796F225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0EB3-AED5-4E8E-8FAF-714E2164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82BF-3FF0-4142-A0D0-82B91901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927C-B604-45CF-9466-392F2B4B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D596-C02E-487F-BA8C-254B6C99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9C33-FA40-44C9-A287-F19C291E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F6BE-68A8-4A9A-B236-D487A31A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908E4-2976-4731-AD8A-A3165ADF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7C9DE-1D5C-4BE2-8DEB-C36D9E91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BC5D8-A5B8-43F8-9E56-B1843CFD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DFB32-B282-4E1C-B694-77BDB81E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A2974-21FF-4BE1-9FF3-68352D84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CB6-E2D3-4299-95C7-C821F2D4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42C30-6BC7-48C8-BAB8-5E9537D9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F235B-F9F3-4690-9FAC-D0BEA860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34AB1-D0FB-46D6-A7A6-5F4FE98B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83C6-941B-4D25-B5C5-06FFD4D3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BC471-DF72-4901-903E-2BAE2A26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829EA-3251-4FF8-8E61-E5560483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C162E-7FB4-4E6C-87BC-B15EA518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F0D6A-D6B7-457E-AA8C-E5CE20FA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AF3E2-6F5A-4E35-8C90-D840C87C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7D627-49A0-4FF0-93B2-3FC3865B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A70-E8FC-4528-869B-6628DF5D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75C27-5E7E-492E-A264-53F7FE6D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203E7-1F67-4ED7-BD96-70A5191A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B74F1-ABBB-4B1A-9D4E-A13F9A6D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AFB8F-42D3-48B1-A02F-633F48F4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56A23-DE72-4037-B193-D9D33B00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39CCA-F099-40BD-855D-3F11BCC3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A2ED3-7675-48D3-9842-D4658D1E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3058B-65FD-49D2-BCA3-4B155A48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CD40E-1B09-477B-8AE1-492C1179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D89-0962-4D0C-A41E-0A9F3699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650-615B-4A18-BB07-F2FC4319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4925-D890-4889-975E-61B8FEC4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74D-A67B-4CDA-A347-2A470B62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B59-B65A-4C55-8DC2-B835FEDD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6EB2-D1DA-4292-BD3E-D7181666281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D05E-3BAC-458B-B987-A38A9B5C2B9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48F0-0FE3-469E-91AF-24B0B675A88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7B82-B75F-49A3-BB74-DEBA873D8CC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A079-1EDE-4654-8324-558CFA5DA04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A3EF-862D-40D0-A618-9D5AB818099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0E0F-1E66-47ED-930C-A03B89B1DD6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5AE5-58D2-46FD-ACEC-0D32AF77C9B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4"/>
          <p:cNvSpPr/>
          <p:nvPr/>
        </p:nvSpPr>
        <p:spPr>
          <a:xfrm>
            <a:off x="973800" y="3672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Verdana"/>
              </a:rPr>
              <a:t>TỔNG HỢP SLIDE - TEMPLATES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ounded Rectangle 8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Rectangle 9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Rounded Rectangle 14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169" name="Rectangle 47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48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171" name="Oval 22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24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173" name="Up Arrow 21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Round Same Side Corner Rectangle 23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5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48080"/>
          </a:xfrm>
          <a:prstGeom prst="rect">
            <a:avLst/>
          </a:prstGeom>
          <a:ln w="0">
            <a:noFill/>
          </a:ln>
        </p:spPr>
      </p:pic>
      <p:pic>
        <p:nvPicPr>
          <p:cNvPr id="176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14680"/>
          </a:xfrm>
          <a:prstGeom prst="rect">
            <a:avLst/>
          </a:prstGeom>
          <a:ln w="0">
            <a:noFill/>
          </a:ln>
        </p:spPr>
      </p:pic>
      <p:sp>
        <p:nvSpPr>
          <p:cNvPr id="177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224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5-Point Star 58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Group 59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180" name="Group 65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181" name="Oval 27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bdd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3371a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Oval 7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9bc0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224c71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7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75a7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18355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57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5996cd"/>
                </a:solidFill>
                <a:latin typeface="Arial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7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3371a9"/>
                </a:solidFill>
                <a:latin typeface="Arial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Oval 8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224c71"/>
                </a:solidFill>
                <a:latin typeface="Arial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8"/>
          <p:cNvSpPr/>
          <p:nvPr/>
        </p:nvSpPr>
        <p:spPr>
          <a:xfrm>
            <a:off x="2955960" y="4746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AIMIENPHI.V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82"/>
          <p:cNvSpPr/>
          <p:nvPr/>
        </p:nvSpPr>
        <p:spPr>
          <a:xfrm>
            <a:off x="2895480" y="3428640"/>
            <a:ext cx="167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OP TEMPL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83"/>
          <p:cNvSpPr/>
          <p:nvPr/>
        </p:nvSpPr>
        <p:spPr>
          <a:xfrm>
            <a:off x="2971800" y="2284920"/>
            <a:ext cx="16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alibri"/>
              </a:rPr>
              <a:t>TOP SLI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ounded Rectangle 8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Rectangle 9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Rounded Rectangle 14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47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48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196" name="Oval 22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Group 24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198" name="Up Arrow 21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ound Same Side Corner Rectangle 23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0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6920"/>
          </a:xfrm>
          <a:prstGeom prst="rect">
            <a:avLst/>
          </a:prstGeom>
          <a:ln w="0">
            <a:noFill/>
          </a:ln>
        </p:spPr>
      </p:pic>
      <p:pic>
        <p:nvPicPr>
          <p:cNvPr id="201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2080"/>
          </a:xfrm>
          <a:prstGeom prst="rect">
            <a:avLst/>
          </a:prstGeom>
          <a:ln w="0">
            <a:noFill/>
          </a:ln>
        </p:spPr>
      </p:pic>
      <p:sp>
        <p:nvSpPr>
          <p:cNvPr id="202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5-Point Star 58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Group 59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05" name="Group 65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06" name="Oval 27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eba7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b24d1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7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d788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a2e4e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7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cd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87439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57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de6c36"/>
                </a:solidFill>
                <a:latin typeface="Arial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7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b83d68"/>
                </a:solidFill>
                <a:latin typeface="Arial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8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ac66bb"/>
                </a:solidFill>
                <a:latin typeface="Arial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28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8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8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Arial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7050600" y="6505560"/>
            <a:ext cx="197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Arial"/>
                <a:ea typeface="Calibri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ounded Rectangle 41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Rectangle 42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19" name="Rounded Rectangle 43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44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45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222" name="Oval 46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47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224" name="Up Arrow 48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ound Same Side Corner Rectangle 49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6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8360"/>
          </a:xfrm>
          <a:prstGeom prst="rect">
            <a:avLst/>
          </a:prstGeom>
          <a:ln w="0">
            <a:noFill/>
          </a:ln>
        </p:spPr>
      </p:pic>
      <p:pic>
        <p:nvPicPr>
          <p:cNvPr id="227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4960"/>
          </a:xfrm>
          <a:prstGeom prst="rect">
            <a:avLst/>
          </a:prstGeom>
          <a:ln w="0">
            <a:noFill/>
          </a:ln>
        </p:spPr>
      </p:pic>
      <p:sp>
        <p:nvSpPr>
          <p:cNvPr id="228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5-Point Star 53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Group 54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31" name="Group 57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32" name="Oval 65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c8a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705032"/>
                </a:solidFill>
                <a:latin typeface="Calibri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bdbf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6c6f4c"/>
                </a:solidFill>
                <a:latin typeface="Calibri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6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fec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d77c01"/>
                </a:solidFill>
                <a:latin typeface="Calibri"/>
                <a:ea typeface="SimSu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68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56b43"/>
                </a:solidFill>
                <a:latin typeface="Calibri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6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09465"/>
                </a:solidFill>
                <a:latin typeface="Calibri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7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fea022"/>
                </a:solidFill>
                <a:latin typeface="Calibri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71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7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7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5"/>
          <p:cNvSpPr/>
          <p:nvPr/>
        </p:nvSpPr>
        <p:spPr>
          <a:xfrm>
            <a:off x="7131240" y="6505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Calibri"/>
                <a:ea typeface="SimSun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ounded Rectangle 41"/>
          <p:cNvSpPr/>
          <p:nvPr/>
        </p:nvSpPr>
        <p:spPr>
          <a:xfrm>
            <a:off x="2235240" y="1346040"/>
            <a:ext cx="2527200" cy="4978440"/>
          </a:xfrm>
          <a:custGeom>
            <a:avLst/>
            <a:gdLst>
              <a:gd name="textAreaLeft" fmla="*/ 93600 w 2527200"/>
              <a:gd name="textAreaRight" fmla="*/ 2433600 w 2527200"/>
              <a:gd name="textAreaTop" fmla="*/ 93600 h 4978440"/>
              <a:gd name="textAreaBottom" fmla="*/ 4884840 h 4978440"/>
            </a:gdLst>
            <a:ahLst/>
            <a:rect l="textAreaLeft" t="textAreaTop" r="textAreaRight" b="textAreaBottom"/>
            <a:pathLst>
              <a:path w="21600" h="42548">
                <a:moveTo>
                  <a:pt x="2732" y="0"/>
                </a:moveTo>
                <a:arcTo wR="2732" hR="2732" stAng="16200000" swAng="-5400000"/>
                <a:lnTo>
                  <a:pt x="0" y="39816"/>
                </a:lnTo>
                <a:arcTo wR="2732" hR="2732" stAng="10800000" swAng="-5400000"/>
                <a:lnTo>
                  <a:pt x="18868" y="42548"/>
                </a:lnTo>
                <a:arcTo wR="2732" hR="2732" stAng="5400000" swAng="-5400000"/>
                <a:lnTo>
                  <a:pt x="21600" y="2732"/>
                </a:lnTo>
                <a:arcTo wR="2732" hR="2732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55363" dir="81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Rectangle 42" descr=""/>
          <p:cNvPicPr/>
          <p:nvPr/>
        </p:nvPicPr>
        <p:blipFill>
          <a:blip r:embed="rId1"/>
          <a:stretch/>
        </p:blipFill>
        <p:spPr>
          <a:xfrm>
            <a:off x="2365200" y="176220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45" name="Rounded Rectangle 43" descr=""/>
          <p:cNvPicPr/>
          <p:nvPr/>
        </p:nvPicPr>
        <p:blipFill>
          <a:blip r:embed="rId2"/>
          <a:stretch/>
        </p:blipFill>
        <p:spPr>
          <a:xfrm>
            <a:off x="3083040" y="1363680"/>
            <a:ext cx="830160" cy="27612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44" descr=""/>
          <p:cNvPicPr/>
          <p:nvPr/>
        </p:nvPicPr>
        <p:blipFill>
          <a:blip r:embed="rId3"/>
          <a:stretch/>
        </p:blipFill>
        <p:spPr>
          <a:xfrm>
            <a:off x="2365200" y="3057480"/>
            <a:ext cx="2270160" cy="129528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45" descr=""/>
          <p:cNvPicPr/>
          <p:nvPr/>
        </p:nvPicPr>
        <p:blipFill>
          <a:blip r:embed="rId4"/>
          <a:stretch/>
        </p:blipFill>
        <p:spPr>
          <a:xfrm>
            <a:off x="2365200" y="4352760"/>
            <a:ext cx="2270160" cy="1295640"/>
          </a:xfrm>
          <a:prstGeom prst="rect">
            <a:avLst/>
          </a:prstGeom>
          <a:ln w="0">
            <a:noFill/>
          </a:ln>
        </p:spPr>
      </p:pic>
      <p:sp>
        <p:nvSpPr>
          <p:cNvPr id="248" name="Oval 46"/>
          <p:cNvSpPr/>
          <p:nvPr/>
        </p:nvSpPr>
        <p:spPr>
          <a:xfrm>
            <a:off x="3327480" y="5791320"/>
            <a:ext cx="368280" cy="368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47"/>
          <p:cNvGrpSpPr/>
          <p:nvPr/>
        </p:nvGrpSpPr>
        <p:grpSpPr>
          <a:xfrm>
            <a:off x="3395520" y="5869080"/>
            <a:ext cx="233640" cy="210960"/>
            <a:chOff x="3395520" y="5869080"/>
            <a:chExt cx="233640" cy="210960"/>
          </a:xfrm>
        </p:grpSpPr>
        <p:sp>
          <p:nvSpPr>
            <p:cNvPr id="250" name="Up Arrow 48"/>
            <p:cNvSpPr/>
            <p:nvPr/>
          </p:nvSpPr>
          <p:spPr>
            <a:xfrm>
              <a:off x="3395520" y="5869080"/>
              <a:ext cx="233640" cy="210960"/>
            </a:xfrm>
            <a:prstGeom prst="upArrow">
              <a:avLst>
                <a:gd name="adj1" fmla="val 83333"/>
                <a:gd name="adj2" fmla="val 3984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ound Same Side Corner Rectangle 49"/>
            <p:cNvSpPr/>
            <p:nvPr/>
          </p:nvSpPr>
          <p:spPr>
            <a:xfrm>
              <a:off x="3470760" y="5989680"/>
              <a:ext cx="82800" cy="90360"/>
            </a:xfrm>
            <a:custGeom>
              <a:avLst/>
              <a:gdLst/>
              <a:ahLst/>
              <a:rect l="l" t="t" r="r" b="b"/>
              <a:pathLst>
                <a:path w="114300" h="114300">
                  <a:moveTo>
                    <a:pt x="11906" y="0"/>
                  </a:moveTo>
                  <a:lnTo>
                    <a:pt x="102393" y="0"/>
                  </a:lnTo>
                  <a:cubicBezTo>
                    <a:pt x="108969" y="0"/>
                    <a:pt x="114299" y="5330"/>
                    <a:pt x="114299" y="11906"/>
                  </a:cubicBezTo>
                  <a:lnTo>
                    <a:pt x="114300" y="114300"/>
                  </a:lnTo>
                  <a:lnTo>
                    <a:pt x="114300" y="114300"/>
                  </a:lnTo>
                  <a:lnTo>
                    <a:pt x="0" y="114300"/>
                  </a:lnTo>
                  <a:lnTo>
                    <a:pt x="0" y="114300"/>
                  </a:lnTo>
                  <a:lnTo>
                    <a:pt x="0" y="11906"/>
                  </a:lnTo>
                  <a:cubicBezTo>
                    <a:pt x="0" y="5330"/>
                    <a:pt x="5330" y="0"/>
                    <a:pt x="11906" y="0"/>
                  </a:cubicBez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2" name="Parallelogram 25" descr=""/>
          <p:cNvPicPr/>
          <p:nvPr/>
        </p:nvPicPr>
        <p:blipFill>
          <a:blip r:embed="rId5"/>
          <a:stretch/>
        </p:blipFill>
        <p:spPr>
          <a:xfrm>
            <a:off x="4762440" y="1434960"/>
            <a:ext cx="1295640" cy="1638360"/>
          </a:xfrm>
          <a:prstGeom prst="rect">
            <a:avLst/>
          </a:prstGeom>
          <a:ln w="0">
            <a:noFill/>
          </a:ln>
        </p:spPr>
      </p:pic>
      <p:pic>
        <p:nvPicPr>
          <p:cNvPr id="253" name="Parallelogram 25" descr=""/>
          <p:cNvPicPr/>
          <p:nvPr/>
        </p:nvPicPr>
        <p:blipFill>
          <a:blip r:embed="rId6"/>
          <a:stretch/>
        </p:blipFill>
        <p:spPr>
          <a:xfrm>
            <a:off x="4762440" y="2666880"/>
            <a:ext cx="1575000" cy="1704960"/>
          </a:xfrm>
          <a:prstGeom prst="rect">
            <a:avLst/>
          </a:prstGeom>
          <a:ln w="0">
            <a:noFill/>
          </a:ln>
        </p:spPr>
      </p:pic>
      <p:sp>
        <p:nvSpPr>
          <p:cNvPr id="254" name="Parallelogram 25"/>
          <p:cNvSpPr/>
          <p:nvPr/>
        </p:nvSpPr>
        <p:spPr>
          <a:xfrm flipV="1" rot="16200000">
            <a:off x="4800240" y="3825000"/>
            <a:ext cx="1784520" cy="1860480"/>
          </a:xfrm>
          <a:custGeom>
            <a:avLst/>
            <a:gdLst/>
            <a:ahLst/>
            <a:rect l="l" t="t" r="r" b="b"/>
            <a:pathLst>
              <a:path w="1716378" h="1303747">
                <a:moveTo>
                  <a:pt x="0" y="1303747"/>
                </a:moveTo>
                <a:cubicBezTo>
                  <a:pt x="0" y="992597"/>
                  <a:pt x="96106" y="105855"/>
                  <a:pt x="323850" y="8347"/>
                </a:cubicBezTo>
                <a:lnTo>
                  <a:pt x="1716378" y="0"/>
                </a:lnTo>
                <a:cubicBezTo>
                  <a:pt x="1301664" y="225572"/>
                  <a:pt x="1264199" y="796943"/>
                  <a:pt x="1243576" y="1303747"/>
                </a:cubicBezTo>
                <a:lnTo>
                  <a:pt x="0" y="130374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5-Point Star 53"/>
          <p:cNvSpPr/>
          <p:nvPr/>
        </p:nvSpPr>
        <p:spPr>
          <a:xfrm>
            <a:off x="4896000" y="3414600"/>
            <a:ext cx="414360" cy="419040"/>
          </a:xfrm>
          <a:custGeom>
            <a:avLst/>
            <a:gdLst/>
            <a:ahLst/>
            <a:rect l="l" t="t" r="r" b="b"/>
            <a:pathLst>
              <a:path w="414337" h="419100">
                <a:moveTo>
                  <a:pt x="0" y="160081"/>
                </a:moveTo>
                <a:lnTo>
                  <a:pt x="140446" y="134000"/>
                </a:lnTo>
                <a:lnTo>
                  <a:pt x="207168" y="0"/>
                </a:lnTo>
                <a:lnTo>
                  <a:pt x="273891" y="134000"/>
                </a:lnTo>
                <a:lnTo>
                  <a:pt x="414337" y="160081"/>
                </a:lnTo>
                <a:lnTo>
                  <a:pt x="315128" y="268979"/>
                </a:lnTo>
                <a:lnTo>
                  <a:pt x="335205" y="419098"/>
                </a:lnTo>
                <a:lnTo>
                  <a:pt x="207168" y="352401"/>
                </a:lnTo>
                <a:lnTo>
                  <a:pt x="79131" y="419098"/>
                </a:lnTo>
                <a:lnTo>
                  <a:pt x="9920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Group 54" descr=""/>
          <p:cNvPicPr/>
          <p:nvPr/>
        </p:nvPicPr>
        <p:blipFill>
          <a:blip r:embed="rId7"/>
          <a:stretch/>
        </p:blipFill>
        <p:spPr>
          <a:xfrm>
            <a:off x="4896000" y="4795920"/>
            <a:ext cx="531720" cy="392040"/>
          </a:xfrm>
          <a:prstGeom prst="rect">
            <a:avLst/>
          </a:prstGeom>
          <a:ln w="0">
            <a:noFill/>
          </a:ln>
        </p:spPr>
      </p:pic>
      <p:pic>
        <p:nvPicPr>
          <p:cNvPr id="257" name="Group 57" descr=""/>
          <p:cNvPicPr/>
          <p:nvPr/>
        </p:nvPicPr>
        <p:blipFill>
          <a:blip r:embed="rId8"/>
          <a:stretch/>
        </p:blipFill>
        <p:spPr>
          <a:xfrm>
            <a:off x="4767120" y="2038320"/>
            <a:ext cx="636840" cy="646200"/>
          </a:xfrm>
          <a:prstGeom prst="rect">
            <a:avLst/>
          </a:prstGeom>
          <a:ln w="0">
            <a:noFill/>
          </a:ln>
        </p:spPr>
      </p:pic>
      <p:sp>
        <p:nvSpPr>
          <p:cNvPr id="258" name="Oval 65"/>
          <p:cNvSpPr/>
          <p:nvPr/>
        </p:nvSpPr>
        <p:spPr>
          <a:xfrm>
            <a:off x="2495520" y="2241720"/>
            <a:ext cx="380880" cy="380880"/>
          </a:xfrm>
          <a:prstGeom prst="ellipse">
            <a:avLst/>
          </a:prstGeom>
          <a:solidFill>
            <a:srgbClr val="dfff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6f9500"/>
                </a:solidFill>
                <a:latin typeface="Calibri"/>
                <a:ea typeface="SimSu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Oval 66"/>
          <p:cNvSpPr/>
          <p:nvPr/>
        </p:nvSpPr>
        <p:spPr>
          <a:xfrm>
            <a:off x="2495520" y="3514680"/>
            <a:ext cx="380880" cy="380880"/>
          </a:xfrm>
          <a:prstGeom prst="ellipse">
            <a:avLst/>
          </a:prstGeom>
          <a:solidFill>
            <a:srgbClr val="d0f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4a6300"/>
                </a:solidFill>
                <a:latin typeface="Calibri"/>
                <a:ea typeface="SimSu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Oval 67"/>
          <p:cNvSpPr/>
          <p:nvPr/>
        </p:nvSpPr>
        <p:spPr>
          <a:xfrm>
            <a:off x="2495520" y="4835520"/>
            <a:ext cx="380880" cy="380880"/>
          </a:xfrm>
          <a:prstGeom prst="ellipse">
            <a:avLst/>
          </a:prstGeom>
          <a:solidFill>
            <a:srgbClr val="c4ff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354800"/>
                </a:solidFill>
                <a:latin typeface="Calibri"/>
                <a:ea typeface="SimSu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val 68"/>
          <p:cNvSpPr/>
          <p:nvPr/>
        </p:nvSpPr>
        <p:spPr>
          <a:xfrm>
            <a:off x="5391000" y="124452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94c600"/>
                </a:solidFill>
                <a:latin typeface="Calibri"/>
                <a:ea typeface="Verdana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69"/>
          <p:cNvSpPr/>
          <p:nvPr/>
        </p:nvSpPr>
        <p:spPr>
          <a:xfrm>
            <a:off x="5791320" y="2428920"/>
            <a:ext cx="1792080" cy="179208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6f9500"/>
                </a:solidFill>
                <a:latin typeface="Calibri"/>
                <a:ea typeface="Verdana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val 70"/>
          <p:cNvSpPr/>
          <p:nvPr/>
        </p:nvSpPr>
        <p:spPr>
          <a:xfrm>
            <a:off x="6211800" y="3801960"/>
            <a:ext cx="1792440" cy="1792440"/>
          </a:xfrm>
          <a:prstGeom prst="ellipse">
            <a:avLst/>
          </a:prstGeom>
          <a:gradFill rotWithShape="0">
            <a:gsLst>
              <a:gs pos="0">
                <a:srgbClr val="9f9f9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  <a:effectLst>
            <a:outerShdw dist="63378" dir="19204166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000" spc="-1" strike="noStrike">
                <a:solidFill>
                  <a:srgbClr val="4a6300"/>
                </a:solidFill>
                <a:latin typeface="Calibri"/>
                <a:ea typeface="Verdana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71"/>
          <p:cNvSpPr/>
          <p:nvPr/>
        </p:nvSpPr>
        <p:spPr>
          <a:xfrm>
            <a:off x="2955960" y="474660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72"/>
          <p:cNvSpPr/>
          <p:nvPr/>
        </p:nvSpPr>
        <p:spPr>
          <a:xfrm>
            <a:off x="2955960" y="341496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73"/>
          <p:cNvSpPr/>
          <p:nvPr/>
        </p:nvSpPr>
        <p:spPr>
          <a:xfrm>
            <a:off x="2955960" y="211932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Nội dung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Calibri"/>
                <a:ea typeface="Calibri"/>
              </a:rPr>
              <a:t>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5"/>
          <p:cNvSpPr/>
          <p:nvPr/>
        </p:nvSpPr>
        <p:spPr>
          <a:xfrm>
            <a:off x="7131240" y="650556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200" spc="-1" strike="noStrike">
                <a:solidFill>
                  <a:srgbClr val="d9d9d9"/>
                </a:solidFill>
                <a:latin typeface="Calibri"/>
                <a:ea typeface="SimSun"/>
              </a:rPr>
              <a:t>www.PowerPointDep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9:08:4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