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483-EB93-4831-BF72-23490970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875-0776-4A53-A34D-C1899634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DE4-89B4-48A6-A2E6-1707B457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92E-B6DC-4FEE-9B83-79172D30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387D-5EEF-4992-B8C4-C7A462BA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364D-E183-4AE4-A84C-8FA593FF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DB10-AF8A-4E73-95A3-8EF643C7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17E4-2C06-4C3D-9FA9-F4161F9C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639B-D624-4A27-9BFA-11875CBE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729D-7A7A-4944-BFAD-FC25F330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D5DD-26D1-40C2-889F-13778677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C71-6265-46AF-9006-12EAACBA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E7D2-7963-420D-BFC4-A848ECF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510A-04A8-4AE8-910F-86DE852D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103D-E702-4824-94C8-A5D23AC7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04C8-268B-4B35-90A8-115BAF67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3454-CC3E-485F-845A-34DE62EE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C154-2552-4EF4-ABA3-4C037E16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81B9-D983-4A9B-B7E2-3EA9669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9381-66E0-4A17-AA1A-BE87D372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8D7E-1429-43CB-967C-76E8B507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6AC3-5C35-423A-A16C-A59977DB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3D6-7C7C-4256-A0D5-FE1B3F4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582F-8626-4F71-8E22-66BFFA83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E9AC-99E3-4DB4-A4F6-A4E197B6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570F-643B-4612-AA00-41731D46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5095-F59E-49DC-BB4D-1C13B321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A3D9-F593-4D56-990A-CD9F482E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5686-0BE8-497E-A1FF-67E43B2C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51B7-2C06-4B59-84AE-F34405C4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42EA2-D8D3-4833-AC6B-EDEC7E5A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EBAF2-CF68-4AFA-B70B-50846E25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5FCE9-08A2-4D0D-AD77-36856543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AD0-B4D5-4B25-A2B9-883D3D1D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A714-A9DC-4CE1-BE05-98E16B64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F81F-B283-4BE6-8EEE-D7C8A9F0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9AE2-8475-49C3-85F0-8E3848D7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FDB7-1064-4E55-89D5-C912629D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9BD8A-D85E-46F0-BE10-A66897A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B367-0055-450C-81BF-1031D9A9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72F41-52E5-450F-B885-009AB32D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5B59-1D4C-4E8C-A98D-45E62FE3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831A4-618A-46C2-ACC3-18762B38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4BD-8F57-4BC6-B2B0-F67EC30F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B7D-6637-4E69-A88C-925FBB4A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C6C-645B-48E0-BBC0-7443F6EB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A61-1698-4E4E-8134-8F51166C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022-BC02-400E-BFC7-5401A35D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A225-B9C5-48A1-9B32-258B0E3E4F0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F8FB-9542-4F21-BF50-8C8208A779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E771-6865-42D8-A3E2-FFDD8F2FB04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60D-B87C-424D-A2B8-2145C1184D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6838-396D-4331-9E7C-9C402FED4D3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8711-C395-49B0-A454-DCB9C5CE97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F7CD-4EF9-492D-BC34-0E32412E7CC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583D-6BD6-4228-AB6F-6A83FB5F07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973800" y="3672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Verdana"/>
              </a:rPr>
              <a:t>TỔNG HỢP SLIDE - TEMPLATES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71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73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48080"/>
          </a:xfrm>
          <a:prstGeom prst="rect">
            <a:avLst/>
          </a:prstGeom>
          <a:ln w="0">
            <a:noFill/>
          </a:ln>
        </p:spPr>
      </p:pic>
      <p:pic>
        <p:nvPicPr>
          <p:cNvPr id="176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224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180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181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bdd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371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9bc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224c7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75a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18355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5996cd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3371a9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224c71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2955960" y="4746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AIMIENPHI.V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2"/>
          <p:cNvSpPr/>
          <p:nvPr/>
        </p:nvSpPr>
        <p:spPr>
          <a:xfrm>
            <a:off x="2895480" y="3428640"/>
            <a:ext cx="16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TEMPL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3"/>
          <p:cNvSpPr/>
          <p:nvPr/>
        </p:nvSpPr>
        <p:spPr>
          <a:xfrm>
            <a:off x="2971800" y="2284920"/>
            <a:ext cx="16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SL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96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98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0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6920"/>
          </a:xfrm>
          <a:prstGeom prst="rect">
            <a:avLst/>
          </a:prstGeom>
          <a:ln w="0">
            <a:noFill/>
          </a:ln>
        </p:spPr>
      </p:pic>
      <p:pic>
        <p:nvPicPr>
          <p:cNvPr id="201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2080"/>
          </a:xfrm>
          <a:prstGeom prst="rect">
            <a:avLst/>
          </a:prstGeom>
          <a:ln w="0">
            <a:noFill/>
          </a:ln>
        </p:spPr>
      </p:pic>
      <p:sp>
        <p:nvSpPr>
          <p:cNvPr id="202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05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06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eba7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b24d1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a2e4e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d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7439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de6c36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b83d68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ac66bb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8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8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7050600" y="65055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Arial"/>
                <a:ea typeface="Calibri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24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27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28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31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32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c8a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705032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bdb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c6f4c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fec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d77c01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56b43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09465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fea022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50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53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54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dff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f9500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a6300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54800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4c600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6f9500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4a6300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9:08:4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