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5B555-A950-4093-9FE6-7F0C83AD35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1FFB0E65-7567-4954-83E8-9D31679FE5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EE660F-11B8-493E-8622-3A3FB03D6D3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BDDDC14-8084-494E-A857-9E74E100EDA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B1A53F9-CAAE-4BD1-9E2D-AAFC5ABFFDA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85C6F72-B4DA-4991-B4FA-A0B6981B6E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9C409B-A13D-4F1A-B2B3-23AA4C72350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F368259-E2D9-49E5-AAEE-E33C968C04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100BA7B-B328-4ECC-A14D-1AD9B8B6EF0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C8287F9-4E6A-477A-98B3-193B560FFAE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2CF78B4-1B6E-4695-8E8F-F8F81234522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1B20730-8B70-4831-B5BD-30A70042B4E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879D3B26-08FC-4062-B06C-A41104D3E7F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F1D4C8F-D2C6-4CE8-8C00-913EDE7406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189837-1216-44CE-BE1C-7C88C2D6C31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C057875-EB2C-47B3-B04E-07A08546767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7A4F04C-B164-43E3-827B-1AACEDD66B3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58C19C6-4FF2-4D38-A0CB-03354CD4AE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3A818B-A3DD-4BE0-8976-225962F78D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0E38235-7688-43D2-9840-9EA2206EC0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F855F0D-350F-4ABC-A7E0-7348BB71D4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61196F7-F655-4E76-B602-D655A59637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5F25E90-8593-4B18-82E6-28B6361B08E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5630C33B-9220-43CE-9B07-1DCE797505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DCA35D4-D1E6-4590-A99A-1767397496D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6DBB10D-38F5-4869-887E-268D90501D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09B1899-7827-4E48-94FF-3DF7DF87B8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857B89F-4CEB-4080-8BC3-34C82931ED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9B5B546-32EC-49F0-BF3D-F54DBC057B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23F06FC-FAFF-49C8-A957-02D018CEEE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755A1BA-B4C9-4FDD-92FC-640FDB9B34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0947F8D-AB13-42F1-B9A5-46BDB1972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25B4E72-B0DB-452B-996E-A909DC3D01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FFC18B9-FEDA-494E-9448-90F4AEDE1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8A0661-8319-4175-9949-2C64C95ED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7D72DA4-30CB-4F02-8FEC-1CFF119FBA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FA0CA4E-9A84-490E-8AA5-A7A0AE7410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E12AD2B-5B78-4DD3-BACB-089E6B3926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84FFA73-A070-49A3-A73F-7002AF9F31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2902216-A957-4D11-8C66-4F70210A1E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36E4AB1-87CB-4ADB-902C-75F13A3B9B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F48CE07-37F5-407B-B13C-3CB0EA4F64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559E0C8-5A92-43D2-A5CD-1368D2CC69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AD1AFD4-E469-4537-BB3B-3DF1C37DB2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BE03996-B13A-4A8B-9BBD-2C560438CC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F993C3-EBB8-46E8-B71B-28FBA6D09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952946E-45A7-4995-AD12-BBC29C0608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00B8256-9782-4182-9F85-75FC656B4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4D8AE3F-23DF-4363-ADB0-0FE20F4677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5B26804-E0AA-4EA8-B9D7-D751DE3003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165F527-8E10-451F-B27B-2CACE8DFDB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9BEC15-5781-4844-AE4C-3CF2AD0E3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5A14EF-126E-4522-9549-0E479C0C9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89E028-3CF8-4D56-9D8B-37F013C47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D8CF12-92B1-4E3F-A5F1-F622F7E9C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5645B5-5F22-481C-8CC1-2B125AB38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44959B9D-1AB3-449B-ABB4-AA9E8045E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711A53-4A8F-4134-935A-5D23FC3C5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ECDB9F-ADDF-4300-AB2B-1A6D9F2AF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1C7551-09D9-45DD-BB0F-2BB6EDE10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ECB131-2C24-46EC-8E56-1B445501382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A38CEB-A7F8-4346-BD6D-251A5AB7B71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7175A30-F788-4D95-8A8D-973F6A519F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B3B936-B351-4C28-BFF6-F51355A27D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27DFEF-2D96-42D7-AE6B-690F319A87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456072-C883-4F59-8F60-63DF591193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1E914C5-0117-4910-91D1-21077D83C7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D8739F3C-16C4-4DC9-8C7D-C6DAC99BEF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B5E5D7-335E-4F34-A2E6-7C7E5B22E7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C0FE13-626B-4611-8891-3EF6011035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0AD0AB-8066-4D9F-99ED-B773F7D1EF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19C544-F048-4AC4-925F-7850592AA5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AAC839-0C45-4ED5-915B-41EA0962D4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D3C837A-C42B-4FD6-B271-024E82CB471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D2BC96F-D32A-456E-A2B3-5A0E227E000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8FE2727-341B-40BF-BC26-86837612144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29B901-1ED6-4C63-A5FD-B3BDF2C643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B63B842-D3F6-4469-BDF6-65B0722DA1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5B1C8CE7-FFAD-4AF5-9562-BA7ACF9B95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DD78E1-0534-4E91-BDFE-EF6BBA1CA0A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0255D27-01BA-4357-812C-54516FF5057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EFB2F2F-1428-4134-BA12-10B5FAC6527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D42C09-1022-42EF-964B-5AECCCEDBE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ABDB3F-F03C-4DBD-9CEF-AB8A129E04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25BF84-0E06-4E4A-A709-F5D598A5BD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9CA509-D625-4D42-A4D6-2D2800E8C42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34C2570-FD53-4A7F-831B-6A9D2A4310A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22A2A00-8987-4B3A-B8B7-E1BABDCF991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93A93E9-341B-4E51-B690-09052F66535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A03387BF-666D-48DE-9665-FD2B423159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5318D7F-9FF5-43D0-9009-192976095F5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898D293-F90E-411C-A30F-7352D63CE1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380A926-9600-448B-BD9F-358080B909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2BCA232-EA16-443B-A551-92DB00268D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9B7EAD-C4DC-4FB0-89F0-AFB598CE69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71E5C1-1A4F-4FE2-9A94-A8F8F11453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737742-76A7-46DE-A33E-D96A29904A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70D7F5-14A5-4E51-9D29-E219FB9FC2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DB8EEBF-741D-4D0A-A291-E903BBAF8D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69C5054-EEF8-4379-9D06-3B4417EFDD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AFB3EC43-ECBB-412B-9143-446D421E75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1ABE353-41B2-4EA4-8D5F-1998B458FFB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8375F70-B725-4CDF-9860-62CBE194217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A94AB5-E5AD-47B0-9FCE-0A63574721A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A2CB86D-2580-4F43-8803-5927CC910CD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DBD7237-ED05-4F3D-A26D-042970F454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1B01791-495D-4993-B234-0084C74C854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5BCCD8E-B6B0-49C4-98A7-D37A5454077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2B0AC81-85F2-4D58-98AE-1B63B69081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F45EB0C-11AB-424D-84AA-9E434F545D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895342-7E31-4B22-9B46-54466B9BA4A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1493081B-7D39-4BF6-9394-581FD5A0502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351CA30-69A6-4350-B5CC-85B15D5BF05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C93BFBF-62DB-4AFC-AD5D-D7E8A217B89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F55FECC-8D9C-4617-8390-CF49A13A00A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A021C8B-8165-45A2-BE1D-10884838614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B487DD-8E20-4FB5-8C3B-93EFEA494F1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1799858-5533-4734-B84C-F2FF296AACB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347796D-E161-4DB9-8FBE-0517B27F437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84FB97-509C-46B6-847E-7EBA6EFE98E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015D4A-667E-4266-9440-41CF864267D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EB803E-BD77-4882-AB36-3B2CBF1BDB3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8A09DB35-883D-41D3-87E3-706F66E749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B81C961-6406-4030-9927-76D709818A4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A04EFD-6CCF-4891-90E6-5A2DB79074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25F1F29-2250-4F6D-98AF-1098878CFB5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941D72A-DEC8-4853-93B5-E7366965783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02FAE0D-E5F3-41C4-92ED-6216A8C7305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45DF09B-099C-49CA-8059-2F06705669D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0FF19B1-921D-4213-86BA-1785E8D6051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67E9797-DD59-4FBF-A3AA-841A449EBE5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F9E073-687C-4036-82E7-0AD19F6CE8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A322EED-66DD-4574-9DB0-432B5719F47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720507CC-C040-4FE7-B86C-A995DDE4E5D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5204DD-68AC-4061-A9AC-7B574B266AC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8746619-5B2E-4312-A48C-D48001169D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9931FEA-893A-46FE-89E3-0AEFE20CBFE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2A8E76F-8C79-4226-8C6F-766E0145384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18CA52-38F6-40A5-89C8-FBAEBDA48ED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51A7827-DE12-49A9-B327-D09AAE7CCA7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940ACDC-72A7-42E2-9331-84B008592B4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8EB0C8C-35D4-4179-B9F4-BE5F4A2E065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55ED1A-F0A1-4332-BF8B-367EE1FC724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EFB8621-8300-4A9A-9407-EBD5AB8F40D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15E8-450F-4B95-9F0E-F5DA25A84ACE}"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90C1-3B8F-4653-9B3F-A2759872F47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FB9-1A45-42E2-B385-0660A20BD8F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097A-7832-4FC7-A774-F16D4FB7536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4DF1-4FBC-4B94-B4E6-02691D46784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3234-FDA6-4B78-8362-E4327B5EB65D}" type="datetime">
              <a:rPr b="0" lang="en-US" sz="2400" spc="-1" strike="noStrike">
                <a:solidFill>
                  <a:srgbClr val="878787"/>
                </a:solidFill>
                <a:latin typeface="Times New Roman"/>
              </a:rPr>
              <a:t>07/31/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A8D2-BF93-4447-A487-462CFE5E009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7D05-7A62-4B7E-9E5A-C1DE8F421EA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07BE-05D7-4572-9463-20D396CE3A1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B83A-B0DA-41B4-AA08-7F78DA8CEC8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D6B3-B87C-4902-9493-481EA552A25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E1B0-E340-483D-8EE1-33898DBD999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CF60-121D-4AE8-960B-AC766C9633C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7886-6FEA-447C-B2FD-10145D34AFA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219A-27BF-4FD1-B090-FF83A0A888C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FEF4-5FA4-4F14-847A-9A342FACB86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BE2B-7384-42B9-99AC-F888755F9652}"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0A2D-A240-4C44-A3F9-EB672D9E5DF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5B1F-4BE4-46B1-8B0E-5084C9D870D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4159-383A-4397-B3A3-1B62F77103C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263D-6502-4DE4-BE1A-0CF4499534D8}"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7F3F-6FDA-433A-982D-196E4617E21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3B1E-8062-4777-BFE4-28AD205F3E5E}"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366B-37EF-4291-B37D-B270C07B207D}"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CC8D-6C5D-4F23-9EC0-F6C620840ABC}"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B353-0176-4C13-AA22-9F920FAE67B1}"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40A6-C75C-44C6-B640-43D63D13ABBA}"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A8EA-2178-423C-A96D-70903BC296AE}"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13C5-01E8-4CB1-8D65-3DD07901DA73}"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