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AE1A1-5BF4-425E-A3E1-C8C2AE6EF3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6A99658A-0402-46C5-BA15-03FC9523503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58781F8-EEBE-462C-8750-A2ED21A8DF0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EF54B42-E42E-4B82-8987-0B790A2B34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40E7C79-192F-4B5F-B675-097AEA62912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F79131B-22D9-45D6-9E01-11E9E31F792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CD187C-C33F-4F3D-8428-E4BE4AC7089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DA3BA9-B290-417A-847F-483D97D596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CCFEC7B-F5AC-4BF8-9D93-EBA5AA7D521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265C10E-F8F9-48E0-869B-628259FB3B3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A74C4BA-FA42-4C1C-92B4-CFD14180376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5E03C6F-47D0-46E0-AA50-9F6575A71C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3A115520-0449-4154-ABA9-23E1EBDD76B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946D43E-1813-4966-BB4D-7B94607C00E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8EE70CC-4699-419C-B217-8A8E71AE1FE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E8F1BE3-3C6C-4537-BF7A-0010C05C71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E5B1E09-002F-4009-8076-693020E6505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7FB7373-9FEA-4FCD-AEDF-954BDDE54F5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48D7075-20CA-4E0B-9A8C-7A1B2655AA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196FFFA-BF4C-4A7C-AF8F-C5ECE27B0D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17FA373-61E7-4BE0-A72D-1B12A68730D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78AEE05-2452-4DB0-ADE8-A3C837555B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9BAF2CC-EF1F-4707-A879-A5CCBC64CC5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18565199-7CD2-42FA-834D-863EC267C6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50F3804-C7E3-4A44-9AEE-E63BD9C2410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770E35D-FC3A-4109-9893-0699F77A94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2E2A02D-DF72-4EAC-801B-5C82CE6320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A2C9336-5D8F-4E57-BD14-9F312F9C66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1EA4685-4222-44C3-96F2-84CE401DA0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2F3BB5C-AEA4-4E0D-9F59-1A715344D9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68BFC46-069E-474D-A74E-CE56CE42D5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9FA8149-8DCB-428E-94CC-DF7985FA64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DD676D4-A538-4CCC-83C9-AC44BAFFB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26115C7-B7F5-460A-A753-9EAB57432F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975B6E-722B-49B3-B142-CA08885C9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19971CD-4F25-4D1A-B45B-4D54C05D27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803BB4A-873D-433F-A592-147954DE37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9D3AD9A-67CC-435E-85E9-7E2343305F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38D0317-2505-4867-AFF8-0B2E0FA735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A904CBC-807E-4C3B-90CE-3AE22ECE51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F4614A8-3CAA-45FE-BAB6-7D34EF2646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43AA7A4-D282-4268-941F-F677080762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9FBF224-1864-4737-B113-A85B95953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B4D182F-D7C9-4E42-8550-6783252D70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0F8CBD-BA9E-4FCA-8FCC-64C086573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55C0AA-E5D4-460F-8C0A-07E4FDDF4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4DB9523-E82E-44D4-A372-8A1897F37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AE3D98D-3E51-4B80-85F1-245F0BF10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79B8E9B-148B-45D1-B4F1-31BF7A074F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E3BCF08-36BB-4F07-B937-05F1AFAC15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1AA9A6D-2D28-4459-B6C6-10090C5536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C574F5-E613-4DDC-8F5B-86ADBC815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DC1991-3C76-47DB-A9D4-0C7CF238A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B06B9E-3BD3-4B56-BC0A-64502F0B2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BC4FD9-8C29-48D3-AC7E-88E3B61E9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E3D263-01B4-43F6-9B92-D602A29BC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A3C5C610-B5FF-4201-B9A3-0F7D700A0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522336-2FB5-4C6F-BAD4-BA46547CE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13B438-A460-4ACF-A20F-EB45205903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D9F8C7-7EC1-49E1-A305-F306B3071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8F8D0B-08FA-4DFD-85DE-B9E73F7289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527656-7922-42C0-A0A7-E53C6C9C8A6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618B9E1-6B80-4C2D-89EB-C2D4D254C2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6E3056-3324-4E73-9E51-8191EBDFD7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78AA46-3F10-462A-81DA-97DF79334A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406A17-59DB-4989-ADB9-4D3210043C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DA310C-83C4-4106-8915-6E53FA1D0A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5527B4EC-4DAA-495E-9A39-BBAD8731CF5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C17F0D-A814-4AB3-8BC5-2F56F15331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7FEF16-11D6-4916-92A8-7B7615AAB6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515CA8F-BDF1-4F2B-AC61-3CB5007747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4B2C38-4608-4F8C-9499-812AF33BDC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FDEFA98-FEF6-4940-A3C2-708DE21D30A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D4E9483-CD2C-478C-B4F5-39E409C2717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150E3CA-2392-4044-B2BC-D9944C2206E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9F75338-5485-40E3-8227-9DD7603D0F3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664B05-AE32-4700-9034-3F2D184E98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0649563-B229-4C52-A0C7-CBF4A80CE68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D14A3E4F-3A6E-4100-A5DD-CD3074B640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71E91B1-67B5-4468-B780-BE77A2E6E18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9BE5AB6-AFB4-400C-95FA-BF06E848C80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0DF0B6-DBE8-41D1-B926-08F1903705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4FD2B8-A607-42F5-9C94-B3C2DEC88E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739BFD-826D-4AF4-BE98-5DC8EB2B7BD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425188-EED1-4F5C-A490-E5A111401DC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E59FED-3CE2-49EB-94A5-2F2C6BEF187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2497C07-0451-43F3-A373-1F433B337DA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43188F8-5651-4DC9-9D22-2C356E7018F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507E225-E54E-434A-8E37-F3EB28CAB9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94BA0969-2BE9-44F8-86E2-876D137E5A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51A5B00-48AB-4D6F-B048-810E0DCB7B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0533434-53F4-4940-9203-93D1B5E12F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3F4873-9CDF-47E0-939B-2D18FAB536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0473DFA-6269-4D7A-BA22-F147C3E2199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09272A1-A054-4E27-8269-F23F889763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DD4760A-24B3-493F-910E-510327630E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14032A5-C21B-4A93-B03E-A152B4EDC0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F906801-A035-4487-9240-C4168930AD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47FAAC4-DDF9-43D3-94A4-CB47DB711A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FDF6140-6A69-448E-B638-3A7B4403DE9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CB9C2FFB-A04A-4AF4-A143-53253FF7CA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64A8931-95D4-4F22-8CFC-08B4F38BDF5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197B659-A79D-450A-8EC3-FDFCE3B02E4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E918796-6F5D-43B1-8938-8EB6FF1BA6D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3EEC7F4-836F-4FC3-B355-06A0FABBC89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6FA09C-A8F7-4BA4-B8F1-8AD2C77ACC5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12615F-A43E-4D99-9B01-DF0372D426F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C7DE688-B5B4-40B7-99FA-D36778E3C3C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B78C64-999A-4F24-9546-5ACDCA1C9A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A08CF9-A665-4DDA-956D-E6E8D42CC5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C011203-1CFB-4AB4-A8D6-5C8C03CC146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0F4B8AB6-C49C-4653-80B5-D11ED0AF09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A719628-AEAA-49BB-97C4-2407FEAFC5B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4E3CA5B-504F-48E3-9E4E-7EB3ECC42D0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7B655F8-9EDC-4408-A928-53D067F113C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7233212-FD66-48B6-9310-05A2D00E1FA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3852CD-CD6A-41F6-86FB-711C8640DCD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BC9FE02-A082-470F-864D-7BA63FF301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AA748E-46E1-4471-B031-98E53A0450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D6BF3D-22EE-4601-B3A0-670EBAE39F2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23E3A5-26A8-44EE-9DA5-A7259FA6C5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8422E06-AD6B-47C7-8A67-43F271E05E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3E9EC2D3-11C1-4B93-80C8-C2708B0A8F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918609-50D0-45CE-AEC3-C62248EA2B3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A35AFE-AE4B-444A-B5BE-94F3E5E5CE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C80B43-0209-4A13-A67C-3D04F2DD28B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5D01B03-30E0-4E0B-BDD5-5A15B334DFD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8DAAC71-0854-45E3-A6A5-826F7AB5CE9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323E8F6-CF57-4A02-A421-21EFC58AFEA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DB9815E-0281-4DC0-A638-08860598C1E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19B08C-6BFB-47A2-A97E-8DCE0B80FDC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B304307-F502-45D6-90C9-64DBC0E61EB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940067D-BFBC-47C1-9EA2-EF985C5115B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26550880-01B8-4C21-B61E-B42922BB61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C35F090-49BC-4F4C-8E5C-DA34C68CA03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E2BA5D-DFFA-4EAB-AD6D-82377B3D871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2D1851-E7BD-4C67-86CD-50AF375B27F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BF156B-A989-4EF3-AB0F-E253D3ADEFB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5E4D72-42C7-46DD-B6EE-7282324197F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659FA97-92AA-437A-8D8D-A16B617A8C0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2EE3E06-91A4-420A-BE04-25D466CA3FD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2D21F41-D9A6-4DE9-A236-56FD0C4248E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A1816AF-7ECB-4091-A3E1-509A8F1C3E4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EF9C51-4B9D-4B44-9FA9-580CFA1F2CE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FFC8-EA57-4504-8A84-CE3FF7FE880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D384-0C77-4BB2-A330-BFADD5FB410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CC03-5A70-4B8D-A2C8-FFB96E921A6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03F6-349D-4169-A5B4-B9EFDDDCF9E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6D42-01BD-4E33-B425-3BE53F57B4ED}"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933F-8B2E-4AC3-A432-C7F375808817}" type="datetime">
              <a:rPr b="0" lang="en-US" sz="2400" spc="-1" strike="noStrike">
                <a:solidFill>
                  <a:srgbClr val="878787"/>
                </a:solidFill>
                <a:latin typeface="Times New Roman"/>
              </a:rPr>
              <a:t>07/29/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610E-6BAF-45DC-8554-7AC74F09DB7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4941-09EC-4A10-9FA6-BB5F985D835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6E41-56BE-404F-8272-5B89AE87E64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0834-269E-4530-8C25-04D065287E8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C64F-E86A-4A9A-9DC2-59C200F638C3}"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68E9-0298-498A-8A75-1256D3E754A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11D6-2071-436C-8A7A-C563ECEB7119}"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A489-A499-4D1A-9FFC-0B2D8E95E74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8167-2140-44FE-B1B9-C9C29FD8C13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C4E9-6971-439C-BCAE-E9BF5A27C3A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00F9-72FE-483D-9944-40B0C7455953}"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8CDC-9E16-4F6B-8335-2DE7692644B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C2AC-BE7B-4CD5-B6D3-2B432F36F02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6742-E318-4501-9E3D-D82EBEC950B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A765-A0A4-422A-885E-52F5AF099E9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38A5-10DF-48D8-B8DE-7DD905FD768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3C20-1C04-450C-B320-33D64C40DDD4}"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CC62-79E1-42B4-83C0-BBE02AFAAC3F}"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71A2-CFED-402A-ABD4-FC3A104478A0}"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8D69-1E99-42D1-A71A-C910FB8C9B05}"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1433-9F3E-4830-875B-8FD23AC10ADB}"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630E-191F-46E6-B631-1AAA854BD116}"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8779-CBC9-49B9-B892-373DB2B675E9}"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