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1AE-8688-4457-B25A-D5619D5A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5D46-307D-40EB-AFD6-16AA2026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7869-1463-441E-BD3A-7F47BE21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03A7-A6D8-4DCE-BB42-8E39A777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8489-F97F-472B-ADB4-C075A975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93FF-8030-4BED-9827-476DF601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00E6-4384-4122-B9B6-80662F58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3573-162D-4926-834E-CCACCDB7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0124-718D-45BB-9559-6E82C71D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20D5-1320-49CA-964A-35071A95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3040-CB21-4536-A1C8-8423622C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9E2-50C7-4EAE-B799-1E66D613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10E3-CA6B-4A00-BE3B-08A473A10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1196640"/>
            <a:ext cx="540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09T20:40:13Z</dcterms:modified>
  <cp:revision>38</cp:revision>
  <dc:subject/>
  <dc:title>Texto</dc:title>
</cp:coreProperties>
</file>