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F717-943F-433E-AC72-FE22DBCF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865-C6B2-4A3A-9EC2-7F5A7425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732-00FE-4F74-8AC2-7ACE1D40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06D-615B-4329-9B5F-C2784309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3BBF-1943-45BC-AB05-86BF29C8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C444-8628-4D5D-9AEE-28D7B251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EB40-1A88-46CC-BAE1-F80E8AB1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619D-F256-4168-9DD9-020335EE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DC1C-E73E-445A-89A7-3CD512C5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47D5-C3F3-4F1B-A361-A262E8A5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7708-1AC7-445D-BD48-A4224CE3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883-AF82-4F6C-9ED8-10541FCF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5FA2-2CC2-4449-8789-33A1F773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7D1C-444C-4E98-95F2-083FFE66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90AC-ED66-4B1C-8433-36EA8900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D1AE-7D56-4F19-98F1-40C739A9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2903-0951-4BA2-895C-0432CFEC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15FC-16E4-4130-BE82-7D0E2CC3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B821-42C3-42A7-AA88-CA68893B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74C6-B528-4257-B52F-AEE4A2F5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22F-9328-4F59-89A4-409DFF7A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763-24EB-453B-8A85-48E2137A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A89C-F7C8-4044-8140-FA30E09C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B58-F858-4DC1-B293-A99C6809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62920" y="15192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C2C0-8541-485A-A9CB-7F9CCDE48CD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" name="Group 35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6" name="Line 31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Line 34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4E05-8910-43D2-8ADB-C06018C764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3365640"/>
            <a:ext cx="60195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PowerPoint</a:t>
            </a: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mplate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00400" y="4038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1800" y="411480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98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e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0a8b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0a8b0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e5b5f"/>
              </a:gs>
              <a:gs pos="50000">
                <a:srgbClr val="90a8b0"/>
              </a:gs>
              <a:gs pos="100000">
                <a:srgbClr val="4e5b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b6b70"/>
              </a:gs>
              <a:gs pos="100000">
                <a:srgbClr val="90a8b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7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984c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984c9">
                  <a:alpha val="32156"/>
                </a:srgbClr>
              </a:gs>
              <a:gs pos="100000">
                <a:srgbClr val="1a3d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f476d"/>
              </a:gs>
              <a:gs pos="50000">
                <a:srgbClr val="3984c9"/>
              </a:gs>
              <a:gs pos="100000">
                <a:srgbClr val="1f47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45480"/>
              </a:gs>
              <a:gs pos="100000">
                <a:srgbClr val="3984c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8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298" name="Group 31"/>
          <p:cNvGrpSpPr/>
          <p:nvPr/>
        </p:nvGrpSpPr>
        <p:grpSpPr>
          <a:xfrm>
            <a:off x="1452600" y="1444680"/>
            <a:ext cx="5769000" cy="4574880"/>
            <a:chOff x="1452600" y="1444680"/>
            <a:chExt cx="5769000" cy="4574880"/>
          </a:xfrm>
        </p:grpSpPr>
        <p:sp>
          <p:nvSpPr>
            <p:cNvPr id="299" name="Rectangle 8"/>
            <p:cNvSpPr/>
            <p:nvPr/>
          </p:nvSpPr>
          <p:spPr>
            <a:xfrm rot="13770000">
              <a:off x="4917600" y="3886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 rot="20856000">
              <a:off x="2928600" y="3433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1" name="Group 10"/>
            <p:cNvGrpSpPr/>
            <p:nvPr/>
          </p:nvGrpSpPr>
          <p:grpSpPr>
            <a:xfrm>
              <a:off x="3867120" y="2127600"/>
              <a:ext cx="1706400" cy="1836360"/>
              <a:chOff x="3867120" y="2127600"/>
              <a:chExt cx="1706400" cy="1836360"/>
            </a:xfrm>
          </p:grpSpPr>
          <p:sp>
            <p:nvSpPr>
              <p:cNvPr id="302" name="Rectangle 11"/>
              <p:cNvSpPr/>
              <p:nvPr/>
            </p:nvSpPr>
            <p:spPr>
              <a:xfrm rot="18394200">
                <a:off x="5043960" y="2340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03" name="Group 12"/>
              <p:cNvGrpSpPr/>
              <p:nvPr/>
            </p:nvGrpSpPr>
            <p:grpSpPr>
              <a:xfrm>
                <a:off x="3867120" y="2373120"/>
                <a:ext cx="1609560" cy="1590840"/>
                <a:chOff x="3867120" y="2373120"/>
                <a:chExt cx="1609560" cy="1590840"/>
              </a:xfrm>
            </p:grpSpPr>
            <p:sp>
              <p:nvSpPr>
                <p:cNvPr id="304" name="Oval 13"/>
                <p:cNvSpPr/>
                <p:nvPr/>
              </p:nvSpPr>
              <p:spPr>
                <a:xfrm>
                  <a:off x="3867120" y="2373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3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4"/>
                <p:cNvSpPr/>
                <p:nvPr/>
              </p:nvSpPr>
              <p:spPr>
                <a:xfrm>
                  <a:off x="4051080" y="2399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Text Box 15"/>
              <p:cNvSpPr/>
              <p:nvPr/>
            </p:nvSpPr>
            <p:spPr>
              <a:xfrm>
                <a:off x="3953880" y="3065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6"/>
            <p:cNvGrpSpPr/>
            <p:nvPr/>
          </p:nvGrpSpPr>
          <p:grpSpPr>
            <a:xfrm>
              <a:off x="5276880" y="1444680"/>
              <a:ext cx="891720" cy="861840"/>
              <a:chOff x="5276880" y="1444680"/>
              <a:chExt cx="891720" cy="861840"/>
            </a:xfrm>
          </p:grpSpPr>
          <p:grpSp>
            <p:nvGrpSpPr>
              <p:cNvPr id="308" name="Group 17"/>
              <p:cNvGrpSpPr/>
              <p:nvPr/>
            </p:nvGrpSpPr>
            <p:grpSpPr>
              <a:xfrm>
                <a:off x="5276880" y="1444680"/>
                <a:ext cx="871560" cy="861840"/>
                <a:chOff x="5276880" y="1444680"/>
                <a:chExt cx="871560" cy="861840"/>
              </a:xfrm>
            </p:grpSpPr>
            <p:sp>
              <p:nvSpPr>
                <p:cNvPr id="309" name="Oval 18"/>
                <p:cNvSpPr/>
                <p:nvPr/>
              </p:nvSpPr>
              <p:spPr>
                <a:xfrm>
                  <a:off x="5276880" y="1444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4c9"/>
                    </a:gs>
                    <a:gs pos="100000">
                      <a:srgbClr val="1a3c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19"/>
                <p:cNvSpPr/>
                <p:nvPr/>
              </p:nvSpPr>
              <p:spPr>
                <a:xfrm>
                  <a:off x="5376240" y="1458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984c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Text Box 20"/>
              <p:cNvSpPr/>
              <p:nvPr/>
            </p:nvSpPr>
            <p:spPr>
              <a:xfrm>
                <a:off x="5297400" y="1776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21"/>
            <p:cNvGrpSpPr/>
            <p:nvPr/>
          </p:nvGrpSpPr>
          <p:grpSpPr>
            <a:xfrm>
              <a:off x="1452600" y="2770200"/>
              <a:ext cx="1744560" cy="1790640"/>
              <a:chOff x="1452600" y="2770200"/>
              <a:chExt cx="1744560" cy="1790640"/>
            </a:xfrm>
          </p:grpSpPr>
          <p:grpSp>
            <p:nvGrpSpPr>
              <p:cNvPr id="313" name="Group 22"/>
              <p:cNvGrpSpPr/>
              <p:nvPr/>
            </p:nvGrpSpPr>
            <p:grpSpPr>
              <a:xfrm>
                <a:off x="1452600" y="2770200"/>
                <a:ext cx="1744560" cy="1790640"/>
                <a:chOff x="1452600" y="2770200"/>
                <a:chExt cx="1744560" cy="1790640"/>
              </a:xfrm>
            </p:grpSpPr>
            <p:sp>
              <p:nvSpPr>
                <p:cNvPr id="314" name="Oval 23"/>
                <p:cNvSpPr/>
                <p:nvPr/>
              </p:nvSpPr>
              <p:spPr>
                <a:xfrm>
                  <a:off x="1452600" y="2770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567e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24"/>
                <p:cNvSpPr/>
                <p:nvPr/>
              </p:nvSpPr>
              <p:spPr>
                <a:xfrm>
                  <a:off x="1652040" y="2799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Text Box 25"/>
              <p:cNvSpPr/>
              <p:nvPr/>
            </p:nvSpPr>
            <p:spPr>
              <a:xfrm>
                <a:off x="1546560" y="3565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26"/>
            <p:cNvGrpSpPr/>
            <p:nvPr/>
          </p:nvGrpSpPr>
          <p:grpSpPr>
            <a:xfrm>
              <a:off x="5208480" y="4030560"/>
              <a:ext cx="2013120" cy="1989000"/>
              <a:chOff x="5208480" y="4030560"/>
              <a:chExt cx="2013120" cy="1989000"/>
            </a:xfrm>
          </p:grpSpPr>
          <p:grpSp>
            <p:nvGrpSpPr>
              <p:cNvPr id="318" name="Group 27"/>
              <p:cNvGrpSpPr/>
              <p:nvPr/>
            </p:nvGrpSpPr>
            <p:grpSpPr>
              <a:xfrm>
                <a:off x="5208480" y="4030560"/>
                <a:ext cx="2013120" cy="1989000"/>
                <a:chOff x="5208480" y="4030560"/>
                <a:chExt cx="2013120" cy="1989000"/>
              </a:xfrm>
            </p:grpSpPr>
            <p:sp>
              <p:nvSpPr>
                <p:cNvPr id="319" name="Oval 28"/>
                <p:cNvSpPr/>
                <p:nvPr/>
              </p:nvSpPr>
              <p:spPr>
                <a:xfrm>
                  <a:off x="5208480" y="4030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815b"/>
                    </a:gs>
                    <a:gs pos="100000">
                      <a:srgbClr val="3c46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29"/>
                <p:cNvSpPr/>
                <p:nvPr/>
              </p:nvSpPr>
              <p:spPr>
                <a:xfrm>
                  <a:off x="5438520" y="4063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e8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Text Box 30"/>
              <p:cNvSpPr/>
              <p:nvPr/>
            </p:nvSpPr>
            <p:spPr>
              <a:xfrm>
                <a:off x="5496840" y="4892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24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32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5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7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8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0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41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3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4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6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7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9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333c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1265400" y="1832040"/>
            <a:ext cx="2170080" cy="4034880"/>
            <a:chOff x="1265400" y="1832040"/>
            <a:chExt cx="2170080" cy="4034880"/>
          </a:xfrm>
        </p:grpSpPr>
        <p:sp>
          <p:nvSpPr>
            <p:cNvPr id="368" name="AutoShape 4"/>
            <p:cNvSpPr/>
            <p:nvPr/>
          </p:nvSpPr>
          <p:spPr>
            <a:xfrm>
              <a:off x="12654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AutoShape 5"/>
            <p:cNvSpPr/>
            <p:nvPr/>
          </p:nvSpPr>
          <p:spPr>
            <a:xfrm>
              <a:off x="12988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13161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AutoShape 7"/>
            <p:cNvSpPr/>
            <p:nvPr/>
          </p:nvSpPr>
          <p:spPr>
            <a:xfrm>
              <a:off x="13161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AutoShape 8"/>
            <p:cNvSpPr/>
            <p:nvPr/>
          </p:nvSpPr>
          <p:spPr>
            <a:xfrm>
              <a:off x="12718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AutoShape 9"/>
            <p:cNvSpPr/>
            <p:nvPr/>
          </p:nvSpPr>
          <p:spPr>
            <a:xfrm>
              <a:off x="13161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4" name="Group 10"/>
            <p:cNvGrpSpPr/>
            <p:nvPr/>
          </p:nvGrpSpPr>
          <p:grpSpPr>
            <a:xfrm>
              <a:off x="2009880" y="1832040"/>
              <a:ext cx="642960" cy="642600"/>
              <a:chOff x="2009880" y="1832040"/>
              <a:chExt cx="642960" cy="642600"/>
            </a:xfrm>
          </p:grpSpPr>
          <p:sp>
            <p:nvSpPr>
              <p:cNvPr id="375" name="Oval 11"/>
              <p:cNvSpPr/>
              <p:nvPr/>
            </p:nvSpPr>
            <p:spPr>
              <a:xfrm>
                <a:off x="20098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6" name="Oval 12"/>
              <p:cNvSpPr/>
              <p:nvPr/>
            </p:nvSpPr>
            <p:spPr>
              <a:xfrm>
                <a:off x="20163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7" name="Oval 13"/>
              <p:cNvSpPr/>
              <p:nvPr/>
            </p:nvSpPr>
            <p:spPr>
              <a:xfrm>
                <a:off x="20242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8" name="Oval 14"/>
              <p:cNvSpPr/>
              <p:nvPr/>
            </p:nvSpPr>
            <p:spPr>
              <a:xfrm>
                <a:off x="20307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9" name="Oval 15"/>
              <p:cNvSpPr/>
              <p:nvPr/>
            </p:nvSpPr>
            <p:spPr>
              <a:xfrm>
                <a:off x="20646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80" name="Text Box 16"/>
            <p:cNvSpPr/>
            <p:nvPr/>
          </p:nvSpPr>
          <p:spPr>
            <a:xfrm>
              <a:off x="21499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Text Box 17"/>
            <p:cNvSpPr/>
            <p:nvPr/>
          </p:nvSpPr>
          <p:spPr>
            <a:xfrm>
              <a:off x="13417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2" name="Group 18"/>
          <p:cNvGrpSpPr/>
          <p:nvPr/>
        </p:nvGrpSpPr>
        <p:grpSpPr>
          <a:xfrm>
            <a:off x="3627360" y="1832040"/>
            <a:ext cx="2166840" cy="4034880"/>
            <a:chOff x="3627360" y="1832040"/>
            <a:chExt cx="2166840" cy="4034880"/>
          </a:xfrm>
        </p:grpSpPr>
        <p:sp>
          <p:nvSpPr>
            <p:cNvPr id="383" name="AutoShape 19"/>
            <p:cNvSpPr/>
            <p:nvPr/>
          </p:nvSpPr>
          <p:spPr>
            <a:xfrm>
              <a:off x="36273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20"/>
            <p:cNvSpPr/>
            <p:nvPr/>
          </p:nvSpPr>
          <p:spPr>
            <a:xfrm>
              <a:off x="366048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AutoShape 21"/>
            <p:cNvSpPr/>
            <p:nvPr/>
          </p:nvSpPr>
          <p:spPr>
            <a:xfrm>
              <a:off x="36781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AutoShape 22"/>
            <p:cNvSpPr/>
            <p:nvPr/>
          </p:nvSpPr>
          <p:spPr>
            <a:xfrm>
              <a:off x="36781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437184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437796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438624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439236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442728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28"/>
            <p:cNvSpPr/>
            <p:nvPr/>
          </p:nvSpPr>
          <p:spPr>
            <a:xfrm>
              <a:off x="45118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Text Box 29"/>
            <p:cNvSpPr/>
            <p:nvPr/>
          </p:nvSpPr>
          <p:spPr>
            <a:xfrm>
              <a:off x="3703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AutoShape 30"/>
            <p:cNvSpPr/>
            <p:nvPr/>
          </p:nvSpPr>
          <p:spPr>
            <a:xfrm>
              <a:off x="363024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31"/>
            <p:cNvSpPr/>
            <p:nvPr/>
          </p:nvSpPr>
          <p:spPr>
            <a:xfrm>
              <a:off x="36748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6" name="Group 32"/>
          <p:cNvGrpSpPr/>
          <p:nvPr/>
        </p:nvGrpSpPr>
        <p:grpSpPr>
          <a:xfrm>
            <a:off x="5983200" y="1832040"/>
            <a:ext cx="2170080" cy="4034880"/>
            <a:chOff x="5983200" y="1832040"/>
            <a:chExt cx="2170080" cy="4034880"/>
          </a:xfrm>
        </p:grpSpPr>
        <p:sp>
          <p:nvSpPr>
            <p:cNvPr id="397" name="AutoShape 33"/>
            <p:cNvSpPr/>
            <p:nvPr/>
          </p:nvSpPr>
          <p:spPr>
            <a:xfrm>
              <a:off x="598932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AutoShape 34"/>
            <p:cNvSpPr/>
            <p:nvPr/>
          </p:nvSpPr>
          <p:spPr>
            <a:xfrm>
              <a:off x="60228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AutoShape 35"/>
            <p:cNvSpPr/>
            <p:nvPr/>
          </p:nvSpPr>
          <p:spPr>
            <a:xfrm>
              <a:off x="604008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AutoShape 36"/>
            <p:cNvSpPr/>
            <p:nvPr/>
          </p:nvSpPr>
          <p:spPr>
            <a:xfrm>
              <a:off x="604008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01" name="Group 37"/>
            <p:cNvGrpSpPr/>
            <p:nvPr/>
          </p:nvGrpSpPr>
          <p:grpSpPr>
            <a:xfrm>
              <a:off x="6733800" y="1832040"/>
              <a:ext cx="642960" cy="642600"/>
              <a:chOff x="6733800" y="1832040"/>
              <a:chExt cx="642960" cy="642600"/>
            </a:xfrm>
          </p:grpSpPr>
          <p:sp>
            <p:nvSpPr>
              <p:cNvPr id="402" name="Oval 38"/>
              <p:cNvSpPr/>
              <p:nvPr/>
            </p:nvSpPr>
            <p:spPr>
              <a:xfrm>
                <a:off x="673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3" name="Oval 39"/>
              <p:cNvSpPr/>
              <p:nvPr/>
            </p:nvSpPr>
            <p:spPr>
              <a:xfrm>
                <a:off x="674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4" name="Oval 40"/>
              <p:cNvSpPr/>
              <p:nvPr/>
            </p:nvSpPr>
            <p:spPr>
              <a:xfrm>
                <a:off x="674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5" name="Oval 41"/>
              <p:cNvSpPr/>
              <p:nvPr/>
            </p:nvSpPr>
            <p:spPr>
              <a:xfrm>
                <a:off x="675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6" name="Oval 42"/>
              <p:cNvSpPr/>
              <p:nvPr/>
            </p:nvSpPr>
            <p:spPr>
              <a:xfrm>
                <a:off x="678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07" name="Text Box 43"/>
            <p:cNvSpPr/>
            <p:nvPr/>
          </p:nvSpPr>
          <p:spPr>
            <a:xfrm>
              <a:off x="68742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Text Box 44"/>
            <p:cNvSpPr/>
            <p:nvPr/>
          </p:nvSpPr>
          <p:spPr>
            <a:xfrm>
              <a:off x="606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45"/>
            <p:cNvSpPr/>
            <p:nvPr/>
          </p:nvSpPr>
          <p:spPr>
            <a:xfrm>
              <a:off x="59832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46"/>
            <p:cNvSpPr/>
            <p:nvPr/>
          </p:nvSpPr>
          <p:spPr>
            <a:xfrm>
              <a:off x="60274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2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3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627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00" name="AutoShape 90"/>
            <p:cNvCxnSpPr>
              <a:stCxn id="496" idx="3"/>
              <a:endCxn id="49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1" name="AutoShape 91"/>
            <p:cNvCxnSpPr>
              <a:stCxn id="497" idx="3"/>
              <a:endCxn id="49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05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6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7" name="Group 5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08" name="AutoShape 6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984c9"/>
                  </a:gs>
                  <a:gs pos="100000">
                    <a:srgbClr val="285c8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9" name="Freeform 7"/>
              <p:cNvSpPr/>
              <p:nvPr/>
            </p:nvSpPr>
            <p:spPr>
              <a:xfrm>
                <a:off x="1876320" y="170892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bce2"/>
                  </a:gs>
                  <a:gs pos="50000">
                    <a:srgbClr val="3984c9">
                      <a:alpha val="0"/>
                    </a:srgbClr>
                  </a:gs>
                  <a:gs pos="100000">
                    <a:srgbClr val="93bce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0" name="Text Box 8"/>
              <p:cNvSpPr/>
              <p:nvPr/>
            </p:nvSpPr>
            <p:spPr>
              <a:xfrm>
                <a:off x="1931040" y="19310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1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2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3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4" name="Group 12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15" name="AutoShape 13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a488"/>
                  </a:gs>
                  <a:gs pos="100000">
                    <a:srgbClr val="6e8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6" name="Freeform 14"/>
              <p:cNvSpPr/>
              <p:nvPr/>
            </p:nvSpPr>
            <p:spPr>
              <a:xfrm>
                <a:off x="1876320" y="323928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aba"/>
                  </a:gs>
                  <a:gs pos="100000">
                    <a:srgbClr val="6e815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1931040" y="346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8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9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0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1" name="Group 19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22" name="AutoShape 20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3" name="Freeform 21"/>
              <p:cNvSpPr/>
              <p:nvPr/>
            </p:nvSpPr>
            <p:spPr>
              <a:xfrm>
                <a:off x="1876320" y="477936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d5d9"/>
                  </a:gs>
                  <a:gs pos="100000">
                    <a:srgbClr val="90a8b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4" name="Text Box 22"/>
              <p:cNvSpPr/>
              <p:nvPr/>
            </p:nvSpPr>
            <p:spPr>
              <a:xfrm>
                <a:off x="1931040" y="5002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5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28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2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33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4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35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6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7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9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0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41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2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4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5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6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47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8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0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1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2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838080" y="2057400"/>
          <a:ext cx="7467840" cy="3284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64" name="Group 3"/>
          <p:cNvGrpSpPr/>
          <p:nvPr/>
        </p:nvGrpSpPr>
        <p:grpSpPr>
          <a:xfrm>
            <a:off x="1349280" y="1280520"/>
            <a:ext cx="6575400" cy="4666320"/>
            <a:chOff x="1349280" y="1280520"/>
            <a:chExt cx="6575400" cy="4666320"/>
          </a:xfrm>
        </p:grpSpPr>
        <p:sp>
          <p:nvSpPr>
            <p:cNvPr id="565" name="Oval 4"/>
            <p:cNvSpPr/>
            <p:nvPr/>
          </p:nvSpPr>
          <p:spPr>
            <a:xfrm>
              <a:off x="2362320" y="42908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292929">
                    <a:alpha val="70196"/>
                  </a:srgbClr>
                </a:gs>
                <a:gs pos="100000">
                  <a:srgbClr val="13131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Oval 5"/>
            <p:cNvSpPr/>
            <p:nvPr/>
          </p:nvSpPr>
          <p:spPr>
            <a:xfrm rot="20601600">
              <a:off x="1672920" y="21798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464646"/>
                </a:gs>
                <a:gs pos="50000">
                  <a:srgbClr val="b2b2b2"/>
                </a:gs>
                <a:gs pos="100000">
                  <a:srgbClr val="4646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Oval 6"/>
            <p:cNvSpPr/>
            <p:nvPr/>
          </p:nvSpPr>
          <p:spPr>
            <a:xfrm rot="20601600">
              <a:off x="169200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Arc 7"/>
            <p:cNvSpPr/>
            <p:nvPr/>
          </p:nvSpPr>
          <p:spPr>
            <a:xfrm rot="20601600">
              <a:off x="4349880" y="19047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e815b"/>
                </a:gs>
                <a:gs pos="100000">
                  <a:srgbClr val="9eab92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Arc 8"/>
            <p:cNvSpPr/>
            <p:nvPr/>
          </p:nvSpPr>
          <p:spPr>
            <a:xfrm flipH="1" rot="20602200">
              <a:off x="193716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984c9"/>
                </a:gs>
                <a:gs pos="100000">
                  <a:srgbClr val="23507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Arc 9"/>
            <p:cNvSpPr/>
            <p:nvPr/>
          </p:nvSpPr>
          <p:spPr>
            <a:xfrm rot="20601600">
              <a:off x="287460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2e6272"/>
                </a:gs>
                <a:gs pos="100000">
                  <a:srgbClr val="18343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Arc 10"/>
            <p:cNvSpPr/>
            <p:nvPr/>
          </p:nvSpPr>
          <p:spPr>
            <a:xfrm flipH="1" rot="20602200">
              <a:off x="159156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415f15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Oval 11"/>
            <p:cNvSpPr/>
            <p:nvPr/>
          </p:nvSpPr>
          <p:spPr>
            <a:xfrm rot="20601600">
              <a:off x="315432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cecec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Text Box 12"/>
            <p:cNvSpPr/>
            <p:nvPr/>
          </p:nvSpPr>
          <p:spPr>
            <a:xfrm>
              <a:off x="214524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Text Box 13"/>
            <p:cNvSpPr/>
            <p:nvPr/>
          </p:nvSpPr>
          <p:spPr>
            <a:xfrm>
              <a:off x="4050360" y="219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87916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76" name="Group 15"/>
            <p:cNvGrpSpPr/>
            <p:nvPr/>
          </p:nvGrpSpPr>
          <p:grpSpPr>
            <a:xfrm>
              <a:off x="4514400" y="2466360"/>
              <a:ext cx="3164760" cy="2769120"/>
              <a:chOff x="4514400" y="2466360"/>
              <a:chExt cx="3164760" cy="2769120"/>
            </a:xfrm>
          </p:grpSpPr>
          <p:sp>
            <p:nvSpPr>
              <p:cNvPr id="577" name="Freeform 16"/>
              <p:cNvSpPr/>
              <p:nvPr/>
            </p:nvSpPr>
            <p:spPr>
              <a:xfrm>
                <a:off x="5668920" y="34480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8666b"/>
                  </a:gs>
                  <a:gs pos="100000">
                    <a:srgbClr val="90a8b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Arc 17"/>
              <p:cNvSpPr/>
              <p:nvPr/>
            </p:nvSpPr>
            <p:spPr>
              <a:xfrm rot="20539200">
                <a:off x="4732200" y="28364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9" name="Freeform 18"/>
              <p:cNvSpPr/>
              <p:nvPr/>
            </p:nvSpPr>
            <p:spPr>
              <a:xfrm>
                <a:off x="4803840" y="39243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Text Box 19"/>
              <p:cNvSpPr/>
              <p:nvPr/>
            </p:nvSpPr>
            <p:spPr>
              <a:xfrm>
                <a:off x="5574240" y="37148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81" name="Text Box 20"/>
            <p:cNvSpPr/>
            <p:nvPr/>
          </p:nvSpPr>
          <p:spPr>
            <a:xfrm>
              <a:off x="336456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Freeform 21"/>
            <p:cNvSpPr/>
            <p:nvPr/>
          </p:nvSpPr>
          <p:spPr>
            <a:xfrm>
              <a:off x="464832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e815b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Oval 22"/>
            <p:cNvSpPr/>
            <p:nvPr/>
          </p:nvSpPr>
          <p:spPr>
            <a:xfrm rot="20601600">
              <a:off x="3257640" y="29811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6272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87" name="AutoShape 3"/>
          <p:cNvSpPr/>
          <p:nvPr/>
        </p:nvSpPr>
        <p:spPr>
          <a:xfrm>
            <a:off x="1447920" y="2162160"/>
            <a:ext cx="6248160" cy="411480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3984c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3124080" y="162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2438280" y="3381480"/>
            <a:ext cx="4267440" cy="308592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77ae26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5638680" y="4844880"/>
            <a:ext cx="2438640" cy="16164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2e6272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1" name="Group 7"/>
          <p:cNvGrpSpPr/>
          <p:nvPr/>
        </p:nvGrpSpPr>
        <p:grpSpPr>
          <a:xfrm>
            <a:off x="3371760" y="4924440"/>
            <a:ext cx="2286000" cy="1542960"/>
            <a:chOff x="3371760" y="4924440"/>
            <a:chExt cx="2286000" cy="1542960"/>
          </a:xfrm>
        </p:grpSpPr>
        <p:sp>
          <p:nvSpPr>
            <p:cNvPr id="592" name="AutoShape 8"/>
            <p:cNvSpPr/>
            <p:nvPr/>
          </p:nvSpPr>
          <p:spPr>
            <a:xfrm>
              <a:off x="3371760" y="4924440"/>
              <a:ext cx="2286000" cy="15429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Text Box 9"/>
            <p:cNvSpPr/>
            <p:nvPr/>
          </p:nvSpPr>
          <p:spPr>
            <a:xfrm>
              <a:off x="3756240" y="5550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4" name="Text Box 10"/>
          <p:cNvSpPr/>
          <p:nvPr/>
        </p:nvSpPr>
        <p:spPr>
          <a:xfrm>
            <a:off x="6042240" y="55530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3599640" y="429408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3599640" y="25574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7" name="Group 13"/>
          <p:cNvGrpSpPr/>
          <p:nvPr/>
        </p:nvGrpSpPr>
        <p:grpSpPr>
          <a:xfrm>
            <a:off x="1123920" y="4933800"/>
            <a:ext cx="2286000" cy="1543320"/>
            <a:chOff x="1123920" y="4933800"/>
            <a:chExt cx="2286000" cy="1543320"/>
          </a:xfrm>
        </p:grpSpPr>
        <p:sp>
          <p:nvSpPr>
            <p:cNvPr id="598" name="AutoShape 14"/>
            <p:cNvSpPr/>
            <p:nvPr/>
          </p:nvSpPr>
          <p:spPr>
            <a:xfrm>
              <a:off x="1123920" y="4933800"/>
              <a:ext cx="2286000" cy="154332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Text Box 15"/>
            <p:cNvSpPr/>
            <p:nvPr/>
          </p:nvSpPr>
          <p:spPr>
            <a:xfrm>
              <a:off x="1508400" y="5559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2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3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7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8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d5e5f4"/>
                </a:gs>
                <a:gs pos="100000">
                  <a:srgbClr val="3984c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984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3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e0e4dc"/>
                </a:gs>
                <a:gs pos="100000">
                  <a:srgbClr val="6e81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81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7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8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5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e6272"/>
                    </a:gs>
                    <a:gs pos="100000">
                      <a:srgbClr val="3984c9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e6272"/>
                  </a:gs>
                  <a:gs pos="100000">
                    <a:srgbClr val="3984c9"/>
                  </a:gs>
                </a:gsLst>
                <a:lin ang="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3200400" y="41911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8880" y="1666800"/>
            <a:ext cx="754704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815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Freeform 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7ae26"/>
              </a:gs>
              <a:gs pos="100000">
                <a:srgbClr val="a9cc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Freeform 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e815b"/>
              </a:gs>
              <a:gs pos="100000">
                <a:srgbClr val="d1d7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Group 10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24" name="Group 11"/>
            <p:cNvGrpSpPr/>
            <p:nvPr/>
          </p:nvGrpSpPr>
          <p:grpSpPr>
            <a:xfrm>
              <a:off x="3048120" y="1590480"/>
              <a:ext cx="2998440" cy="1458360"/>
              <a:chOff x="3048120" y="1590480"/>
              <a:chExt cx="2998440" cy="1458360"/>
            </a:xfrm>
          </p:grpSpPr>
          <p:sp>
            <p:nvSpPr>
              <p:cNvPr id="125" name="Oval 12"/>
              <p:cNvSpPr/>
              <p:nvPr/>
            </p:nvSpPr>
            <p:spPr>
              <a:xfrm>
                <a:off x="3080880" y="163692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100000">
                    <a:srgbClr val="353f2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Oval 13"/>
              <p:cNvSpPr/>
              <p:nvPr/>
            </p:nvSpPr>
            <p:spPr>
              <a:xfrm>
                <a:off x="3048120" y="159048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fc7b6"/>
                  </a:gs>
                  <a:gs pos="100000">
                    <a:srgbClr val="6e815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7" name="Oval 14"/>
            <p:cNvSpPr/>
            <p:nvPr/>
          </p:nvSpPr>
          <p:spPr>
            <a:xfrm>
              <a:off x="318960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a3d5d"/>
                </a:gs>
                <a:gs pos="100000">
                  <a:srgbClr val="3984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Oval 15"/>
            <p:cNvSpPr/>
            <p:nvPr/>
          </p:nvSpPr>
          <p:spPr>
            <a:xfrm>
              <a:off x="3224520" y="145548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0"/>
                  </a:srgbClr>
                </a:gs>
                <a:gs pos="100000">
                  <a:srgbClr val="bad4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Oval 16"/>
            <p:cNvSpPr/>
            <p:nvPr/>
          </p:nvSpPr>
          <p:spPr>
            <a:xfrm>
              <a:off x="3251520" y="146844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2d699f"/>
                </a:gs>
                <a:gs pos="100000">
                  <a:srgbClr val="3984c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Oval 17"/>
            <p:cNvSpPr/>
            <p:nvPr/>
          </p:nvSpPr>
          <p:spPr>
            <a:xfrm>
              <a:off x="3383280" y="149544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84c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1" name="Text Box 18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579132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609480" y="1553040"/>
            <a:ext cx="7700400" cy="4816440"/>
            <a:chOff x="609480" y="1553040"/>
            <a:chExt cx="7700400" cy="4816440"/>
          </a:xfrm>
        </p:grpSpPr>
        <p:sp>
          <p:nvSpPr>
            <p:cNvPr id="136" name="Freeform 4"/>
            <p:cNvSpPr/>
            <p:nvPr/>
          </p:nvSpPr>
          <p:spPr>
            <a:xfrm rot="20241600">
              <a:off x="1270800" y="2687040"/>
              <a:ext cx="6403680" cy="25477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Oval 5"/>
            <p:cNvSpPr/>
            <p:nvPr/>
          </p:nvSpPr>
          <p:spPr>
            <a:xfrm rot="20056200">
              <a:off x="4452120" y="254556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Oval 6"/>
            <p:cNvSpPr/>
            <p:nvPr/>
          </p:nvSpPr>
          <p:spPr>
            <a:xfrm rot="20056200">
              <a:off x="7174440" y="2785320"/>
              <a:ext cx="112104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 rot="20056200">
              <a:off x="2930760" y="550908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 rot="20056200">
              <a:off x="5573520" y="4921560"/>
              <a:ext cx="1120680" cy="320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 rot="20056200">
              <a:off x="2050200" y="398700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3823560" y="190512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262d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1"/>
            <p:cNvSpPr/>
            <p:nvPr/>
          </p:nvSpPr>
          <p:spPr>
            <a:xfrm>
              <a:off x="1474920" y="3289680"/>
              <a:ext cx="1199520" cy="11595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229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2298960" y="48315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>
              <a:off x="4893120" y="42591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Oval 14"/>
            <p:cNvSpPr/>
            <p:nvPr/>
          </p:nvSpPr>
          <p:spPr>
            <a:xfrm>
              <a:off x="6600960" y="2111760"/>
              <a:ext cx="1134360" cy="115956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Text Box 15"/>
            <p:cNvSpPr/>
            <p:nvPr/>
          </p:nvSpPr>
          <p:spPr>
            <a:xfrm>
              <a:off x="1722240" y="3705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4143600" y="232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6885360" y="2572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212080" y="4674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2574720" y="5240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3411720" y="3586680"/>
              <a:ext cx="24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2542680" y="2320560"/>
              <a:ext cx="1709640" cy="1314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54" name="AutoShape 22"/>
            <p:cNvCxnSpPr/>
            <p:nvPr/>
          </p:nvCxnSpPr>
          <p:spPr>
            <a:xfrm flipH="1">
              <a:off x="740520" y="2320200"/>
              <a:ext cx="181368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55" name="Text Box 23"/>
            <p:cNvSpPr/>
            <p:nvPr/>
          </p:nvSpPr>
          <p:spPr>
            <a:xfrm>
              <a:off x="609480" y="1905120"/>
              <a:ext cx="21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0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181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e815b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c4631"/>
                  </a:gs>
                  <a:gs pos="50000">
                    <a:srgbClr val="6e815b"/>
                  </a:gs>
                  <a:gs pos="100000">
                    <a:srgbClr val="3c46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0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06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9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0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75112"/>
                </a:gs>
                <a:gs pos="50000">
                  <a:srgbClr val="77ae26"/>
                </a:gs>
                <a:gs pos="100000">
                  <a:srgbClr val="3751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e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39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567e1c"/>
                </a:gs>
                <a:gs pos="50000">
                  <a:srgbClr val="77ae26"/>
                </a:gs>
                <a:gs pos="100000">
                  <a:srgbClr val="567e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505e42"/>
                </a:gs>
                <a:gs pos="50000">
                  <a:srgbClr val="6e815b"/>
                </a:gs>
                <a:gs pos="100000">
                  <a:srgbClr val="505e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87a80"/>
                </a:gs>
                <a:gs pos="50000">
                  <a:srgbClr val="90a8b0"/>
                </a:gs>
                <a:gs pos="100000">
                  <a:srgbClr val="687a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296092"/>
                </a:gs>
                <a:gs pos="50000">
                  <a:srgbClr val="3984c9"/>
                </a:gs>
                <a:gs pos="100000">
                  <a:srgbClr val="29609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7b8c6a">
                  <a:alpha val="32156"/>
                </a:srgbClr>
              </a:gs>
              <a:gs pos="100000">
                <a:srgbClr val="6e81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75112"/>
              </a:gs>
              <a:gs pos="50000">
                <a:srgbClr val="77ae26"/>
              </a:gs>
              <a:gs pos="100000">
                <a:srgbClr val="3751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e81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3c2a"/>
              </a:gs>
              <a:gs pos="50000">
                <a:srgbClr val="6e815b"/>
              </a:gs>
              <a:gs pos="100000">
                <a:srgbClr val="333c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fcdd1">
                  <a:alpha val="32156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48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0a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84144"/>
                </a:gs>
                <a:gs pos="50000">
                  <a:srgbClr val="90a8b0"/>
                </a:gs>
                <a:gs pos="100000">
                  <a:srgbClr val="3841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4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4:51Z</dcterms:created>
  <dc:creator>Admin</dc:creator>
  <dc:description/>
  <dc:language>en-US</dc:language>
  <cp:lastModifiedBy>Anh Hung Pro</cp:lastModifiedBy>
  <dcterms:modified xsi:type="dcterms:W3CDTF">2016-09-06T15:59:52Z</dcterms:modified>
  <cp:revision>3</cp:revision>
  <dc:subject/>
  <dc:title>PowerPoint Template</dc:title>
</cp:coreProperties>
</file>