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1BDCB-C7F9-4AAB-9579-AB3072F56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9F4BB-A5AF-4A9B-B8EC-864F250CE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A310E-D4DC-4002-BA35-92630C24F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7BB36-6196-4E46-828C-780BD55F9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5B0C8-6F0D-4DD3-B63D-CB484B441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3F96F-D6B7-4650-BC98-7103F178F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106EE-9034-49BD-9A31-D9C5ED246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84963-9B8D-43AE-B6DD-4317565BA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FA8D4-05D1-4B23-B407-920560516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9F670-07E3-4C47-BDD0-611294C4A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7C72A-4B33-4CCE-9ACA-2C5D07F40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65CF1-DFEE-4C2F-81D1-71B22D959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72814-52BF-44C9-AA40-CB7000D3DB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920" y="1196640"/>
            <a:ext cx="54007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82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782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782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782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6T00:38:52Z</dcterms:created>
  <dc:creator>Mariajose</dc:creator>
  <dc:description/>
  <dc:language>en-US</dc:language>
  <cp:lastModifiedBy>Mariajose</cp:lastModifiedBy>
  <dcterms:modified xsi:type="dcterms:W3CDTF">2010-04-09T20:40:13Z</dcterms:modified>
  <cp:revision>38</cp:revision>
  <dc:subject/>
  <dc:title>Texto</dc:title>
</cp:coreProperties>
</file>