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891-80DA-47E1-A93F-55EF3BB8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303-A5DF-48F6-9087-7C18F75B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4DE-A5C8-4EB0-95D6-B9BE2EB5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290-6E5D-4A85-A84D-73C17BEB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0DFE-AA5C-4069-811E-EC6A1289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16C5-F27F-4BB7-BE9A-B87AF79E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D1CB-3B51-426C-BD27-38B943A1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467E-3E32-4D18-94A3-F14C172D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5215-9DEF-4781-8D27-0554BD7B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98ED-0498-4C77-871C-E6640F50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EE4A-681F-442F-86B1-C5F7D1EC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079-27F1-41AD-8CA6-D65F296A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7B71-92E5-462C-8208-B5A46F4E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F9EC-1F77-41B0-A52B-28397C97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D13A-8B5B-4224-93B4-0FE4C0CC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18CD-D29D-4B71-B730-A80FA04F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B041-8176-4431-B55C-87EACA95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C42-3DC8-4B06-9150-6BB2831C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16A-52DA-4FBC-BD04-6732D145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E61-723B-4F1C-8778-7E3F8679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30E-6657-4BFB-A5D5-6EB78BD1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27A-ACBC-4EE2-A2C7-5539E607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AE3-14A7-4B1F-AD93-C977957C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3A3-01C3-415F-84B0-89416240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7DF0-109D-4E27-A3A4-5D28009C4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9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D1DA-183B-4F42-B2CC-00C19B621C53}" type="slidenum">
              <a:rPr b="0" lang="en-US" sz="1200" spc="-1" strike="noStrike">
                <a:solidFill>
                  <a:srgbClr val="1d49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4190760"/>
            <a:ext cx="48974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ca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1b05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1b05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85f32"/>
              </a:gs>
              <a:gs pos="50000">
                <a:srgbClr val="c1b05d"/>
              </a:gs>
              <a:gs pos="100000">
                <a:srgbClr val="685f3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b703b"/>
              </a:gs>
              <a:gs pos="100000">
                <a:srgbClr val="c1b05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8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62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e8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3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69e86">
                  <a:alpha val="32156"/>
                </a:srgbClr>
              </a:gs>
              <a:gs pos="100000">
                <a:srgbClr val="2f493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5649"/>
              </a:gs>
              <a:gs pos="50000">
                <a:srgbClr val="669e86"/>
              </a:gs>
              <a:gs pos="100000">
                <a:srgbClr val="37564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16455"/>
              </a:gs>
              <a:gs pos="100000">
                <a:srgbClr val="669e8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8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3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5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77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8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9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2952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8ca35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55627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0" name="Oval 39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2" name="Oval 41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93" name="Group 42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294" name="Oval 43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7" name="Oval 46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8" name="Text Box 47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99" name="Oval 48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f7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0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3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5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6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9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1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2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4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5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37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414b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41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2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47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9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0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6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2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8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89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0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1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2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3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4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9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8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03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04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07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0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1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4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5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16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7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8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9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21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22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25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3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4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5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437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38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39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0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42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3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45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6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7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8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9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50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51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2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3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4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56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57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8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60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61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63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4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5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6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7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68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69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0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1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4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5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6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7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8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9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0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1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cxnSp>
        <p:nvCxnSpPr>
          <p:cNvPr id="485" name="AutoShape 88"/>
          <p:cNvCxnSpPr>
            <a:stCxn id="481" idx="3"/>
            <a:endCxn id="48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6" name="AutoShape 89"/>
          <p:cNvCxnSpPr>
            <a:stCxn id="482" idx="3"/>
            <a:endCxn id="48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7" name="AutoShape 90"/>
          <p:cNvCxnSpPr>
            <a:stCxn id="483" idx="3"/>
            <a:endCxn id="48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0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50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2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0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5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8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09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0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1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2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3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4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15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2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3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4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6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7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716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5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85098"/>
                  </a:srgbClr>
                </a:gs>
                <a:gs pos="100000">
                  <a:srgbClr val="7b70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8c80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5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1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2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3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4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85098"/>
                  </a:srgbClr>
                </a:gs>
                <a:gs pos="100000">
                  <a:srgbClr val="4164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5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4a7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6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8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69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0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1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85098"/>
                  </a:srgbClr>
                </a:gs>
                <a:gs pos="100000">
                  <a:srgbClr val="596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2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6676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7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6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8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716f">
                    <a:alpha val="85098"/>
                  </a:srgbClr>
                </a:gs>
                <a:gs pos="100000">
                  <a:srgbClr val="284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9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16f"/>
                </a:gs>
                <a:gs pos="100000">
                  <a:srgbClr val="2e52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8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8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2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83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523880" y="5181480"/>
            <a:ext cx="664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5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6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ca35f"/>
                  </a:gs>
                  <a:gs pos="100000">
                    <a:srgbClr val="444f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d6b8"/>
                  </a:gs>
                  <a:gs pos="100000">
                    <a:srgbClr val="8ca3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38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0"/>
                  </a:srgbClr>
                </a:gs>
                <a:gs pos="100000">
                  <a:srgbClr val="cadd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17d6a"/>
                </a:gs>
                <a:gs pos="100000">
                  <a:srgbClr val="669e8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e8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46" name="Freeform 4"/>
            <p:cNvSpPr/>
            <p:nvPr/>
          </p:nvSpPr>
          <p:spPr>
            <a:xfrm rot="20241600">
              <a:off x="17726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 rot="20056200">
              <a:off x="47239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 rot="20056200">
              <a:off x="73908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 rot="20056200">
              <a:off x="327600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 rot="20056200">
              <a:off x="586692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 rot="20056200">
              <a:off x="243792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42019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19666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27511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52196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68450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45075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71175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5252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0153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/>
            <p:nvPr/>
          </p:nvCxnSpPr>
          <p:spPr>
            <a:xfrm flipH="1">
              <a:off x="1267560" y="2452320"/>
              <a:ext cx="172620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65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f716f"/>
              </a:gs>
              <a:gs pos="100000">
                <a:srgbClr val="1d343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1d3433">
                  <a:alpha val="12156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14b2c"/>
              </a:gs>
              <a:gs pos="50000">
                <a:srgbClr val="8ca35f"/>
              </a:gs>
              <a:gs pos="100000">
                <a:srgbClr val="414b2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716f"/>
              </a:gs>
              <a:gs pos="100000">
                <a:srgbClr val="85a5a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5a5a4">
                  <a:alpha val="12156"/>
                </a:srgbClr>
              </a:gs>
              <a:gs pos="100000">
                <a:srgbClr val="3f7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7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96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2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5:30Z</dcterms:created>
  <dc:creator>Admin</dc:creator>
  <dc:description/>
  <dc:language>en-US</dc:language>
  <cp:lastModifiedBy>Nga</cp:lastModifiedBy>
  <dcterms:modified xsi:type="dcterms:W3CDTF">2017-09-15T09:01:54Z</dcterms:modified>
  <cp:revision>3</cp:revision>
  <dc:subject/>
  <dc:title>PowerPoint Template</dc:title>
</cp:coreProperties>
</file>