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BF0-0C39-4245-AE7B-E12782D2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53C-C896-4540-8F9A-4CC5FE4D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FFF-6CBC-404C-ADC9-09EC5731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69E-412B-4C81-BEDF-714BECA5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8422-2832-4E2D-94A5-3F781E72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035A-73AB-4ACD-9C74-84A207B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62A9-ACAA-4C0F-8B4F-C19DBD2F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B8B0-1DD0-443B-8372-4D5A59BA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E4F3-CE67-449F-BB4E-23500A84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7A98-FCED-4B8B-A190-AE2AA741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924D-E09A-4A36-A673-B1CE3249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E63-5914-48C5-9A12-1362835B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B8A2-3C40-4A87-9EAF-EFA1EB65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74C7-2CC7-4BCE-9F6F-ECA62387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9C71-797E-49D6-BC53-7A99F6FF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335A-0E25-4AC9-ABE7-90BF2702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F76B-7A26-463B-86FF-ED59C066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5CA-4633-45F1-9CE2-386CFF61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15C-CC31-44A0-8AA8-509C3A9C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D4B-4ADF-45D3-874D-865FA227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FD9-282C-4BC4-874E-81394B53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B1D-5C01-409B-827B-EF75D250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B0E-5A54-46FA-A201-2E2D242C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D05-E903-4B97-9C21-44534B9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3155-E515-4823-BA70-BBB7A62B93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FF73-354B-4AF8-B4AC-7449C81E4F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05000"/>
            <a:ext cx="6705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Slide</a:t>
            </a: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b6322"/>
                </a:solidFill>
                <a:latin typeface="Verdana"/>
              </a:rPr>
              <a:t>PowerPoi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34960" y="3009600"/>
            <a:ext cx="33116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http://blogcongdong.com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106668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e8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5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c59d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c59d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93072"/>
              </a:gs>
              <a:gs pos="50000">
                <a:srgbClr val="4c59d2"/>
              </a:gs>
              <a:gs pos="100000">
                <a:srgbClr val="2930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03985"/>
              </a:gs>
              <a:gs pos="100000">
                <a:srgbClr val="4c59d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0b5c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0b5c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626a"/>
              </a:gs>
              <a:gs pos="50000">
                <a:srgbClr val="a0b5c4"/>
              </a:gs>
              <a:gs pos="100000">
                <a:srgbClr val="57626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737d"/>
              </a:gs>
              <a:gs pos="100000">
                <a:srgbClr val="a0b5c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277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e884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e8848">
                  <a:alpha val="32156"/>
                </a:srgbClr>
              </a:gs>
              <a:gs pos="100000">
                <a:srgbClr val="673f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4a27"/>
              </a:gs>
              <a:gs pos="50000">
                <a:srgbClr val="de8848"/>
              </a:gs>
              <a:gs pos="100000">
                <a:srgbClr val="784a2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d562e"/>
              </a:gs>
              <a:gs pos="100000">
                <a:srgbClr val="de884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287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292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6" name="Text Box 38"/>
          <p:cNvSpPr/>
          <p:nvPr/>
        </p:nvSpPr>
        <p:spPr>
          <a:xfrm>
            <a:off x="16124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08096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5480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990720" y="18288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c59d2"/>
              </a:gs>
              <a:gs pos="100000">
                <a:srgbClr val="85ba5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53341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Oval 35"/>
          <p:cNvSpPr/>
          <p:nvPr/>
        </p:nvSpPr>
        <p:spPr>
          <a:xfrm rot="20876400">
            <a:off x="30114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29433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29638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29811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30733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33609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 rot="20826600">
            <a:off x="11685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Group 42"/>
          <p:cNvGrpSpPr/>
          <p:nvPr/>
        </p:nvGrpSpPr>
        <p:grpSpPr>
          <a:xfrm>
            <a:off x="1092240" y="3276720"/>
            <a:ext cx="1371240" cy="1441080"/>
            <a:chOff x="1092240" y="3276720"/>
            <a:chExt cx="1371240" cy="1441080"/>
          </a:xfrm>
        </p:grpSpPr>
        <p:sp>
          <p:nvSpPr>
            <p:cNvPr id="310" name="Oval 43"/>
            <p:cNvSpPr/>
            <p:nvPr/>
          </p:nvSpPr>
          <p:spPr>
            <a:xfrm>
              <a:off x="10922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11098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Oval 45"/>
            <p:cNvSpPr/>
            <p:nvPr/>
          </p:nvSpPr>
          <p:spPr>
            <a:xfrm>
              <a:off x="11232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Oval 46"/>
            <p:cNvSpPr/>
            <p:nvPr/>
          </p:nvSpPr>
          <p:spPr>
            <a:xfrm>
              <a:off x="11948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Text Box 47"/>
            <p:cNvSpPr/>
            <p:nvPr/>
          </p:nvSpPr>
          <p:spPr>
            <a:xfrm>
              <a:off x="13726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5" name="Oval 48"/>
          <p:cNvSpPr/>
          <p:nvPr/>
        </p:nvSpPr>
        <p:spPr>
          <a:xfrm>
            <a:off x="990720" y="25113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066680" y="190512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1079640" y="1909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1090440" y="19209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1144440" y="19461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1263960" y="2254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2257560" y="19810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2379600" y="14479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2389320" y="145080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2395440" y="145728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2432160" y="14763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2450160" y="1671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533520" y="1447920"/>
            <a:ext cx="7543800" cy="4405320"/>
            <a:chOff x="533520" y="1447920"/>
            <a:chExt cx="7543800" cy="4405320"/>
          </a:xfrm>
        </p:grpSpPr>
        <p:sp>
          <p:nvSpPr>
            <p:cNvPr id="329" name="Oval 4"/>
            <p:cNvSpPr/>
            <p:nvPr/>
          </p:nvSpPr>
          <p:spPr>
            <a:xfrm>
              <a:off x="2454120" y="2147760"/>
              <a:ext cx="3633840" cy="370548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0" name="Group 5"/>
            <p:cNvGrpSpPr/>
            <p:nvPr/>
          </p:nvGrpSpPr>
          <p:grpSpPr>
            <a:xfrm>
              <a:off x="3344760" y="3073320"/>
              <a:ext cx="1852560" cy="1995480"/>
              <a:chOff x="3344760" y="3073320"/>
              <a:chExt cx="1852560" cy="19954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3344760" y="3073320"/>
                <a:ext cx="18525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556440" y="3106440"/>
                <a:ext cx="142920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Text Box 8"/>
            <p:cNvSpPr/>
            <p:nvPr/>
          </p:nvSpPr>
          <p:spPr>
            <a:xfrm>
              <a:off x="3609360" y="385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4" name="Group 9"/>
            <p:cNvGrpSpPr/>
            <p:nvPr/>
          </p:nvGrpSpPr>
          <p:grpSpPr>
            <a:xfrm>
              <a:off x="3894120" y="1790640"/>
              <a:ext cx="617400" cy="615960"/>
              <a:chOff x="3894120" y="1790640"/>
              <a:chExt cx="617400" cy="615960"/>
            </a:xfrm>
          </p:grpSpPr>
          <p:grpSp>
            <p:nvGrpSpPr>
              <p:cNvPr id="335" name="Group 10"/>
              <p:cNvGrpSpPr/>
              <p:nvPr/>
            </p:nvGrpSpPr>
            <p:grpSpPr>
              <a:xfrm>
                <a:off x="3894120" y="1790640"/>
                <a:ext cx="617400" cy="615960"/>
                <a:chOff x="3894120" y="1790640"/>
                <a:chExt cx="617400" cy="615960"/>
              </a:xfrm>
            </p:grpSpPr>
            <p:sp>
              <p:nvSpPr>
                <p:cNvPr id="336" name="Oval 11"/>
                <p:cNvSpPr/>
                <p:nvPr/>
              </p:nvSpPr>
              <p:spPr>
                <a:xfrm>
                  <a:off x="3894120" y="179064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2"/>
                <p:cNvSpPr/>
                <p:nvPr/>
              </p:nvSpPr>
              <p:spPr>
                <a:xfrm>
                  <a:off x="3964680" y="180072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4023360" y="1885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4"/>
            <p:cNvGrpSpPr/>
            <p:nvPr/>
          </p:nvGrpSpPr>
          <p:grpSpPr>
            <a:xfrm>
              <a:off x="3292920" y="4865400"/>
              <a:ext cx="333720" cy="309600"/>
              <a:chOff x="3292920" y="4865400"/>
              <a:chExt cx="333720" cy="309600"/>
            </a:xfrm>
          </p:grpSpPr>
          <p:sp>
            <p:nvSpPr>
              <p:cNvPr id="340" name="Oval 15"/>
              <p:cNvSpPr/>
              <p:nvPr/>
            </p:nvSpPr>
            <p:spPr>
              <a:xfrm rot="18226800">
                <a:off x="3317040" y="5027760"/>
                <a:ext cx="12204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 rot="18226800">
                <a:off x="3480480" y="4888440"/>
                <a:ext cx="12168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7"/>
            <p:cNvGrpSpPr/>
            <p:nvPr/>
          </p:nvGrpSpPr>
          <p:grpSpPr>
            <a:xfrm>
              <a:off x="2727360" y="5135400"/>
              <a:ext cx="617400" cy="642960"/>
              <a:chOff x="2727360" y="5135400"/>
              <a:chExt cx="617400" cy="642960"/>
            </a:xfrm>
          </p:grpSpPr>
          <p:grpSp>
            <p:nvGrpSpPr>
              <p:cNvPr id="343" name="Group 18"/>
              <p:cNvGrpSpPr/>
              <p:nvPr/>
            </p:nvGrpSpPr>
            <p:grpSpPr>
              <a:xfrm>
                <a:off x="2727360" y="5135400"/>
                <a:ext cx="617400" cy="642960"/>
                <a:chOff x="2727360" y="5135400"/>
                <a:chExt cx="617400" cy="642960"/>
              </a:xfrm>
            </p:grpSpPr>
            <p:sp>
              <p:nvSpPr>
                <p:cNvPr id="344" name="Oval 19"/>
                <p:cNvSpPr/>
                <p:nvPr/>
              </p:nvSpPr>
              <p:spPr>
                <a:xfrm>
                  <a:off x="2727360" y="5135400"/>
                  <a:ext cx="61740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0"/>
                <p:cNvSpPr/>
                <p:nvPr/>
              </p:nvSpPr>
              <p:spPr>
                <a:xfrm>
                  <a:off x="2797920" y="5145840"/>
                  <a:ext cx="47628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1"/>
              <p:cNvSpPr/>
              <p:nvPr/>
            </p:nvSpPr>
            <p:spPr>
              <a:xfrm>
                <a:off x="2851560" y="5256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2"/>
            <p:cNvGrpSpPr/>
            <p:nvPr/>
          </p:nvGrpSpPr>
          <p:grpSpPr>
            <a:xfrm>
              <a:off x="5748480" y="3073320"/>
              <a:ext cx="614160" cy="649440"/>
              <a:chOff x="5748480" y="3073320"/>
              <a:chExt cx="614160" cy="649440"/>
            </a:xfrm>
          </p:grpSpPr>
          <p:grpSp>
            <p:nvGrpSpPr>
              <p:cNvPr id="348" name="Group 23"/>
              <p:cNvGrpSpPr/>
              <p:nvPr/>
            </p:nvGrpSpPr>
            <p:grpSpPr>
              <a:xfrm>
                <a:off x="5748480" y="3073320"/>
                <a:ext cx="614160" cy="649440"/>
                <a:chOff x="5748480" y="3073320"/>
                <a:chExt cx="614160" cy="649440"/>
              </a:xfrm>
            </p:grpSpPr>
            <p:sp>
              <p:nvSpPr>
                <p:cNvPr id="349" name="Oval 24"/>
                <p:cNvSpPr/>
                <p:nvPr/>
              </p:nvSpPr>
              <p:spPr>
                <a:xfrm>
                  <a:off x="5748480" y="3073320"/>
                  <a:ext cx="61416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5"/>
                <p:cNvSpPr/>
                <p:nvPr/>
              </p:nvSpPr>
              <p:spPr>
                <a:xfrm>
                  <a:off x="5818680" y="3083760"/>
                  <a:ext cx="47376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26"/>
              <p:cNvSpPr/>
              <p:nvPr/>
            </p:nvSpPr>
            <p:spPr>
              <a:xfrm>
                <a:off x="5860080" y="3162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27"/>
            <p:cNvGrpSpPr/>
            <p:nvPr/>
          </p:nvGrpSpPr>
          <p:grpSpPr>
            <a:xfrm>
              <a:off x="5197320" y="5140440"/>
              <a:ext cx="587520" cy="582480"/>
              <a:chOff x="5197320" y="5140440"/>
              <a:chExt cx="587520" cy="582480"/>
            </a:xfrm>
          </p:grpSpPr>
          <p:grpSp>
            <p:nvGrpSpPr>
              <p:cNvPr id="353" name="Group 28"/>
              <p:cNvGrpSpPr/>
              <p:nvPr/>
            </p:nvGrpSpPr>
            <p:grpSpPr>
              <a:xfrm>
                <a:off x="5197320" y="5140440"/>
                <a:ext cx="587520" cy="582480"/>
                <a:chOff x="5197320" y="5140440"/>
                <a:chExt cx="587520" cy="582480"/>
              </a:xfrm>
            </p:grpSpPr>
            <p:sp>
              <p:nvSpPr>
                <p:cNvPr id="354" name="Oval 29"/>
                <p:cNvSpPr/>
                <p:nvPr/>
              </p:nvSpPr>
              <p:spPr>
                <a:xfrm>
                  <a:off x="5197320" y="514044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0"/>
                <p:cNvSpPr/>
                <p:nvPr/>
              </p:nvSpPr>
              <p:spPr>
                <a:xfrm>
                  <a:off x="5264280" y="514980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31"/>
              <p:cNvSpPr/>
              <p:nvPr/>
            </p:nvSpPr>
            <p:spPr>
              <a:xfrm>
                <a:off x="5316120" y="517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2"/>
            <p:cNvGrpSpPr/>
            <p:nvPr/>
          </p:nvGrpSpPr>
          <p:grpSpPr>
            <a:xfrm>
              <a:off x="2247840" y="3073320"/>
              <a:ext cx="617760" cy="641520"/>
              <a:chOff x="2247840" y="3073320"/>
              <a:chExt cx="617760" cy="641520"/>
            </a:xfrm>
          </p:grpSpPr>
          <p:grpSp>
            <p:nvGrpSpPr>
              <p:cNvPr id="358" name="Group 33"/>
              <p:cNvGrpSpPr/>
              <p:nvPr/>
            </p:nvGrpSpPr>
            <p:grpSpPr>
              <a:xfrm>
                <a:off x="2247840" y="3073320"/>
                <a:ext cx="617760" cy="641520"/>
                <a:chOff x="2247840" y="3073320"/>
                <a:chExt cx="617760" cy="641520"/>
              </a:xfrm>
            </p:grpSpPr>
            <p:sp>
              <p:nvSpPr>
                <p:cNvPr id="359" name="Oval 34"/>
                <p:cNvSpPr/>
                <p:nvPr/>
              </p:nvSpPr>
              <p:spPr>
                <a:xfrm>
                  <a:off x="2247840" y="307332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5"/>
                <p:cNvSpPr/>
                <p:nvPr/>
              </p:nvSpPr>
              <p:spPr>
                <a:xfrm>
                  <a:off x="2318400" y="308376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36"/>
              <p:cNvSpPr/>
              <p:nvPr/>
            </p:nvSpPr>
            <p:spPr>
              <a:xfrm>
                <a:off x="2373480" y="314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2" name="Oval 37"/>
            <p:cNvSpPr/>
            <p:nvPr/>
          </p:nvSpPr>
          <p:spPr>
            <a:xfrm rot="18226800">
              <a:off x="5128920" y="4995360"/>
              <a:ext cx="12204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Oval 38"/>
            <p:cNvSpPr/>
            <p:nvPr/>
          </p:nvSpPr>
          <p:spPr>
            <a:xfrm rot="18226800">
              <a:off x="4992480" y="48538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4" name="Group 39"/>
            <p:cNvGrpSpPr/>
            <p:nvPr/>
          </p:nvGrpSpPr>
          <p:grpSpPr>
            <a:xfrm>
              <a:off x="2910240" y="3478320"/>
              <a:ext cx="376560" cy="239400"/>
              <a:chOff x="2910240" y="3478320"/>
              <a:chExt cx="376560" cy="239400"/>
            </a:xfrm>
          </p:grpSpPr>
          <p:sp>
            <p:nvSpPr>
              <p:cNvPr id="365" name="Oval 40"/>
              <p:cNvSpPr/>
              <p:nvPr/>
            </p:nvSpPr>
            <p:spPr>
              <a:xfrm rot="18226800">
                <a:off x="2934360" y="350100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6" name="Oval 41"/>
              <p:cNvSpPr/>
              <p:nvPr/>
            </p:nvSpPr>
            <p:spPr>
              <a:xfrm rot="18226800">
                <a:off x="3141000" y="3570840"/>
                <a:ext cx="120960" cy="12384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2"/>
            <p:cNvGrpSpPr/>
            <p:nvPr/>
          </p:nvGrpSpPr>
          <p:grpSpPr>
            <a:xfrm>
              <a:off x="4145400" y="2520720"/>
              <a:ext cx="170640" cy="433080"/>
              <a:chOff x="4145400" y="2520720"/>
              <a:chExt cx="170640" cy="433080"/>
            </a:xfrm>
          </p:grpSpPr>
          <p:sp>
            <p:nvSpPr>
              <p:cNvPr id="368" name="Oval 43"/>
              <p:cNvSpPr/>
              <p:nvPr/>
            </p:nvSpPr>
            <p:spPr>
              <a:xfrm rot="18226800">
                <a:off x="4169520" y="254376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Oval 44"/>
              <p:cNvSpPr/>
              <p:nvPr/>
            </p:nvSpPr>
            <p:spPr>
              <a:xfrm rot="18226800">
                <a:off x="4169520" y="2806560"/>
                <a:ext cx="12204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0" name="Oval 45"/>
            <p:cNvSpPr/>
            <p:nvPr/>
          </p:nvSpPr>
          <p:spPr>
            <a:xfrm rot="18226800">
              <a:off x="5489280" y="3525840"/>
              <a:ext cx="122400" cy="1256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Oval 46"/>
            <p:cNvSpPr/>
            <p:nvPr/>
          </p:nvSpPr>
          <p:spPr>
            <a:xfrm rot="18226800">
              <a:off x="5267880" y="3640320"/>
              <a:ext cx="12204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Text Box 47"/>
            <p:cNvSpPr/>
            <p:nvPr/>
          </p:nvSpPr>
          <p:spPr>
            <a:xfrm>
              <a:off x="533520" y="32162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3344760" y="144792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6362640" y="32288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87624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81328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86c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10" name="AutoShape 90"/>
            <p:cNvCxnSpPr>
              <a:stCxn id="506" idx="3"/>
              <a:endCxn id="50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1" name="AutoShape 91"/>
            <p:cNvCxnSpPr>
              <a:stCxn id="507" idx="3"/>
              <a:endCxn id="50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Group 16"/>
          <p:cNvGrpSpPr/>
          <p:nvPr/>
        </p:nvGrpSpPr>
        <p:grpSpPr>
          <a:xfrm>
            <a:off x="1066680" y="1752480"/>
            <a:ext cx="6782040" cy="4006440"/>
            <a:chOff x="1066680" y="1752480"/>
            <a:chExt cx="6782040" cy="4006440"/>
          </a:xfrm>
        </p:grpSpPr>
        <p:sp>
          <p:nvSpPr>
            <p:cNvPr id="515" name="AutoShape 17"/>
            <p:cNvSpPr/>
            <p:nvPr/>
          </p:nvSpPr>
          <p:spPr>
            <a:xfrm>
              <a:off x="106668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f0f7ea"/>
                </a:gs>
              </a:gsLst>
              <a:lin ang="5400000"/>
            </a:gradFill>
            <a:ln w="2556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16" name="Object 18"/>
            <p:cNvGraphicFramePr/>
            <p:nvPr/>
          </p:nvGraphicFramePr>
          <p:xfrm>
            <a:off x="1251360" y="23688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3688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AutoShape 19"/>
            <p:cNvSpPr/>
            <p:nvPr/>
          </p:nvSpPr>
          <p:spPr>
            <a:xfrm>
              <a:off x="137484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149832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AutoShape 21"/>
            <p:cNvSpPr/>
            <p:nvPr/>
          </p:nvSpPr>
          <p:spPr>
            <a:xfrm>
              <a:off x="384084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AutoShape 22"/>
            <p:cNvSpPr/>
            <p:nvPr/>
          </p:nvSpPr>
          <p:spPr>
            <a:xfrm>
              <a:off x="451944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25560">
              <a:solidFill>
                <a:srgbClr val="a0b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22" name="Object 23"/>
            <p:cNvGraphicFramePr/>
            <p:nvPr/>
          </p:nvGraphicFramePr>
          <p:xfrm>
            <a:off x="4704120" y="23688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3688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AutoShape 24"/>
            <p:cNvSpPr/>
            <p:nvPr/>
          </p:nvSpPr>
          <p:spPr>
            <a:xfrm>
              <a:off x="482760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AutoShape 25"/>
            <p:cNvSpPr/>
            <p:nvPr/>
          </p:nvSpPr>
          <p:spPr>
            <a:xfrm>
              <a:off x="495072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AutoShape 26"/>
            <p:cNvSpPr/>
            <p:nvPr/>
          </p:nvSpPr>
          <p:spPr>
            <a:xfrm>
              <a:off x="729360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a0b5c4"/>
              </a:gs>
              <a:gs pos="100000">
                <a:srgbClr val="4a54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6552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de8848"/>
              </a:gs>
              <a:gs pos="100000">
                <a:srgbClr val="673f2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5ba54"/>
              </a:gs>
              <a:gs pos="100000">
                <a:srgbClr val="3e562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 rot="3418800">
            <a:off x="4916160" y="3008160"/>
            <a:ext cx="923760" cy="1003320"/>
          </a:xfrm>
          <a:prstGeom prst="rect">
            <a:avLst/>
          </a:prstGeom>
          <a:gradFill rotWithShape="0">
            <a:gsLst>
              <a:gs pos="0">
                <a:srgbClr val="4c59d2"/>
              </a:gs>
              <a:gs pos="100000">
                <a:srgbClr val="23296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227952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165400"/>
          <a:ext cx="6934320" cy="3168720"/>
        </p:xfrm>
        <a:graphic>
          <a:graphicData uri="http://schemas.openxmlformats.org/drawingml/2006/table">
            <a:tbl>
              <a:tblPr/>
              <a:tblGrid>
                <a:gridCol w="1563840"/>
                <a:gridCol w="1090440"/>
                <a:gridCol w="1070280"/>
                <a:gridCol w="1068120"/>
                <a:gridCol w="1074960"/>
                <a:gridCol w="106668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8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8d96e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9b5f32"/>
                </a:gs>
                <a:gs pos="100000">
                  <a:srgbClr val="de884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b3b9e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3e562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0b5c4">
                    <a:alpha val="19215"/>
                  </a:srgbClr>
                </a:gs>
                <a:gs pos="100000">
                  <a:srgbClr val="6673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07e89"/>
                </a:gs>
                <a:gs pos="100000">
                  <a:srgbClr val="a0b5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5c6871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7e8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676520" y="1828800"/>
          <a:ext cx="5610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61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5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0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e5f2"/>
                </a:gs>
                <a:gs pos="100000">
                  <a:srgbClr val="5086c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4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5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ff3"/>
                </a:gs>
                <a:gs pos="100000">
                  <a:srgbClr val="a0b5c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6"/>
          <p:cNvSpPr txBox="1"/>
          <p:nvPr/>
        </p:nvSpPr>
        <p:spPr>
          <a:xfrm>
            <a:off x="3581280" y="28195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86c2"/>
                    </a:gs>
                    <a:gs pos="100000">
                      <a:srgbClr val="de8848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86c2"/>
                  </a:gs>
                  <a:gs pos="100000">
                    <a:srgbClr val="de8848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435600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91760"/>
            <a:ext cx="722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5ba54"/>
              </a:gs>
              <a:gs pos="100000">
                <a:srgbClr val="b1d3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flipH="1">
            <a:off x="4869000" y="31478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086c2"/>
              </a:gs>
              <a:gs pos="100000">
                <a:srgbClr val="c7d9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139" name="Group 11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140" name="Oval 12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2741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1c9e4"/>
                  </a:gs>
                  <a:gs pos="100000">
                    <a:srgbClr val="5086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2" name="Oval 14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73f21"/>
                </a:gs>
                <a:gs pos="100000">
                  <a:srgbClr val="de88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5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0"/>
                  </a:srgbClr>
                </a:gs>
                <a:gs pos="100000">
                  <a:srgbClr val="f3d5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06c39"/>
                </a:gs>
                <a:gs pos="100000">
                  <a:srgbClr val="de88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88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388296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462b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2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3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c59d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93072"/>
                  </a:gs>
                  <a:gs pos="50000">
                    <a:srgbClr val="4c59d2"/>
                  </a:gs>
                  <a:gs pos="100000">
                    <a:srgbClr val="2930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0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1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5b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0873d"/>
                </a:gs>
                <a:gs pos="50000">
                  <a:srgbClr val="85ba54"/>
                </a:gs>
                <a:gs pos="100000">
                  <a:srgbClr val="6087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74198"/>
                </a:gs>
                <a:gs pos="50000">
                  <a:srgbClr val="4c59d2"/>
                </a:gs>
                <a:gs pos="100000">
                  <a:srgbClr val="3741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0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4838e"/>
                </a:gs>
                <a:gs pos="50000">
                  <a:srgbClr val="a0b5c4"/>
                </a:gs>
                <a:gs pos="100000">
                  <a:srgbClr val="7483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254a"/>
                </a:gs>
                <a:gs pos="50000">
                  <a:srgbClr val="003366"/>
                </a:gs>
                <a:gs pos="100000">
                  <a:srgbClr val="0025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432800" y="1065600"/>
            <a:ext cx="5481000" cy="5149080"/>
            <a:chOff x="1432800" y="1065600"/>
            <a:chExt cx="5481000" cy="5149080"/>
          </a:xfrm>
        </p:grpSpPr>
        <p:sp>
          <p:nvSpPr>
            <p:cNvPr id="246" name="Freeform 19"/>
            <p:cNvSpPr/>
            <p:nvPr/>
          </p:nvSpPr>
          <p:spPr>
            <a:xfrm rot="20805000">
              <a:off x="4400640" y="27990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 rot="5461200">
              <a:off x="2606400" y="2351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 rot="14128200">
              <a:off x="4456800" y="82116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9" name="Group 22"/>
            <p:cNvGrpSpPr/>
            <p:nvPr/>
          </p:nvGrpSpPr>
          <p:grpSpPr>
            <a:xfrm>
              <a:off x="1432800" y="1571040"/>
              <a:ext cx="5481000" cy="4643640"/>
              <a:chOff x="1432800" y="1571040"/>
              <a:chExt cx="5481000" cy="4643640"/>
            </a:xfrm>
          </p:grpSpPr>
          <p:sp>
            <p:nvSpPr>
              <p:cNvPr id="250" name="Freeform 23"/>
              <p:cNvSpPr/>
              <p:nvPr/>
            </p:nvSpPr>
            <p:spPr>
              <a:xfrm>
                <a:off x="4203000" y="289872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24"/>
              <p:cNvSpPr/>
              <p:nvPr/>
            </p:nvSpPr>
            <p:spPr>
              <a:xfrm rot="6256200">
                <a:off x="2606400" y="219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25"/>
              <p:cNvSpPr/>
              <p:nvPr/>
            </p:nvSpPr>
            <p:spPr>
              <a:xfrm rot="14922600">
                <a:off x="4584240" y="105048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3692520" y="2862360"/>
              <a:ext cx="1339920" cy="1338120"/>
              <a:chOff x="3692520" y="2862360"/>
              <a:chExt cx="1339920" cy="1338120"/>
            </a:xfrm>
          </p:grpSpPr>
          <p:sp>
            <p:nvSpPr>
              <p:cNvPr id="254" name="Oval 27"/>
              <p:cNvSpPr/>
              <p:nvPr/>
            </p:nvSpPr>
            <p:spPr>
              <a:xfrm>
                <a:off x="3692520" y="286236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28"/>
              <p:cNvSpPr/>
              <p:nvPr/>
            </p:nvSpPr>
            <p:spPr>
              <a:xfrm>
                <a:off x="3845520" y="288432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6" name="Text Box 29"/>
            <p:cNvSpPr/>
            <p:nvPr/>
          </p:nvSpPr>
          <p:spPr>
            <a:xfrm>
              <a:off x="3888000" y="33530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1773360" y="3052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4968720" y="22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03720" y="4775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6:22Z</dcterms:created>
  <dc:creator>Admin</dc:creator>
  <dc:description/>
  <dc:language>en-US</dc:language>
  <cp:lastModifiedBy>Anh Hung Pro</cp:lastModifiedBy>
  <dcterms:modified xsi:type="dcterms:W3CDTF">2016-09-08T15:07:46Z</dcterms:modified>
  <cp:revision>3</cp:revision>
  <dc:subject/>
  <dc:title>PowerPoint Template</dc:title>
</cp:coreProperties>
</file>