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B7D-4EB9-4734-8E01-98903D48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605-8290-41AC-B082-5115F2D5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606-335E-402A-B017-A7F0522F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8EF-B50B-416C-9143-23C40C6B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6184-D8F6-4F13-9C93-27EA4641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5B00-4D68-4DAA-8ED9-C447E91B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20AE-1A50-4187-971F-CBA1C60D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50D1-0E79-4EE5-8AC5-0A7B1263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6E38-9183-4C03-825A-E9CD58DC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D9FB-CE60-41C3-9703-C61FD9FE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265B-B1F5-424D-BF1C-375B5980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2F3-636B-4D81-BC5D-6D1DCE3F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AD2C-6FCE-46A6-B4C3-1CA55F41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8D1A-1BC3-4D5F-8566-24588C73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0CE8-2F6E-4DE6-99F6-08C273D2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D232-95E4-46C5-8A5E-36D6743A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87CC-684C-49C7-BB73-D08ADD20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A17-AEBA-48B5-AF17-F928DB78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69B-2FA9-4A66-B46A-4A80B4B0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555-A6D8-48B1-8001-9D63DB69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A25-004F-405A-83BC-127D3111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CA4-FB3D-4224-8811-90A50D76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656-CEFF-467B-84D3-5599C671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43C-F6C7-4155-BB46-81ED0BD9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3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699de9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7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4" name="AutoShape 38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39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40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41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FF57-97C5-4015-AD50-EB7242287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1"/>
          <p:cNvSpPr/>
          <p:nvPr/>
        </p:nvSpPr>
        <p:spPr>
          <a:xfrm>
            <a:off x="0" y="3481560"/>
            <a:ext cx="9155160" cy="3376440"/>
          </a:xfrm>
          <a:custGeom>
            <a:avLst/>
            <a:gdLst/>
            <a:ahLst/>
            <a:rect l="l" t="t" r="r" b="b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2"/>
          <p:cNvSpPr/>
          <p:nvPr/>
        </p:nvSpPr>
        <p:spPr>
          <a:xfrm rot="20584200">
            <a:off x="-141120" y="5310000"/>
            <a:ext cx="2541600" cy="572760"/>
          </a:xfrm>
          <a:prstGeom prst="parallelogram">
            <a:avLst>
              <a:gd name="adj" fmla="val 3007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3"/>
          <p:cNvSpPr/>
          <p:nvPr/>
        </p:nvSpPr>
        <p:spPr>
          <a:xfrm rot="20584200">
            <a:off x="2153880" y="46098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4"/>
          <p:cNvSpPr/>
          <p:nvPr/>
        </p:nvSpPr>
        <p:spPr>
          <a:xfrm rot="20584200">
            <a:off x="4448160" y="39085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5"/>
          <p:cNvSpPr/>
          <p:nvPr/>
        </p:nvSpPr>
        <p:spPr>
          <a:xfrm rot="20584200">
            <a:off x="6751800" y="32065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5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A7B0-9D95-4B04-B00A-7AD5AE667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9de9"/>
                </a:solidFill>
                <a:latin typeface="Arial"/>
              </a:rPr>
              <a:t>Slide PowerPoint Đẹp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578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62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72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7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7476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54864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"/>
          <p:cNvSpPr/>
          <p:nvPr/>
        </p:nvSpPr>
        <p:spPr>
          <a:xfrm rot="20876400">
            <a:off x="316404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6"/>
          <p:cNvSpPr/>
          <p:nvPr/>
        </p:nvSpPr>
        <p:spPr>
          <a:xfrm>
            <a:off x="309564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7"/>
          <p:cNvSpPr/>
          <p:nvPr/>
        </p:nvSpPr>
        <p:spPr>
          <a:xfrm>
            <a:off x="311616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8"/>
          <p:cNvSpPr/>
          <p:nvPr/>
        </p:nvSpPr>
        <p:spPr>
          <a:xfrm>
            <a:off x="313380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9"/>
          <p:cNvSpPr/>
          <p:nvPr/>
        </p:nvSpPr>
        <p:spPr>
          <a:xfrm>
            <a:off x="3225960" y="382284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351324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1"/>
          <p:cNvSpPr/>
          <p:nvPr/>
        </p:nvSpPr>
        <p:spPr>
          <a:xfrm rot="20826600">
            <a:off x="132084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2"/>
          <p:cNvGrpSpPr/>
          <p:nvPr/>
        </p:nvGrpSpPr>
        <p:grpSpPr>
          <a:xfrm>
            <a:off x="1244520" y="3371760"/>
            <a:ext cx="1371240" cy="1441080"/>
            <a:chOff x="1244520" y="3371760"/>
            <a:chExt cx="1371240" cy="1441080"/>
          </a:xfrm>
        </p:grpSpPr>
        <p:sp>
          <p:nvSpPr>
            <p:cNvPr id="298" name="Oval 43"/>
            <p:cNvSpPr/>
            <p:nvPr/>
          </p:nvSpPr>
          <p:spPr>
            <a:xfrm>
              <a:off x="124452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126216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127548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134712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152496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Oval 48"/>
          <p:cNvSpPr/>
          <p:nvPr/>
        </p:nvSpPr>
        <p:spPr>
          <a:xfrm>
            <a:off x="12049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9"/>
          <p:cNvSpPr/>
          <p:nvPr/>
        </p:nvSpPr>
        <p:spPr>
          <a:xfrm>
            <a:off x="128124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0"/>
          <p:cNvSpPr/>
          <p:nvPr/>
        </p:nvSpPr>
        <p:spPr>
          <a:xfrm>
            <a:off x="12938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1"/>
          <p:cNvSpPr/>
          <p:nvPr/>
        </p:nvSpPr>
        <p:spPr>
          <a:xfrm>
            <a:off x="1305000" y="20160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2"/>
          <p:cNvSpPr/>
          <p:nvPr/>
        </p:nvSpPr>
        <p:spPr>
          <a:xfrm>
            <a:off x="135900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3"/>
          <p:cNvSpPr/>
          <p:nvPr/>
        </p:nvSpPr>
        <p:spPr>
          <a:xfrm>
            <a:off x="14781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4"/>
          <p:cNvSpPr/>
          <p:nvPr/>
        </p:nvSpPr>
        <p:spPr>
          <a:xfrm>
            <a:off x="2471760" y="213372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5"/>
          <p:cNvSpPr/>
          <p:nvPr/>
        </p:nvSpPr>
        <p:spPr>
          <a:xfrm>
            <a:off x="2593800" y="1600200"/>
            <a:ext cx="68292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6"/>
          <p:cNvSpPr/>
          <p:nvPr/>
        </p:nvSpPr>
        <p:spPr>
          <a:xfrm>
            <a:off x="2603520" y="160344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7"/>
          <p:cNvSpPr/>
          <p:nvPr/>
        </p:nvSpPr>
        <p:spPr>
          <a:xfrm>
            <a:off x="2610000" y="16095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8"/>
          <p:cNvSpPr/>
          <p:nvPr/>
        </p:nvSpPr>
        <p:spPr>
          <a:xfrm>
            <a:off x="2646360" y="16286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9"/>
          <p:cNvSpPr/>
          <p:nvPr/>
        </p:nvSpPr>
        <p:spPr>
          <a:xfrm>
            <a:off x="2664360" y="1824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4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7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30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33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6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9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6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0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7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5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9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4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7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8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1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4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20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5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6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9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7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2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3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6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9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5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60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1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4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7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3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AutoShape 88"/>
          <p:cNvCxnSpPr>
            <a:stCxn id="485" idx="3"/>
            <a:endCxn id="486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89"/>
          <p:cNvCxnSpPr>
            <a:stCxn id="486" idx="3"/>
            <a:endCxn id="487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AutoShape 90"/>
          <p:cNvCxnSpPr>
            <a:stCxn id="487" idx="3"/>
            <a:endCxn id="488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93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5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7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3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9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685800" y="1905120"/>
          <a:ext cx="7691400" cy="3492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5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c4c5f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b6d68f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59723a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bfdb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55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ecf0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399b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9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6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3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f0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0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8ed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2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6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6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0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3"/>
          <p:cNvSpPr txBox="1"/>
          <p:nvPr/>
        </p:nvSpPr>
        <p:spPr>
          <a:xfrm>
            <a:off x="1835280" y="1371600"/>
            <a:ext cx="583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838080" y="2286000"/>
            <a:ext cx="7910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3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4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bdbdb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91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6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0" y="190512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e2e9fe"/>
              </a:gs>
              <a:gs pos="100000">
                <a:srgbClr val="699d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09480" y="2514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09480" y="3657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09480" y="4800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5053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3:37Z</dcterms:created>
  <dc:creator>Admin</dc:creator>
  <dc:description/>
  <dc:language>en-US</dc:language>
  <cp:lastModifiedBy>Anh Hung Pro</cp:lastModifiedBy>
  <dcterms:modified xsi:type="dcterms:W3CDTF">2016-09-06T14:23:22Z</dcterms:modified>
  <cp:revision>2</cp:revision>
  <dc:subject/>
  <dc:title>PowerPoint Template</dc:title>
</cp:coreProperties>
</file>