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E9A-85F0-4BB4-A38A-635E24CB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F40F-6E45-4C54-8853-4516173C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B10-9AB3-45B4-AE38-575151FC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0088-A910-4067-8B23-73C82CD4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E785-E045-49DA-BD9A-A6B7311A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76B7-2A19-46B1-9CBC-92FB1046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6294-F421-4EB5-894B-EDB63A17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7E1D-0A06-45FA-89DB-AE8213A2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5D01-619C-4695-A2D8-51436419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376D-32AA-47A7-ABEA-92F4B78A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DB12-D091-456D-B14D-C6D431C5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900-65F7-4F86-9844-2AFD98A4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7A53-D82D-457B-A4E4-08CAC711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D98A-6E68-40D2-A3BF-FA96E47A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2795-FDBC-42B7-B833-60E6CB06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E8D8-6D3E-43CD-8B60-B8B0EDFB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EECF-31D1-45DF-8EDF-0F8E13F5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A6D-A247-4F4C-BA7B-356B466B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D4BD-D040-41AF-80C2-58E5FEB1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3AAA-4A90-4971-ACE6-E7BCAB24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51EF-9289-421E-9381-C81B4CB3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814-0D46-4861-A7EF-0B123E39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DA3-D4F8-4FB9-BF1B-A2BF72C2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D12-E6C5-46BD-9A01-EBC481BA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7F24-17F7-4FB4-B19E-65B98F0E61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3E76-4E1F-4D99-819F-9E35FFCBC540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3948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344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732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3640" cy="178344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5080" cy="178344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344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344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048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01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5320"/>
            <a:ext cx="6437160" cy="1388880"/>
            <a:chOff x="1112040" y="1705320"/>
            <a:chExt cx="6437160" cy="138888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3080" y="18633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960" y="18633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636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220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220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220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400" cy="2705400"/>
              <a:chOff x="3051000" y="1905120"/>
              <a:chExt cx="296640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080" y="2952000"/>
                <a:ext cx="46188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160" y="2901240"/>
                <a:ext cx="4586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600" y="4304880"/>
                <a:ext cx="4503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63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89840" y="2040480"/>
                <a:ext cx="21038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83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3680" y="2166480"/>
                <a:ext cx="18568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24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24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8:34Z</dcterms:created>
  <dc:creator>Admin</dc:creator>
  <dc:description/>
  <dc:language>en-US</dc:language>
  <cp:lastModifiedBy>Nga</cp:lastModifiedBy>
  <dcterms:modified xsi:type="dcterms:W3CDTF">2017-09-15T08:57:41Z</dcterms:modified>
  <cp:revision>3</cp:revision>
  <dc:subject/>
  <dc:title> PowerPoint Template</dc:title>
</cp:coreProperties>
</file>