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BBFE-CB5C-4660-84A3-88F641A5E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4C72-E5FC-4801-9307-44E1738A3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764F-A7F6-49D2-BBF4-C4D0A6C57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B334-40B1-4E29-8293-5816815DA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D4366-8E80-4AE0-9537-C70891DB7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EEF48-3DD7-40AD-8BE6-B84046C16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5CF64-1F73-4EE8-B6E6-096CC8F41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8C988-213B-4262-AFEF-434A850F0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B0532-B526-4DD6-938C-4D17F514D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142640" y="380880"/>
            <a:ext cx="67057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101A6-227C-46CC-8D11-B5E6A5AD4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0A7B1-5DDC-4F07-8FC2-90518FC4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EAFA-9385-4E62-B693-4CB5D51B5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7D4EE-4B3A-47F9-BC67-DB0A3753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07799-8B89-47F9-85B7-8C89F1F6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0ABFA-E4A6-4AAF-8726-5B7BCE5FC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07154-E00A-437F-B9A7-420D49D15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C88E6-D967-4256-A894-B100CBCC9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3F57-D5AA-425E-9F52-C4A20E6CD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F81A-266E-4746-95B9-70D53F0D1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DB17-8344-4D21-932C-5AFDDF558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142640" y="380880"/>
            <a:ext cx="67057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347D-4355-4EAB-A343-C60C10C6F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2323-590C-4C61-A1EF-5C2088EC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3F17-DAA7-41F7-952E-FA92A30B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C91D-4B9D-4D03-A2EC-B48C9B25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5"/>
          <p:cNvSpPr/>
          <p:nvPr/>
        </p:nvSpPr>
        <p:spPr>
          <a:xfrm>
            <a:off x="-9360" y="344520"/>
            <a:ext cx="8194680" cy="633240"/>
          </a:xfrm>
          <a:custGeom>
            <a:avLst/>
            <a:gdLst/>
            <a:ahLst/>
            <a:rect l="l" t="t" r="r" b="b"/>
            <a:pathLst>
              <a:path w="5049" h="1471">
                <a:moveTo>
                  <a:pt x="0" y="0"/>
                </a:moveTo>
                <a:lnTo>
                  <a:pt x="5049" y="2"/>
                </a:lnTo>
                <a:lnTo>
                  <a:pt x="5048" y="1458"/>
                </a:lnTo>
                <a:lnTo>
                  <a:pt x="0" y="1471"/>
                </a:lnTo>
                <a:lnTo>
                  <a:pt x="0" y="0"/>
                </a:lnTo>
                <a:close/>
              </a:path>
            </a:pathLst>
          </a:custGeom>
          <a:solidFill>
            <a:srgbClr val="5086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" name="Group 16"/>
          <p:cNvGrpSpPr/>
          <p:nvPr/>
        </p:nvGrpSpPr>
        <p:grpSpPr>
          <a:xfrm>
            <a:off x="8153280" y="0"/>
            <a:ext cx="990720" cy="6858000"/>
            <a:chOff x="8153280" y="0"/>
            <a:chExt cx="990720" cy="6858000"/>
          </a:xfrm>
        </p:grpSpPr>
        <p:sp>
          <p:nvSpPr>
            <p:cNvPr id="2" name="Rectangle 17"/>
            <p:cNvSpPr/>
            <p:nvPr/>
          </p:nvSpPr>
          <p:spPr>
            <a:xfrm>
              <a:off x="8155800" y="0"/>
              <a:ext cx="987840" cy="6858000"/>
            </a:xfrm>
            <a:prstGeom prst="rect">
              <a:avLst/>
            </a:prstGeom>
            <a:solidFill>
              <a:srgbClr val="a0b5c4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" name="Rectangle 18"/>
            <p:cNvSpPr/>
            <p:nvPr/>
          </p:nvSpPr>
          <p:spPr>
            <a:xfrm>
              <a:off x="8153280" y="347760"/>
              <a:ext cx="990720" cy="62388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" name="AutoShape 19"/>
          <p:cNvSpPr/>
          <p:nvPr/>
        </p:nvSpPr>
        <p:spPr>
          <a:xfrm>
            <a:off x="7696080" y="5943600"/>
            <a:ext cx="609840" cy="533520"/>
          </a:xfrm>
          <a:prstGeom prst="hexagon">
            <a:avLst>
              <a:gd name="adj" fmla="val 28576"/>
              <a:gd name="vf" fmla="val 115470"/>
            </a:avLst>
          </a:prstGeom>
          <a:solidFill>
            <a:srgbClr val="5086c2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AutoShape 20"/>
          <p:cNvSpPr/>
          <p:nvPr/>
        </p:nvSpPr>
        <p:spPr>
          <a:xfrm>
            <a:off x="8229600" y="5638680"/>
            <a:ext cx="609480" cy="533520"/>
          </a:xfrm>
          <a:prstGeom prst="hexagon">
            <a:avLst>
              <a:gd name="adj" fmla="val 28559"/>
              <a:gd name="vf" fmla="val 115470"/>
            </a:avLst>
          </a:prstGeom>
          <a:solidFill>
            <a:srgbClr val="5086c2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AutoShape 21"/>
          <p:cNvSpPr/>
          <p:nvPr/>
        </p:nvSpPr>
        <p:spPr>
          <a:xfrm>
            <a:off x="8220240" y="6229440"/>
            <a:ext cx="609480" cy="533160"/>
          </a:xfrm>
          <a:prstGeom prst="hexagon">
            <a:avLst>
              <a:gd name="adj" fmla="val 28579"/>
              <a:gd name="vf" fmla="val 115470"/>
            </a:avLst>
          </a:prstGeom>
          <a:solidFill>
            <a:srgbClr val="5086c2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5196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8286840" y="6386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55045-2795-4800-B544-C12896411D0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" name="Group 22"/>
          <p:cNvGrpSpPr/>
          <p:nvPr/>
        </p:nvGrpSpPr>
        <p:grpSpPr>
          <a:xfrm>
            <a:off x="152280" y="228600"/>
            <a:ext cx="838080" cy="837720"/>
            <a:chOff x="152280" y="228600"/>
            <a:chExt cx="838080" cy="837720"/>
          </a:xfrm>
        </p:grpSpPr>
        <p:sp>
          <p:nvSpPr>
            <p:cNvPr id="12" name="AutoShape 23"/>
            <p:cNvSpPr/>
            <p:nvPr/>
          </p:nvSpPr>
          <p:spPr>
            <a:xfrm>
              <a:off x="152280" y="427680"/>
              <a:ext cx="473400" cy="418680"/>
            </a:xfrm>
            <a:prstGeom prst="hexagon">
              <a:avLst>
                <a:gd name="adj" fmla="val 28267"/>
                <a:gd name="vf" fmla="val 115470"/>
              </a:avLst>
            </a:prstGeom>
            <a:solidFill>
              <a:srgbClr val="4c59d2"/>
            </a:solidFill>
            <a:ln w="28440">
              <a:solidFill>
                <a:srgbClr val="ffffff"/>
              </a:solidFill>
              <a:miter/>
            </a:ln>
            <a:effectLst>
              <a:outerShdw dist="52300" dir="836435" blurRad="0" rotWithShape="0">
                <a:srgbClr val="6666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" name="AutoShape 24"/>
            <p:cNvSpPr/>
            <p:nvPr/>
          </p:nvSpPr>
          <p:spPr>
            <a:xfrm>
              <a:off x="516960" y="228600"/>
              <a:ext cx="473400" cy="418680"/>
            </a:xfrm>
            <a:prstGeom prst="hexagon">
              <a:avLst>
                <a:gd name="adj" fmla="val 28267"/>
                <a:gd name="vf" fmla="val 115470"/>
              </a:avLst>
            </a:prstGeom>
            <a:solidFill>
              <a:srgbClr val="85ba54"/>
            </a:solidFill>
            <a:ln w="28440">
              <a:solidFill>
                <a:srgbClr val="ffffff"/>
              </a:solidFill>
              <a:miter/>
            </a:ln>
            <a:effectLst>
              <a:outerShdw dist="52300" dir="836435" blurRad="0" rotWithShape="0">
                <a:srgbClr val="6666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" name="AutoShape 25"/>
            <p:cNvSpPr/>
            <p:nvPr/>
          </p:nvSpPr>
          <p:spPr>
            <a:xfrm>
              <a:off x="516960" y="647280"/>
              <a:ext cx="473400" cy="419040"/>
            </a:xfrm>
            <a:prstGeom prst="hexagon">
              <a:avLst>
                <a:gd name="adj" fmla="val 28243"/>
                <a:gd name="vf" fmla="val 115470"/>
              </a:avLst>
            </a:prstGeom>
            <a:solidFill>
              <a:srgbClr val="de8848"/>
            </a:solidFill>
            <a:ln w="28440">
              <a:solidFill>
                <a:srgbClr val="ffffff"/>
              </a:solidFill>
              <a:miter/>
            </a:ln>
            <a:effectLst>
              <a:outerShdw dist="52300" dir="836435" blurRad="0" rotWithShape="0">
                <a:srgbClr val="6666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" name="PlaceHolder 5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7"/>
          <p:cNvSpPr/>
          <p:nvPr/>
        </p:nvSpPr>
        <p:spPr>
          <a:xfrm>
            <a:off x="8004240" y="0"/>
            <a:ext cx="1139760" cy="6858000"/>
          </a:xfrm>
          <a:prstGeom prst="rect">
            <a:avLst/>
          </a:prstGeom>
          <a:solidFill>
            <a:srgbClr val="c0c0c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Rectangle 18"/>
          <p:cNvSpPr/>
          <p:nvPr/>
        </p:nvSpPr>
        <p:spPr>
          <a:xfrm>
            <a:off x="0" y="4638600"/>
            <a:ext cx="9144000" cy="2219400"/>
          </a:xfrm>
          <a:prstGeom prst="rect">
            <a:avLst/>
          </a:prstGeom>
          <a:solidFill>
            <a:srgbClr val="a0b5c4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Rectangle 19"/>
          <p:cNvSpPr/>
          <p:nvPr/>
        </p:nvSpPr>
        <p:spPr>
          <a:xfrm>
            <a:off x="0" y="2149560"/>
            <a:ext cx="9144000" cy="2498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Freeform 20"/>
          <p:cNvSpPr/>
          <p:nvPr/>
        </p:nvSpPr>
        <p:spPr>
          <a:xfrm>
            <a:off x="-9360" y="2138400"/>
            <a:ext cx="8015040" cy="2271600"/>
          </a:xfrm>
          <a:custGeom>
            <a:avLst/>
            <a:gdLst/>
            <a:ahLst/>
            <a:rect l="l" t="t" r="r" b="b"/>
            <a:pathLst>
              <a:path w="5049" h="1471">
                <a:moveTo>
                  <a:pt x="0" y="0"/>
                </a:moveTo>
                <a:lnTo>
                  <a:pt x="5049" y="2"/>
                </a:lnTo>
                <a:lnTo>
                  <a:pt x="5048" y="1458"/>
                </a:lnTo>
                <a:lnTo>
                  <a:pt x="0" y="1471"/>
                </a:lnTo>
                <a:lnTo>
                  <a:pt x="0" y="0"/>
                </a:lnTo>
                <a:close/>
              </a:path>
            </a:pathLst>
          </a:custGeom>
          <a:solidFill>
            <a:srgbClr val="a0b5c4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AutoShape 21"/>
          <p:cNvSpPr/>
          <p:nvPr/>
        </p:nvSpPr>
        <p:spPr>
          <a:xfrm>
            <a:off x="7696080" y="5943600"/>
            <a:ext cx="609840" cy="533520"/>
          </a:xfrm>
          <a:prstGeom prst="hexagon">
            <a:avLst>
              <a:gd name="adj" fmla="val 28576"/>
              <a:gd name="vf" fmla="val 115470"/>
            </a:avLst>
          </a:prstGeom>
          <a:solidFill>
            <a:srgbClr val="5086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AutoShape 22"/>
          <p:cNvSpPr/>
          <p:nvPr/>
        </p:nvSpPr>
        <p:spPr>
          <a:xfrm>
            <a:off x="8229600" y="5638680"/>
            <a:ext cx="609480" cy="533520"/>
          </a:xfrm>
          <a:prstGeom prst="hexagon">
            <a:avLst>
              <a:gd name="adj" fmla="val 28559"/>
              <a:gd name="vf" fmla="val 115470"/>
            </a:avLst>
          </a:prstGeom>
          <a:solidFill>
            <a:srgbClr val="5086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AutoShape 23"/>
          <p:cNvSpPr/>
          <p:nvPr/>
        </p:nvSpPr>
        <p:spPr>
          <a:xfrm>
            <a:off x="8220240" y="6229440"/>
            <a:ext cx="609480" cy="533160"/>
          </a:xfrm>
          <a:prstGeom prst="hexagon">
            <a:avLst>
              <a:gd name="adj" fmla="val 28579"/>
              <a:gd name="vf" fmla="val 115470"/>
            </a:avLst>
          </a:prstGeom>
          <a:solidFill>
            <a:srgbClr val="5086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304920" y="22860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86c2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60" name="Group 116"/>
          <p:cNvGrpSpPr/>
          <p:nvPr/>
        </p:nvGrpSpPr>
        <p:grpSpPr>
          <a:xfrm>
            <a:off x="190440" y="2324160"/>
            <a:ext cx="3276720" cy="3314520"/>
            <a:chOff x="190440" y="2324160"/>
            <a:chExt cx="3276720" cy="3314520"/>
          </a:xfrm>
        </p:grpSpPr>
        <p:sp>
          <p:nvSpPr>
            <p:cNvPr id="61" name="AutoShape 113"/>
            <p:cNvSpPr/>
            <p:nvPr/>
          </p:nvSpPr>
          <p:spPr>
            <a:xfrm>
              <a:off x="190440" y="3162240"/>
              <a:ext cx="1752840" cy="1600200"/>
            </a:xfrm>
            <a:prstGeom prst="hexagon">
              <a:avLst>
                <a:gd name="adj" fmla="val 27385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28440">
              <a:solidFill>
                <a:srgbClr val="ffffff"/>
              </a:solidFill>
              <a:miter/>
            </a:ln>
            <a:effectLst>
              <a:outerShdw dist="125228" dir="1434739" blurRad="0" rotWithShape="0">
                <a:srgbClr val="c0c0c0">
                  <a:alpha val="32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" name="AutoShape 114"/>
            <p:cNvSpPr/>
            <p:nvPr/>
          </p:nvSpPr>
          <p:spPr>
            <a:xfrm>
              <a:off x="1638360" y="2324160"/>
              <a:ext cx="1828800" cy="1600200"/>
            </a:xfrm>
            <a:prstGeom prst="hexagon">
              <a:avLst>
                <a:gd name="adj" fmla="val 28571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28440">
              <a:solidFill>
                <a:srgbClr val="ffffff"/>
              </a:solidFill>
              <a:miter/>
            </a:ln>
            <a:effectLst>
              <a:outerShdw dist="125228" dir="1434739" blurRad="0" rotWithShape="0">
                <a:srgbClr val="c0c0c0">
                  <a:alpha val="32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" name="AutoShape 115"/>
            <p:cNvSpPr/>
            <p:nvPr/>
          </p:nvSpPr>
          <p:spPr>
            <a:xfrm>
              <a:off x="1600200" y="4038480"/>
              <a:ext cx="1828800" cy="1600200"/>
            </a:xfrm>
            <a:prstGeom prst="hexagon">
              <a:avLst>
                <a:gd name="adj" fmla="val 28571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28440">
              <a:solidFill>
                <a:srgbClr val="ffffff"/>
              </a:solidFill>
              <a:miter/>
            </a:ln>
            <a:effectLst>
              <a:outerShdw dist="125228" dir="1434739" blurRad="0" rotWithShape="0">
                <a:srgbClr val="c0c0c0">
                  <a:alpha val="32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335232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304920" y="6476760"/>
            <a:ext cx="2590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8210520" y="646704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F97BD-389D-4C4A-BDA0-F9A07832249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7920" y="2205000"/>
            <a:ext cx="670572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Verdana"/>
              </a:rPr>
              <a:t>Slide</a:t>
            </a:r>
            <a:r>
              <a:rPr b="1" lang="en-US" sz="3600" spc="-1" strike="noStrike">
                <a:solidFill>
                  <a:srgbClr val="5086c2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bb6322"/>
                </a:solidFill>
                <a:latin typeface="Verdana"/>
              </a:rPr>
              <a:t>PowerPoin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134960" y="3009600"/>
            <a:ext cx="3311640" cy="41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Verdana"/>
              </a:rPr>
              <a:t>http://blogcongdong.com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AutoShape 2"/>
          <p:cNvSpPr/>
          <p:nvPr/>
        </p:nvSpPr>
        <p:spPr>
          <a:xfrm>
            <a:off x="357012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AutoShape 3"/>
          <p:cNvSpPr/>
          <p:nvPr/>
        </p:nvSpPr>
        <p:spPr>
          <a:xfrm>
            <a:off x="106668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AutoShape 4"/>
          <p:cNvSpPr/>
          <p:nvPr/>
        </p:nvSpPr>
        <p:spPr>
          <a:xfrm>
            <a:off x="6095880" y="3657600"/>
            <a:ext cx="1752840" cy="2286000"/>
          </a:xfrm>
          <a:custGeom>
            <a:avLst/>
            <a:gdLst>
              <a:gd name="textAreaLeft" fmla="*/ 70560 w 1752840"/>
              <a:gd name="textAreaRight" fmla="*/ 1682280 w 175284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69">
                <a:moveTo>
                  <a:pt x="2969" y="0"/>
                </a:moveTo>
                <a:arcTo wR="2969" hR="2969" stAng="16200000" swAng="-5400000"/>
                <a:lnTo>
                  <a:pt x="0" y="25200"/>
                </a:lnTo>
                <a:arcTo wR="2969" hR="2969" stAng="10800000" swAng="-5400000"/>
                <a:lnTo>
                  <a:pt x="18631" y="2816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AutoShape 6"/>
          <p:cNvSpPr/>
          <p:nvPr/>
        </p:nvSpPr>
        <p:spPr>
          <a:xfrm>
            <a:off x="2998800" y="2452680"/>
            <a:ext cx="399960" cy="449280"/>
          </a:xfrm>
          <a:custGeom>
            <a:avLst/>
            <a:gdLst>
              <a:gd name="textAreaLeft" fmla="*/ 0 w 399960"/>
              <a:gd name="textAreaRight" fmla="*/ 400320 w 39996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e88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AutoShape 7"/>
          <p:cNvSpPr/>
          <p:nvPr/>
        </p:nvSpPr>
        <p:spPr>
          <a:xfrm>
            <a:off x="546084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4c59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Oval 8"/>
          <p:cNvSpPr/>
          <p:nvPr/>
        </p:nvSpPr>
        <p:spPr>
          <a:xfrm>
            <a:off x="606888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4c59d2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Oval 9"/>
          <p:cNvSpPr/>
          <p:nvPr/>
        </p:nvSpPr>
        <p:spPr>
          <a:xfrm>
            <a:off x="606888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4c59d2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Oval 10"/>
          <p:cNvSpPr/>
          <p:nvPr/>
        </p:nvSpPr>
        <p:spPr>
          <a:xfrm>
            <a:off x="618012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293072"/>
              </a:gs>
              <a:gs pos="50000">
                <a:srgbClr val="4c59d2"/>
              </a:gs>
              <a:gs pos="100000">
                <a:srgbClr val="29307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Oval 11"/>
          <p:cNvSpPr/>
          <p:nvPr/>
        </p:nvSpPr>
        <p:spPr>
          <a:xfrm>
            <a:off x="620568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303985"/>
              </a:gs>
              <a:gs pos="100000">
                <a:srgbClr val="4c59d2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Oval 12"/>
          <p:cNvSpPr/>
          <p:nvPr/>
        </p:nvSpPr>
        <p:spPr>
          <a:xfrm>
            <a:off x="625968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Oval 13"/>
          <p:cNvSpPr/>
          <p:nvPr/>
        </p:nvSpPr>
        <p:spPr>
          <a:xfrm>
            <a:off x="114300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a0b5c4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Oval 14"/>
          <p:cNvSpPr/>
          <p:nvPr/>
        </p:nvSpPr>
        <p:spPr>
          <a:xfrm>
            <a:off x="114300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a0b5c4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Oval 15"/>
          <p:cNvSpPr/>
          <p:nvPr/>
        </p:nvSpPr>
        <p:spPr>
          <a:xfrm>
            <a:off x="125424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7626a"/>
              </a:gs>
              <a:gs pos="50000">
                <a:srgbClr val="a0b5c4"/>
              </a:gs>
              <a:gs pos="100000">
                <a:srgbClr val="57626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Oval 16"/>
          <p:cNvSpPr/>
          <p:nvPr/>
        </p:nvSpPr>
        <p:spPr>
          <a:xfrm>
            <a:off x="1255680" y="194148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66737d"/>
              </a:gs>
              <a:gs pos="100000">
                <a:srgbClr val="a0b5c4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Oval 17"/>
          <p:cNvSpPr/>
          <p:nvPr/>
        </p:nvSpPr>
        <p:spPr>
          <a:xfrm>
            <a:off x="132876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76" name="Group 18"/>
          <p:cNvGrpSpPr/>
          <p:nvPr/>
        </p:nvGrpSpPr>
        <p:grpSpPr>
          <a:xfrm>
            <a:off x="1349280" y="2031840"/>
            <a:ext cx="1290600" cy="1278000"/>
            <a:chOff x="1349280" y="2031840"/>
            <a:chExt cx="1290600" cy="1278000"/>
          </a:xfrm>
        </p:grpSpPr>
        <p:sp>
          <p:nvSpPr>
            <p:cNvPr id="277" name="Oval 19"/>
            <p:cNvSpPr/>
            <p:nvPr/>
          </p:nvSpPr>
          <p:spPr>
            <a:xfrm>
              <a:off x="134928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8" name="Oval 20"/>
            <p:cNvSpPr/>
            <p:nvPr/>
          </p:nvSpPr>
          <p:spPr>
            <a:xfrm>
              <a:off x="136548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9" name="Oval 21"/>
            <p:cNvSpPr/>
            <p:nvPr/>
          </p:nvSpPr>
          <p:spPr>
            <a:xfrm>
              <a:off x="137916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0" name="Oval 22"/>
            <p:cNvSpPr/>
            <p:nvPr/>
          </p:nvSpPr>
          <p:spPr>
            <a:xfrm>
              <a:off x="144900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1" name="Oval 23"/>
          <p:cNvSpPr/>
          <p:nvPr/>
        </p:nvSpPr>
        <p:spPr>
          <a:xfrm>
            <a:off x="360684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e8848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Oval 24"/>
          <p:cNvSpPr/>
          <p:nvPr/>
        </p:nvSpPr>
        <p:spPr>
          <a:xfrm>
            <a:off x="360684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de8848">
                  <a:alpha val="32156"/>
                </a:srgbClr>
              </a:gs>
              <a:gs pos="100000">
                <a:srgbClr val="673f2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Oval 25"/>
          <p:cNvSpPr/>
          <p:nvPr/>
        </p:nvSpPr>
        <p:spPr>
          <a:xfrm>
            <a:off x="371808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784a27"/>
              </a:gs>
              <a:gs pos="50000">
                <a:srgbClr val="de8848"/>
              </a:gs>
              <a:gs pos="100000">
                <a:srgbClr val="784a2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Oval 26"/>
          <p:cNvSpPr/>
          <p:nvPr/>
        </p:nvSpPr>
        <p:spPr>
          <a:xfrm>
            <a:off x="3719520" y="194616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8d562e"/>
              </a:gs>
              <a:gs pos="100000">
                <a:srgbClr val="de8848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Oval 27"/>
          <p:cNvSpPr/>
          <p:nvPr/>
        </p:nvSpPr>
        <p:spPr>
          <a:xfrm>
            <a:off x="3790800" y="2016000"/>
            <a:ext cx="133380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86" name="Group 28"/>
          <p:cNvGrpSpPr/>
          <p:nvPr/>
        </p:nvGrpSpPr>
        <p:grpSpPr>
          <a:xfrm>
            <a:off x="3813120" y="2031840"/>
            <a:ext cx="1290600" cy="1278000"/>
            <a:chOff x="3813120" y="2031840"/>
            <a:chExt cx="1290600" cy="1278000"/>
          </a:xfrm>
        </p:grpSpPr>
        <p:sp>
          <p:nvSpPr>
            <p:cNvPr id="287" name="Oval 29"/>
            <p:cNvSpPr/>
            <p:nvPr/>
          </p:nvSpPr>
          <p:spPr>
            <a:xfrm>
              <a:off x="38131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8" name="Oval 30"/>
            <p:cNvSpPr/>
            <p:nvPr/>
          </p:nvSpPr>
          <p:spPr>
            <a:xfrm>
              <a:off x="38293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9" name="Oval 31"/>
            <p:cNvSpPr/>
            <p:nvPr/>
          </p:nvSpPr>
          <p:spPr>
            <a:xfrm>
              <a:off x="38430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0" name="Oval 32"/>
            <p:cNvSpPr/>
            <p:nvPr/>
          </p:nvSpPr>
          <p:spPr>
            <a:xfrm>
              <a:off x="39128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1" name="Group 33"/>
          <p:cNvGrpSpPr/>
          <p:nvPr/>
        </p:nvGrpSpPr>
        <p:grpSpPr>
          <a:xfrm>
            <a:off x="6283440" y="2031840"/>
            <a:ext cx="1292040" cy="1278000"/>
            <a:chOff x="6283440" y="2031840"/>
            <a:chExt cx="1292040" cy="1278000"/>
          </a:xfrm>
        </p:grpSpPr>
        <p:sp>
          <p:nvSpPr>
            <p:cNvPr id="292" name="Oval 34"/>
            <p:cNvSpPr/>
            <p:nvPr/>
          </p:nvSpPr>
          <p:spPr>
            <a:xfrm>
              <a:off x="6283440" y="2031840"/>
              <a:ext cx="129204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3" name="Oval 35"/>
            <p:cNvSpPr/>
            <p:nvPr/>
          </p:nvSpPr>
          <p:spPr>
            <a:xfrm>
              <a:off x="6299640" y="2038680"/>
              <a:ext cx="12610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4" name="Oval 36"/>
            <p:cNvSpPr/>
            <p:nvPr/>
          </p:nvSpPr>
          <p:spPr>
            <a:xfrm>
              <a:off x="6313320" y="2051280"/>
              <a:ext cx="119916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5" name="Oval 37"/>
            <p:cNvSpPr/>
            <p:nvPr/>
          </p:nvSpPr>
          <p:spPr>
            <a:xfrm>
              <a:off x="6383520" y="2083680"/>
              <a:ext cx="106596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6" name="Text Box 38"/>
          <p:cNvSpPr/>
          <p:nvPr/>
        </p:nvSpPr>
        <p:spPr>
          <a:xfrm>
            <a:off x="161244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Text Box 39"/>
          <p:cNvSpPr/>
          <p:nvPr/>
        </p:nvSpPr>
        <p:spPr>
          <a:xfrm>
            <a:off x="408096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Text Box 40"/>
          <p:cNvSpPr/>
          <p:nvPr/>
        </p:nvSpPr>
        <p:spPr>
          <a:xfrm>
            <a:off x="654804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Freeform 3"/>
          <p:cNvSpPr/>
          <p:nvPr/>
        </p:nvSpPr>
        <p:spPr>
          <a:xfrm>
            <a:off x="990720" y="182880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4c59d2"/>
              </a:gs>
              <a:gs pos="100000">
                <a:srgbClr val="85ba54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Text Box 32"/>
          <p:cNvSpPr/>
          <p:nvPr/>
        </p:nvSpPr>
        <p:spPr>
          <a:xfrm>
            <a:off x="5334120" y="34290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Oval 35"/>
          <p:cNvSpPr/>
          <p:nvPr/>
        </p:nvSpPr>
        <p:spPr>
          <a:xfrm rot="20876400">
            <a:off x="3011400" y="487692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3" name="Oval 36"/>
          <p:cNvSpPr/>
          <p:nvPr/>
        </p:nvSpPr>
        <p:spPr>
          <a:xfrm>
            <a:off x="2943360" y="36576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Oval 37"/>
          <p:cNvSpPr/>
          <p:nvPr/>
        </p:nvSpPr>
        <p:spPr>
          <a:xfrm>
            <a:off x="2963880" y="3666960"/>
            <a:ext cx="166536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5" name="Oval 38"/>
          <p:cNvSpPr/>
          <p:nvPr/>
        </p:nvSpPr>
        <p:spPr>
          <a:xfrm>
            <a:off x="2981160" y="3683160"/>
            <a:ext cx="1584360" cy="15555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Oval 39"/>
          <p:cNvSpPr/>
          <p:nvPr/>
        </p:nvSpPr>
        <p:spPr>
          <a:xfrm>
            <a:off x="3073320" y="372744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7" name="Text Box 40"/>
          <p:cNvSpPr/>
          <p:nvPr/>
        </p:nvSpPr>
        <p:spPr>
          <a:xfrm>
            <a:off x="3360960" y="428472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Oval 41"/>
          <p:cNvSpPr/>
          <p:nvPr/>
        </p:nvSpPr>
        <p:spPr>
          <a:xfrm rot="20826600">
            <a:off x="1168560" y="4266720"/>
            <a:ext cx="1133280" cy="60984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09" name="Group 42"/>
          <p:cNvGrpSpPr/>
          <p:nvPr/>
        </p:nvGrpSpPr>
        <p:grpSpPr>
          <a:xfrm>
            <a:off x="1092240" y="3276720"/>
            <a:ext cx="1371240" cy="1441080"/>
            <a:chOff x="1092240" y="3276720"/>
            <a:chExt cx="1371240" cy="1441080"/>
          </a:xfrm>
        </p:grpSpPr>
        <p:sp>
          <p:nvSpPr>
            <p:cNvPr id="310" name="Oval 43"/>
            <p:cNvSpPr/>
            <p:nvPr/>
          </p:nvSpPr>
          <p:spPr>
            <a:xfrm>
              <a:off x="1092240" y="327672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1" name="Oval 44"/>
            <p:cNvSpPr/>
            <p:nvPr/>
          </p:nvSpPr>
          <p:spPr>
            <a:xfrm>
              <a:off x="1109880" y="328500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2" name="Oval 45"/>
            <p:cNvSpPr/>
            <p:nvPr/>
          </p:nvSpPr>
          <p:spPr>
            <a:xfrm>
              <a:off x="1123200" y="329868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3" name="Oval 46"/>
            <p:cNvSpPr/>
            <p:nvPr/>
          </p:nvSpPr>
          <p:spPr>
            <a:xfrm>
              <a:off x="1194840" y="333540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4" name="Text Box 47"/>
            <p:cNvSpPr/>
            <p:nvPr/>
          </p:nvSpPr>
          <p:spPr>
            <a:xfrm>
              <a:off x="1372680" y="37828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15" name="Oval 48"/>
          <p:cNvSpPr/>
          <p:nvPr/>
        </p:nvSpPr>
        <p:spPr>
          <a:xfrm>
            <a:off x="990720" y="251136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6" name="Oval 49"/>
          <p:cNvSpPr/>
          <p:nvPr/>
        </p:nvSpPr>
        <p:spPr>
          <a:xfrm>
            <a:off x="1066680" y="1905120"/>
            <a:ext cx="1024200" cy="102384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Oval 50"/>
          <p:cNvSpPr/>
          <p:nvPr/>
        </p:nvSpPr>
        <p:spPr>
          <a:xfrm>
            <a:off x="1079640" y="190980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Oval 51"/>
          <p:cNvSpPr/>
          <p:nvPr/>
        </p:nvSpPr>
        <p:spPr>
          <a:xfrm>
            <a:off x="1090440" y="192096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Oval 52"/>
          <p:cNvSpPr/>
          <p:nvPr/>
        </p:nvSpPr>
        <p:spPr>
          <a:xfrm>
            <a:off x="1144440" y="1946160"/>
            <a:ext cx="847800" cy="757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Text Box 53"/>
          <p:cNvSpPr/>
          <p:nvPr/>
        </p:nvSpPr>
        <p:spPr>
          <a:xfrm>
            <a:off x="1263960" y="22543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Oval 54"/>
          <p:cNvSpPr/>
          <p:nvPr/>
        </p:nvSpPr>
        <p:spPr>
          <a:xfrm>
            <a:off x="2257560" y="19810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Oval 55"/>
          <p:cNvSpPr/>
          <p:nvPr/>
        </p:nvSpPr>
        <p:spPr>
          <a:xfrm>
            <a:off x="2379600" y="1447920"/>
            <a:ext cx="68256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Oval 56"/>
          <p:cNvSpPr/>
          <p:nvPr/>
        </p:nvSpPr>
        <p:spPr>
          <a:xfrm>
            <a:off x="2389320" y="1450800"/>
            <a:ext cx="664920" cy="667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Oval 57"/>
          <p:cNvSpPr/>
          <p:nvPr/>
        </p:nvSpPr>
        <p:spPr>
          <a:xfrm>
            <a:off x="2395440" y="1457280"/>
            <a:ext cx="633600" cy="6224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Oval 58"/>
          <p:cNvSpPr/>
          <p:nvPr/>
        </p:nvSpPr>
        <p:spPr>
          <a:xfrm>
            <a:off x="2432160" y="1476360"/>
            <a:ext cx="56340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Text Box 59"/>
          <p:cNvSpPr/>
          <p:nvPr/>
        </p:nvSpPr>
        <p:spPr>
          <a:xfrm>
            <a:off x="2450160" y="16714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8" name="Group 52"/>
          <p:cNvGrpSpPr/>
          <p:nvPr/>
        </p:nvGrpSpPr>
        <p:grpSpPr>
          <a:xfrm>
            <a:off x="533520" y="1447920"/>
            <a:ext cx="7543800" cy="4405320"/>
            <a:chOff x="533520" y="1447920"/>
            <a:chExt cx="7543800" cy="4405320"/>
          </a:xfrm>
        </p:grpSpPr>
        <p:sp>
          <p:nvSpPr>
            <p:cNvPr id="329" name="Oval 4"/>
            <p:cNvSpPr/>
            <p:nvPr/>
          </p:nvSpPr>
          <p:spPr>
            <a:xfrm>
              <a:off x="2454120" y="2147760"/>
              <a:ext cx="3633840" cy="3705480"/>
            </a:xfrm>
            <a:prstGeom prst="ellipse">
              <a:avLst/>
            </a:prstGeom>
            <a:gradFill rotWithShape="0">
              <a:gsLst>
                <a:gs pos="0">
                  <a:srgbClr val="a0b5c4"/>
                </a:gs>
                <a:gs pos="100000">
                  <a:srgbClr val="e5eb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30" name="Group 5"/>
            <p:cNvGrpSpPr/>
            <p:nvPr/>
          </p:nvGrpSpPr>
          <p:grpSpPr>
            <a:xfrm>
              <a:off x="3344760" y="3073320"/>
              <a:ext cx="1852560" cy="1995480"/>
              <a:chOff x="3344760" y="3073320"/>
              <a:chExt cx="1852560" cy="1995480"/>
            </a:xfrm>
          </p:grpSpPr>
          <p:sp>
            <p:nvSpPr>
              <p:cNvPr id="331" name="Oval 6"/>
              <p:cNvSpPr/>
              <p:nvPr/>
            </p:nvSpPr>
            <p:spPr>
              <a:xfrm>
                <a:off x="3344760" y="3073320"/>
                <a:ext cx="1852560" cy="199548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42e00"/>
                  </a:gs>
                </a:gsLst>
                <a:lin ang="5400000"/>
              </a:gra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2" name="Freeform 7"/>
              <p:cNvSpPr/>
              <p:nvPr/>
            </p:nvSpPr>
            <p:spPr>
              <a:xfrm>
                <a:off x="3556440" y="3106440"/>
                <a:ext cx="1429200" cy="7531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33" name="Text Box 8"/>
            <p:cNvSpPr/>
            <p:nvPr/>
          </p:nvSpPr>
          <p:spPr>
            <a:xfrm>
              <a:off x="3609360" y="385776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34" name="Group 9"/>
            <p:cNvGrpSpPr/>
            <p:nvPr/>
          </p:nvGrpSpPr>
          <p:grpSpPr>
            <a:xfrm>
              <a:off x="3894120" y="1790640"/>
              <a:ext cx="617400" cy="615960"/>
              <a:chOff x="3894120" y="1790640"/>
              <a:chExt cx="617400" cy="615960"/>
            </a:xfrm>
          </p:grpSpPr>
          <p:grpSp>
            <p:nvGrpSpPr>
              <p:cNvPr id="335" name="Group 10"/>
              <p:cNvGrpSpPr/>
              <p:nvPr/>
            </p:nvGrpSpPr>
            <p:grpSpPr>
              <a:xfrm>
                <a:off x="3894120" y="1790640"/>
                <a:ext cx="617400" cy="615960"/>
                <a:chOff x="3894120" y="1790640"/>
                <a:chExt cx="617400" cy="615960"/>
              </a:xfrm>
            </p:grpSpPr>
            <p:sp>
              <p:nvSpPr>
                <p:cNvPr id="336" name="Oval 11"/>
                <p:cNvSpPr/>
                <p:nvPr/>
              </p:nvSpPr>
              <p:spPr>
                <a:xfrm>
                  <a:off x="3894120" y="1790640"/>
                  <a:ext cx="617400" cy="61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5ba54"/>
                    </a:gs>
                    <a:gs pos="100000">
                      <a:srgbClr val="384f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37" name="Freeform 12"/>
                <p:cNvSpPr/>
                <p:nvPr/>
              </p:nvSpPr>
              <p:spPr>
                <a:xfrm>
                  <a:off x="3964680" y="1800720"/>
                  <a:ext cx="476280" cy="2325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5ba5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8" name="Text Box 13"/>
              <p:cNvSpPr/>
              <p:nvPr/>
            </p:nvSpPr>
            <p:spPr>
              <a:xfrm>
                <a:off x="4023360" y="188532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39" name="Group 14"/>
            <p:cNvGrpSpPr/>
            <p:nvPr/>
          </p:nvGrpSpPr>
          <p:grpSpPr>
            <a:xfrm>
              <a:off x="3292920" y="4865400"/>
              <a:ext cx="333720" cy="309600"/>
              <a:chOff x="3292920" y="4865400"/>
              <a:chExt cx="333720" cy="309600"/>
            </a:xfrm>
          </p:grpSpPr>
          <p:sp>
            <p:nvSpPr>
              <p:cNvPr id="340" name="Oval 15"/>
              <p:cNvSpPr/>
              <p:nvPr/>
            </p:nvSpPr>
            <p:spPr>
              <a:xfrm rot="18226800">
                <a:off x="3317040" y="5027760"/>
                <a:ext cx="122040" cy="123480"/>
              </a:xfrm>
              <a:prstGeom prst="ellipse">
                <a:avLst/>
              </a:prstGeom>
              <a:gradFill rotWithShape="0">
                <a:gsLst>
                  <a:gs pos="0">
                    <a:srgbClr val="a0b5c4"/>
                  </a:gs>
                  <a:gs pos="100000">
                    <a:srgbClr val="6b798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41" name="Oval 16"/>
              <p:cNvSpPr/>
              <p:nvPr/>
            </p:nvSpPr>
            <p:spPr>
              <a:xfrm rot="18226800">
                <a:off x="3480480" y="4888440"/>
                <a:ext cx="121680" cy="123480"/>
              </a:xfrm>
              <a:prstGeom prst="ellipse">
                <a:avLst/>
              </a:prstGeom>
              <a:gradFill rotWithShape="0">
                <a:gsLst>
                  <a:gs pos="0">
                    <a:srgbClr val="a0b5c4"/>
                  </a:gs>
                  <a:gs pos="100000">
                    <a:srgbClr val="6b798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42" name="Group 17"/>
            <p:cNvGrpSpPr/>
            <p:nvPr/>
          </p:nvGrpSpPr>
          <p:grpSpPr>
            <a:xfrm>
              <a:off x="2727360" y="5135400"/>
              <a:ext cx="617400" cy="642960"/>
              <a:chOff x="2727360" y="5135400"/>
              <a:chExt cx="617400" cy="642960"/>
            </a:xfrm>
          </p:grpSpPr>
          <p:grpSp>
            <p:nvGrpSpPr>
              <p:cNvPr id="343" name="Group 18"/>
              <p:cNvGrpSpPr/>
              <p:nvPr/>
            </p:nvGrpSpPr>
            <p:grpSpPr>
              <a:xfrm>
                <a:off x="2727360" y="5135400"/>
                <a:ext cx="617400" cy="642960"/>
                <a:chOff x="2727360" y="5135400"/>
                <a:chExt cx="617400" cy="642960"/>
              </a:xfrm>
            </p:grpSpPr>
            <p:sp>
              <p:nvSpPr>
                <p:cNvPr id="344" name="Oval 19"/>
                <p:cNvSpPr/>
                <p:nvPr/>
              </p:nvSpPr>
              <p:spPr>
                <a:xfrm>
                  <a:off x="2727360" y="5135400"/>
                  <a:ext cx="617400" cy="642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0b5c4"/>
                    </a:gs>
                    <a:gs pos="100000">
                      <a:srgbClr val="272c3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45" name="Freeform 20"/>
                <p:cNvSpPr/>
                <p:nvPr/>
              </p:nvSpPr>
              <p:spPr>
                <a:xfrm>
                  <a:off x="2797920" y="5145840"/>
                  <a:ext cx="476280" cy="2426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a0b5c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6" name="Text Box 21"/>
              <p:cNvSpPr/>
              <p:nvPr/>
            </p:nvSpPr>
            <p:spPr>
              <a:xfrm>
                <a:off x="2851560" y="525600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E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47" name="Group 22"/>
            <p:cNvGrpSpPr/>
            <p:nvPr/>
          </p:nvGrpSpPr>
          <p:grpSpPr>
            <a:xfrm>
              <a:off x="5748480" y="3073320"/>
              <a:ext cx="614160" cy="649440"/>
              <a:chOff x="5748480" y="3073320"/>
              <a:chExt cx="614160" cy="649440"/>
            </a:xfrm>
          </p:grpSpPr>
          <p:grpSp>
            <p:nvGrpSpPr>
              <p:cNvPr id="348" name="Group 23"/>
              <p:cNvGrpSpPr/>
              <p:nvPr/>
            </p:nvGrpSpPr>
            <p:grpSpPr>
              <a:xfrm>
                <a:off x="5748480" y="3073320"/>
                <a:ext cx="614160" cy="649440"/>
                <a:chOff x="5748480" y="3073320"/>
                <a:chExt cx="614160" cy="649440"/>
              </a:xfrm>
            </p:grpSpPr>
            <p:sp>
              <p:nvSpPr>
                <p:cNvPr id="349" name="Oval 24"/>
                <p:cNvSpPr/>
                <p:nvPr/>
              </p:nvSpPr>
              <p:spPr>
                <a:xfrm>
                  <a:off x="5748480" y="3073320"/>
                  <a:ext cx="614160" cy="649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c59d2"/>
                    </a:gs>
                    <a:gs pos="100000">
                      <a:srgbClr val="989fe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50" name="Freeform 25"/>
                <p:cNvSpPr/>
                <p:nvPr/>
              </p:nvSpPr>
              <p:spPr>
                <a:xfrm>
                  <a:off x="5818680" y="3083760"/>
                  <a:ext cx="473760" cy="245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c59d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1" name="Text Box 26"/>
              <p:cNvSpPr/>
              <p:nvPr/>
            </p:nvSpPr>
            <p:spPr>
              <a:xfrm>
                <a:off x="5860080" y="316260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52" name="Group 27"/>
            <p:cNvGrpSpPr/>
            <p:nvPr/>
          </p:nvGrpSpPr>
          <p:grpSpPr>
            <a:xfrm>
              <a:off x="5197320" y="5140440"/>
              <a:ext cx="587520" cy="582480"/>
              <a:chOff x="5197320" y="5140440"/>
              <a:chExt cx="587520" cy="582480"/>
            </a:xfrm>
          </p:grpSpPr>
          <p:grpSp>
            <p:nvGrpSpPr>
              <p:cNvPr id="353" name="Group 28"/>
              <p:cNvGrpSpPr/>
              <p:nvPr/>
            </p:nvGrpSpPr>
            <p:grpSpPr>
              <a:xfrm>
                <a:off x="5197320" y="5140440"/>
                <a:ext cx="587520" cy="582480"/>
                <a:chOff x="5197320" y="5140440"/>
                <a:chExt cx="587520" cy="582480"/>
              </a:xfrm>
            </p:grpSpPr>
            <p:sp>
              <p:nvSpPr>
                <p:cNvPr id="354" name="Oval 29"/>
                <p:cNvSpPr/>
                <p:nvPr/>
              </p:nvSpPr>
              <p:spPr>
                <a:xfrm>
                  <a:off x="5197320" y="5140440"/>
                  <a:ext cx="587520" cy="582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57575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55" name="Freeform 30"/>
                <p:cNvSpPr/>
                <p:nvPr/>
              </p:nvSpPr>
              <p:spPr>
                <a:xfrm>
                  <a:off x="5264280" y="5149800"/>
                  <a:ext cx="453240" cy="219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6" name="Text Box 31"/>
              <p:cNvSpPr/>
              <p:nvPr/>
            </p:nvSpPr>
            <p:spPr>
              <a:xfrm>
                <a:off x="5316120" y="517176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32"/>
            <p:cNvGrpSpPr/>
            <p:nvPr/>
          </p:nvGrpSpPr>
          <p:grpSpPr>
            <a:xfrm>
              <a:off x="2247840" y="3073320"/>
              <a:ext cx="617760" cy="641520"/>
              <a:chOff x="2247840" y="3073320"/>
              <a:chExt cx="617760" cy="641520"/>
            </a:xfrm>
          </p:grpSpPr>
          <p:grpSp>
            <p:nvGrpSpPr>
              <p:cNvPr id="358" name="Group 33"/>
              <p:cNvGrpSpPr/>
              <p:nvPr/>
            </p:nvGrpSpPr>
            <p:grpSpPr>
              <a:xfrm>
                <a:off x="2247840" y="3073320"/>
                <a:ext cx="617760" cy="641520"/>
                <a:chOff x="2247840" y="3073320"/>
                <a:chExt cx="617760" cy="641520"/>
              </a:xfrm>
            </p:grpSpPr>
            <p:sp>
              <p:nvSpPr>
                <p:cNvPr id="359" name="Oval 34"/>
                <p:cNvSpPr/>
                <p:nvPr/>
              </p:nvSpPr>
              <p:spPr>
                <a:xfrm>
                  <a:off x="2247840" y="3073320"/>
                  <a:ext cx="617760" cy="641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e8848"/>
                    </a:gs>
                    <a:gs pos="100000">
                      <a:srgbClr val="653e2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60" name="Freeform 35"/>
                <p:cNvSpPr/>
                <p:nvPr/>
              </p:nvSpPr>
              <p:spPr>
                <a:xfrm>
                  <a:off x="2318400" y="3083760"/>
                  <a:ext cx="476640" cy="2419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e884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1" name="Text Box 36"/>
              <p:cNvSpPr/>
              <p:nvPr/>
            </p:nvSpPr>
            <p:spPr>
              <a:xfrm>
                <a:off x="2373480" y="314460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62" name="Oval 37"/>
            <p:cNvSpPr/>
            <p:nvPr/>
          </p:nvSpPr>
          <p:spPr>
            <a:xfrm rot="18226800">
              <a:off x="5128920" y="4995360"/>
              <a:ext cx="122040" cy="12564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3" name="Oval 38"/>
            <p:cNvSpPr/>
            <p:nvPr/>
          </p:nvSpPr>
          <p:spPr>
            <a:xfrm rot="18226800">
              <a:off x="4992480" y="4853880"/>
              <a:ext cx="120600" cy="12384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64" name="Group 39"/>
            <p:cNvGrpSpPr/>
            <p:nvPr/>
          </p:nvGrpSpPr>
          <p:grpSpPr>
            <a:xfrm>
              <a:off x="2910240" y="3478320"/>
              <a:ext cx="376560" cy="239400"/>
              <a:chOff x="2910240" y="3478320"/>
              <a:chExt cx="376560" cy="239400"/>
            </a:xfrm>
          </p:grpSpPr>
          <p:sp>
            <p:nvSpPr>
              <p:cNvPr id="365" name="Oval 40"/>
              <p:cNvSpPr/>
              <p:nvPr/>
            </p:nvSpPr>
            <p:spPr>
              <a:xfrm rot="18226800">
                <a:off x="2934360" y="3501000"/>
                <a:ext cx="120960" cy="123480"/>
              </a:xfrm>
              <a:prstGeom prst="ellipse">
                <a:avLst/>
              </a:prstGeom>
              <a:gradFill rotWithShape="0">
                <a:gsLst>
                  <a:gs pos="0">
                    <a:srgbClr val="de8848"/>
                  </a:gs>
                  <a:gs pos="100000">
                    <a:srgbClr val="804e2a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6" name="Oval 41"/>
              <p:cNvSpPr/>
              <p:nvPr/>
            </p:nvSpPr>
            <p:spPr>
              <a:xfrm rot="18226800">
                <a:off x="3141000" y="3570840"/>
                <a:ext cx="120960" cy="123840"/>
              </a:xfrm>
              <a:prstGeom prst="ellipse">
                <a:avLst/>
              </a:prstGeom>
              <a:gradFill rotWithShape="0">
                <a:gsLst>
                  <a:gs pos="0">
                    <a:srgbClr val="de8848"/>
                  </a:gs>
                  <a:gs pos="100000">
                    <a:srgbClr val="6c422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67" name="Group 42"/>
            <p:cNvGrpSpPr/>
            <p:nvPr/>
          </p:nvGrpSpPr>
          <p:grpSpPr>
            <a:xfrm>
              <a:off x="4145400" y="2520720"/>
              <a:ext cx="170640" cy="433080"/>
              <a:chOff x="4145400" y="2520720"/>
              <a:chExt cx="170640" cy="433080"/>
            </a:xfrm>
          </p:grpSpPr>
          <p:sp>
            <p:nvSpPr>
              <p:cNvPr id="368" name="Oval 43"/>
              <p:cNvSpPr/>
              <p:nvPr/>
            </p:nvSpPr>
            <p:spPr>
              <a:xfrm rot="18226800">
                <a:off x="4169520" y="2543760"/>
                <a:ext cx="121680" cy="123840"/>
              </a:xfrm>
              <a:prstGeom prst="ellipse">
                <a:avLst/>
              </a:prstGeom>
              <a:gradFill rotWithShape="0">
                <a:gsLst>
                  <a:gs pos="0">
                    <a:srgbClr val="85ba54"/>
                  </a:gs>
                  <a:gs pos="100000">
                    <a:srgbClr val="3c552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9" name="Oval 44"/>
              <p:cNvSpPr/>
              <p:nvPr/>
            </p:nvSpPr>
            <p:spPr>
              <a:xfrm rot="18226800">
                <a:off x="4169520" y="2806560"/>
                <a:ext cx="122040" cy="123840"/>
              </a:xfrm>
              <a:prstGeom prst="ellipse">
                <a:avLst/>
              </a:prstGeom>
              <a:gradFill rotWithShape="0">
                <a:gsLst>
                  <a:gs pos="0">
                    <a:srgbClr val="85ba54"/>
                  </a:gs>
                  <a:gs pos="100000">
                    <a:srgbClr val="415a2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70" name="Oval 45"/>
            <p:cNvSpPr/>
            <p:nvPr/>
          </p:nvSpPr>
          <p:spPr>
            <a:xfrm rot="18226800">
              <a:off x="5489280" y="3525840"/>
              <a:ext cx="122400" cy="125640"/>
            </a:xfrm>
            <a:prstGeom prst="ellipse">
              <a:avLst/>
            </a:prstGeom>
            <a:gradFill rotWithShape="0">
              <a:gsLst>
                <a:gs pos="0">
                  <a:srgbClr val="7881dd"/>
                </a:gs>
                <a:gs pos="100000">
                  <a:srgbClr val="4c59d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1" name="Oval 46"/>
            <p:cNvSpPr/>
            <p:nvPr/>
          </p:nvSpPr>
          <p:spPr>
            <a:xfrm rot="18226800">
              <a:off x="5267880" y="3640320"/>
              <a:ext cx="122040" cy="123840"/>
            </a:xfrm>
            <a:prstGeom prst="ellipse">
              <a:avLst/>
            </a:prstGeom>
            <a:gradFill rotWithShape="0">
              <a:gsLst>
                <a:gs pos="0">
                  <a:srgbClr val="7881dd"/>
                </a:gs>
                <a:gs pos="100000">
                  <a:srgbClr val="4c59d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2" name="Text Box 47"/>
            <p:cNvSpPr/>
            <p:nvPr/>
          </p:nvSpPr>
          <p:spPr>
            <a:xfrm>
              <a:off x="533520" y="3216240"/>
              <a:ext cx="1714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3" name="Text Box 48"/>
            <p:cNvSpPr/>
            <p:nvPr/>
          </p:nvSpPr>
          <p:spPr>
            <a:xfrm>
              <a:off x="3344760" y="1447920"/>
              <a:ext cx="171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4" name="Text Box 49"/>
            <p:cNvSpPr/>
            <p:nvPr/>
          </p:nvSpPr>
          <p:spPr>
            <a:xfrm>
              <a:off x="6362640" y="3228840"/>
              <a:ext cx="171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5" name="Text Box 50"/>
            <p:cNvSpPr/>
            <p:nvPr/>
          </p:nvSpPr>
          <p:spPr>
            <a:xfrm>
              <a:off x="876240" y="5354640"/>
              <a:ext cx="171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6" name="Text Box 51"/>
            <p:cNvSpPr/>
            <p:nvPr/>
          </p:nvSpPr>
          <p:spPr>
            <a:xfrm>
              <a:off x="5813280" y="5354640"/>
              <a:ext cx="171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78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79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0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1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2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3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4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85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86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7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8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9" name="Oval 14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90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91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2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93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94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5" name="AutoShape 20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6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7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8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9" name="Oval 24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0" name="Oval 25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1" name="Oval 26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2" name="Oval 27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3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4" name="Text Box 29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5" name="AutoShape 30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6" name="AutoShape 31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07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408" name="AutoShape 33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9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0" name="AutoShape 35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1" name="AutoShape 36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12" name="Group 37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413" name="Oval 38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4" name="Oval 39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5" name="Oval 40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6" name="Oval 41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7" name="Oval 42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18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9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0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1" name="AutoShape 46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23" name="Group 3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424" name="Rectangle 4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5" name="Rectangle 5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26" name="Group 6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427" name="Group 7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428" name="Freeform 8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9" name="Freeform 9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10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431" name="Freeform 11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2" name="Freeform 12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33" name="Group 13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34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5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6" name="Oval 16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7" name="Oval 17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8" name="Oval 18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39" name="Group 19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440" name="Oval 20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1" name="Oval 21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2" name="Oval 22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3" name="Oval 23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44" name="Group 24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45" name="Group 25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46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7" name="Freeform 27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48" name="Group 28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49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0" name="Freeform 30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51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2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3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4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5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56" name="Group 36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57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8" name="Oval 38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9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0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61" name="Group 41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462" name="Group 42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463" name="Freeform 43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4" name="Freeform 44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65" name="Group 45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466" name="Freeform 46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7" name="Freeform 47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68" name="Group 48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69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0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1" name="Oval 51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2" name="Oval 52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3" name="Oval 53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74" name="Group 54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475" name="Oval 55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6" name="Oval 56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7" name="Oval 57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8" name="Oval 58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79" name="Group 59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80" name="Group 60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81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2" name="Freeform 62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83" name="Group 63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84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5" name="Freeform 65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86" name="Group 66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87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8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9" name="Oval 69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0" name="Oval 70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1" name="Oval 71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92" name="Group 72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493" name="Oval 73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4" name="Oval 74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5" name="Oval 75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6" name="Oval 76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97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8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9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0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1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2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3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4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05" name="Group 85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506" name="Text Box 86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086c2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7" name="Text Box 87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086c2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8" name="Text Box 88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086c2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9" name="Text Box 89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086c2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cxnSp>
          <p:nvCxnSpPr>
            <p:cNvPr id="510" name="AutoShape 90"/>
            <p:cNvCxnSpPr>
              <a:stCxn id="506" idx="3"/>
              <a:endCxn id="507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5086c2"/>
              </a:solidFill>
              <a:miter/>
              <a:tailEnd len="med" type="triangle" w="med"/>
            </a:ln>
          </p:spPr>
        </p:cxnSp>
        <p:cxnSp>
          <p:nvCxnSpPr>
            <p:cNvPr id="511" name="AutoShape 91"/>
            <p:cNvCxnSpPr>
              <a:stCxn id="507" idx="3"/>
              <a:endCxn id="508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5086c2"/>
              </a:solidFill>
              <a:miter/>
              <a:tailEnd len="med" type="triangle" w="med"/>
            </a:ln>
          </p:spPr>
        </p:cxnSp>
        <p:cxnSp>
          <p:nvCxnSpPr>
            <p:cNvPr id="512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5086c2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14" name="Group 16"/>
          <p:cNvGrpSpPr/>
          <p:nvPr/>
        </p:nvGrpSpPr>
        <p:grpSpPr>
          <a:xfrm>
            <a:off x="1066680" y="1752480"/>
            <a:ext cx="6782040" cy="4006440"/>
            <a:chOff x="1066680" y="1752480"/>
            <a:chExt cx="6782040" cy="4006440"/>
          </a:xfrm>
        </p:grpSpPr>
        <p:sp>
          <p:nvSpPr>
            <p:cNvPr id="515" name="AutoShape 17"/>
            <p:cNvSpPr/>
            <p:nvPr/>
          </p:nvSpPr>
          <p:spPr>
            <a:xfrm>
              <a:off x="1066680" y="1936080"/>
              <a:ext cx="3329280" cy="382284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2840"/>
                <a:gd name="textAreaBottom" fmla="*/ 3734280 h 3822840"/>
              </a:gdLst>
              <a:ahLst/>
              <a:rect l="textAreaLeft" t="textAreaTop" r="textAreaRight" b="textAreaBottom"/>
              <a:pathLst>
                <a:path w="21600" h="24802">
                  <a:moveTo>
                    <a:pt x="1967" y="0"/>
                  </a:moveTo>
                  <a:arcTo wR="1967" hR="1967" stAng="16200000" swAng="-5400000"/>
                  <a:lnTo>
                    <a:pt x="0" y="22835"/>
                  </a:lnTo>
                  <a:arcTo wR="1967" hR="1967" stAng="10800000" swAng="-5400000"/>
                  <a:lnTo>
                    <a:pt x="19633" y="24802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85ba54"/>
                </a:gs>
                <a:gs pos="100000">
                  <a:srgbClr val="f0f7ea"/>
                </a:gs>
              </a:gsLst>
              <a:lin ang="5400000"/>
            </a:gradFill>
            <a:ln w="25560">
              <a:solidFill>
                <a:srgbClr val="85ba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aphicFrame>
          <p:nvGraphicFramePr>
            <p:cNvPr id="516" name="Object 18"/>
            <p:cNvGraphicFramePr/>
            <p:nvPr/>
          </p:nvGraphicFramePr>
          <p:xfrm>
            <a:off x="1251360" y="2368800"/>
            <a:ext cx="2928600" cy="3281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17" name="Object 1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51360" y="2368800"/>
                      <a:ext cx="2928600" cy="32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18" name="AutoShape 19"/>
            <p:cNvSpPr/>
            <p:nvPr/>
          </p:nvSpPr>
          <p:spPr>
            <a:xfrm>
              <a:off x="1374840" y="175248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e5627"/>
                </a:gs>
                <a:gs pos="50000">
                  <a:srgbClr val="85ba54"/>
                </a:gs>
                <a:gs pos="100000">
                  <a:srgbClr val="3e56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9" name="AutoShape 20"/>
            <p:cNvSpPr/>
            <p:nvPr/>
          </p:nvSpPr>
          <p:spPr>
            <a:xfrm>
              <a:off x="1498320" y="18756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0" name="AutoShape 21"/>
            <p:cNvSpPr/>
            <p:nvPr/>
          </p:nvSpPr>
          <p:spPr>
            <a:xfrm>
              <a:off x="3840840" y="187560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1" name="AutoShape 22"/>
            <p:cNvSpPr/>
            <p:nvPr/>
          </p:nvSpPr>
          <p:spPr>
            <a:xfrm>
              <a:off x="4519440" y="1936080"/>
              <a:ext cx="3329280" cy="382284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2840"/>
                <a:gd name="textAreaBottom" fmla="*/ 3734280 h 3822840"/>
              </a:gdLst>
              <a:ahLst/>
              <a:rect l="textAreaLeft" t="textAreaTop" r="textAreaRight" b="textAreaBottom"/>
              <a:pathLst>
                <a:path w="21600" h="24802">
                  <a:moveTo>
                    <a:pt x="1967" y="0"/>
                  </a:moveTo>
                  <a:arcTo wR="1967" hR="1967" stAng="16200000" swAng="-5400000"/>
                  <a:lnTo>
                    <a:pt x="0" y="22835"/>
                  </a:lnTo>
                  <a:arcTo wR="1967" hR="1967" stAng="10800000" swAng="-5400000"/>
                  <a:lnTo>
                    <a:pt x="19633" y="24802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a0b5c4"/>
                </a:gs>
                <a:gs pos="100000">
                  <a:srgbClr val="e5ebef"/>
                </a:gs>
              </a:gsLst>
              <a:lin ang="5400000"/>
            </a:gradFill>
            <a:ln w="25560">
              <a:solidFill>
                <a:srgbClr val="a0b5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aphicFrame>
          <p:nvGraphicFramePr>
            <p:cNvPr id="522" name="Object 23"/>
            <p:cNvGraphicFramePr/>
            <p:nvPr/>
          </p:nvGraphicFramePr>
          <p:xfrm>
            <a:off x="4704120" y="2368800"/>
            <a:ext cx="2928240" cy="3281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23" name="Object 2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04120" y="2368800"/>
                      <a:ext cx="2928240" cy="32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4" name="AutoShape 24"/>
            <p:cNvSpPr/>
            <p:nvPr/>
          </p:nvSpPr>
          <p:spPr>
            <a:xfrm>
              <a:off x="4827600" y="175248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a545b"/>
                </a:gs>
                <a:gs pos="50000">
                  <a:srgbClr val="a0b5c4"/>
                </a:gs>
                <a:gs pos="100000">
                  <a:srgbClr val="4a54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5" name="AutoShape 25"/>
            <p:cNvSpPr/>
            <p:nvPr/>
          </p:nvSpPr>
          <p:spPr>
            <a:xfrm>
              <a:off x="4950720" y="187560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6" name="AutoShape 26"/>
            <p:cNvSpPr/>
            <p:nvPr/>
          </p:nvSpPr>
          <p:spPr>
            <a:xfrm>
              <a:off x="7293600" y="18756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Rectangle 3"/>
          <p:cNvSpPr/>
          <p:nvPr/>
        </p:nvSpPr>
        <p:spPr>
          <a:xfrm rot="3418800">
            <a:off x="7265520" y="1560240"/>
            <a:ext cx="923760" cy="1003320"/>
          </a:xfrm>
          <a:prstGeom prst="rect">
            <a:avLst/>
          </a:prstGeom>
          <a:gradFill rotWithShape="0">
            <a:gsLst>
              <a:gs pos="0">
                <a:srgbClr val="a0b5c4"/>
              </a:gs>
              <a:gs pos="100000">
                <a:srgbClr val="4a545b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4565520" y="441972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0" name="Rectangle 5"/>
          <p:cNvSpPr/>
          <p:nvPr/>
        </p:nvSpPr>
        <p:spPr>
          <a:xfrm rot="3418800">
            <a:off x="1410840" y="2268360"/>
            <a:ext cx="923760" cy="1003320"/>
          </a:xfrm>
          <a:prstGeom prst="rect">
            <a:avLst/>
          </a:prstGeom>
          <a:gradFill rotWithShape="0">
            <a:gsLst>
              <a:gs pos="0">
                <a:srgbClr val="de8848"/>
              </a:gs>
              <a:gs pos="100000">
                <a:srgbClr val="673f21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1" name="Text Box 6"/>
          <p:cNvSpPr/>
          <p:nvPr/>
        </p:nvSpPr>
        <p:spPr>
          <a:xfrm>
            <a:off x="1507680" y="2627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2" name="Rectangle 7"/>
          <p:cNvSpPr/>
          <p:nvPr/>
        </p:nvSpPr>
        <p:spPr>
          <a:xfrm rot="3418800">
            <a:off x="2845800" y="4173480"/>
            <a:ext cx="924120" cy="1003320"/>
          </a:xfrm>
          <a:prstGeom prst="rect">
            <a:avLst/>
          </a:prstGeom>
          <a:gradFill rotWithShape="0">
            <a:gsLst>
              <a:gs pos="0">
                <a:srgbClr val="85ba54"/>
              </a:gs>
              <a:gs pos="100000">
                <a:srgbClr val="3e5627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3" name="Text Box 8"/>
          <p:cNvSpPr/>
          <p:nvPr/>
        </p:nvSpPr>
        <p:spPr>
          <a:xfrm>
            <a:off x="2942640" y="45324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4" name="Rectangle 9"/>
          <p:cNvSpPr/>
          <p:nvPr/>
        </p:nvSpPr>
        <p:spPr>
          <a:xfrm rot="3418800">
            <a:off x="4916160" y="3008160"/>
            <a:ext cx="923760" cy="1003320"/>
          </a:xfrm>
          <a:prstGeom prst="rect">
            <a:avLst/>
          </a:prstGeom>
          <a:gradFill rotWithShape="0">
            <a:gsLst>
              <a:gs pos="0">
                <a:srgbClr val="4c59d2"/>
              </a:gs>
              <a:gs pos="100000">
                <a:srgbClr val="232961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5" name="Text Box 10"/>
          <p:cNvSpPr/>
          <p:nvPr/>
        </p:nvSpPr>
        <p:spPr>
          <a:xfrm>
            <a:off x="5013000" y="3379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6" name="Text Box 11"/>
          <p:cNvSpPr/>
          <p:nvPr/>
        </p:nvSpPr>
        <p:spPr>
          <a:xfrm>
            <a:off x="7362360" y="1919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7" name="Line 12"/>
          <p:cNvSpPr/>
          <p:nvPr/>
        </p:nvSpPr>
        <p:spPr>
          <a:xfrm>
            <a:off x="2209680" y="3222720"/>
            <a:ext cx="762120" cy="106668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8" name="Line 13"/>
          <p:cNvSpPr/>
          <p:nvPr/>
        </p:nvSpPr>
        <p:spPr>
          <a:xfrm flipV="1">
            <a:off x="3809880" y="3755880"/>
            <a:ext cx="1067040" cy="60984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9" name="Line 14"/>
          <p:cNvSpPr/>
          <p:nvPr/>
        </p:nvSpPr>
        <p:spPr>
          <a:xfrm flipV="1">
            <a:off x="5943600" y="2371680"/>
            <a:ext cx="1295280" cy="77472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0" name="Text Box 15"/>
          <p:cNvSpPr/>
          <p:nvPr/>
        </p:nvSpPr>
        <p:spPr>
          <a:xfrm>
            <a:off x="2514600" y="18064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ny Histo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1" name="Text Box 16"/>
          <p:cNvSpPr/>
          <p:nvPr/>
        </p:nvSpPr>
        <p:spPr>
          <a:xfrm>
            <a:off x="374760" y="36576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2" name="Text Box 17"/>
          <p:cNvSpPr/>
          <p:nvPr/>
        </p:nvSpPr>
        <p:spPr>
          <a:xfrm>
            <a:off x="2279520" y="556272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3" name="Text Box 19"/>
          <p:cNvSpPr/>
          <p:nvPr/>
        </p:nvSpPr>
        <p:spPr>
          <a:xfrm>
            <a:off x="6622920" y="29718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4.01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4.03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4.05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838080" y="2165400"/>
          <a:ext cx="6934320" cy="3168720"/>
        </p:xfrm>
        <a:graphic>
          <a:graphicData uri="http://schemas.openxmlformats.org/drawingml/2006/table">
            <a:tbl>
              <a:tblPr/>
              <a:tblGrid>
                <a:gridCol w="1563840"/>
                <a:gridCol w="1090440"/>
                <a:gridCol w="1070280"/>
                <a:gridCol w="1068120"/>
                <a:gridCol w="1074960"/>
                <a:gridCol w="1066680"/>
              </a:tblGrid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5086c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5086c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5086c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5086c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5086c2"/>
                    </a:solidFill>
                  </a:tcPr>
                </a:tc>
              </a:tr>
              <a:tr h="45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4c59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0000"/>
                      </a:srgbClr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4c59d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48000"/>
                      </a:srgbClr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4c59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0000"/>
                      </a:srgbClr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4c59d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48000"/>
                      </a:srgbClr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4c59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0000"/>
                      </a:srgbClr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4c59d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47" name="Group 3"/>
          <p:cNvGrpSpPr/>
          <p:nvPr/>
        </p:nvGrpSpPr>
        <p:grpSpPr>
          <a:xfrm>
            <a:off x="1101960" y="1455120"/>
            <a:ext cx="6599160" cy="4675680"/>
            <a:chOff x="1101960" y="1455120"/>
            <a:chExt cx="6599160" cy="4675680"/>
          </a:xfrm>
        </p:grpSpPr>
        <p:sp>
          <p:nvSpPr>
            <p:cNvPr id="548" name="Oval 4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9" name="Oval 5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0" name="Oval 6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1" name="Arc 7"/>
            <p:cNvSpPr/>
            <p:nvPr/>
          </p:nvSpPr>
          <p:spPr>
            <a:xfrm rot="20601600">
              <a:off x="4125960" y="2079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4c59d2"/>
                </a:gs>
                <a:gs pos="100000">
                  <a:srgbClr val="8d96e2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2" name="Arc 8"/>
            <p:cNvSpPr/>
            <p:nvPr/>
          </p:nvSpPr>
          <p:spPr>
            <a:xfrm flipH="1" rot="20602200">
              <a:off x="1713600" y="395460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9b5f32"/>
                </a:gs>
                <a:gs pos="100000">
                  <a:srgbClr val="de8848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3" name="Arc 9"/>
            <p:cNvSpPr/>
            <p:nvPr/>
          </p:nvSpPr>
          <p:spPr>
            <a:xfrm rot="20601600">
              <a:off x="2722680" y="212544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4c59d2"/>
                </a:gs>
                <a:gs pos="100000">
                  <a:srgbClr val="b3b9ec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4" name="Arc 10"/>
            <p:cNvSpPr/>
            <p:nvPr/>
          </p:nvSpPr>
          <p:spPr>
            <a:xfrm flipH="1" rot="20602200">
              <a:off x="1370520" y="271944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85ba54"/>
                </a:gs>
                <a:gs pos="100000">
                  <a:srgbClr val="3e5627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5" name="Oval 11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f0f0f0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6" name="Text Box 12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7" name="Text Box 13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8" name="Text Box 14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9" name="Text Box 15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0" name="Freeform 16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a0b5c4">
                    <a:alpha val="19215"/>
                  </a:srgbClr>
                </a:gs>
                <a:gs pos="100000">
                  <a:srgbClr val="66737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1" name="Freeform 17"/>
            <p:cNvSpPr/>
            <p:nvPr/>
          </p:nvSpPr>
          <p:spPr>
            <a:xfrm>
              <a:off x="5356080" y="3506760"/>
              <a:ext cx="1773360" cy="1776600"/>
            </a:xfrm>
            <a:custGeom>
              <a:avLst/>
              <a:gdLst/>
              <a:ahLst/>
              <a:rect l="l" t="t" r="r" b="b"/>
              <a:pathLst>
                <a:path w="1117" h="1119">
                  <a:moveTo>
                    <a:pt x="21" y="888"/>
                  </a:moveTo>
                  <a:lnTo>
                    <a:pt x="1117" y="0"/>
                  </a:lnTo>
                  <a:lnTo>
                    <a:pt x="1093" y="256"/>
                  </a:lnTo>
                  <a:cubicBezTo>
                    <a:pt x="1026" y="373"/>
                    <a:pt x="896" y="560"/>
                    <a:pt x="717" y="704"/>
                  </a:cubicBezTo>
                  <a:cubicBezTo>
                    <a:pt x="538" y="848"/>
                    <a:pt x="133" y="1088"/>
                    <a:pt x="17" y="1119"/>
                  </a:cubicBezTo>
                  <a:cubicBezTo>
                    <a:pt x="0" y="1037"/>
                    <a:pt x="21" y="888"/>
                    <a:pt x="21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707e89"/>
                </a:gs>
                <a:gs pos="100000">
                  <a:srgbClr val="a0b5c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2" name="Arc 18"/>
            <p:cNvSpPr/>
            <p:nvPr/>
          </p:nvSpPr>
          <p:spPr>
            <a:xfrm rot="20539200">
              <a:off x="4419720" y="289548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a0b5c4"/>
                </a:gs>
                <a:gs pos="100000">
                  <a:srgbClr val="5c6871"/>
                </a:gs>
              </a:gsLst>
              <a:lin ang="10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3" name="Freeform 19"/>
            <p:cNvSpPr/>
            <p:nvPr/>
          </p:nvSpPr>
          <p:spPr>
            <a:xfrm>
              <a:off x="4491000" y="3983040"/>
              <a:ext cx="924120" cy="1311120"/>
            </a:xfrm>
            <a:custGeom>
              <a:avLst/>
              <a:gdLst/>
              <a:ahLst/>
              <a:rect l="l" t="t" r="r" b="b"/>
              <a:pathLst>
                <a:path w="582" h="826">
                  <a:moveTo>
                    <a:pt x="582" y="572"/>
                  </a:moveTo>
                  <a:lnTo>
                    <a:pt x="562" y="826"/>
                  </a:lnTo>
                  <a:lnTo>
                    <a:pt x="0" y="42"/>
                  </a:lnTo>
                  <a:lnTo>
                    <a:pt x="90" y="0"/>
                  </a:lnTo>
                  <a:lnTo>
                    <a:pt x="582" y="572"/>
                  </a:lnTo>
                  <a:close/>
                </a:path>
              </a:pathLst>
            </a:custGeom>
            <a:gradFill rotWithShape="0">
              <a:gsLst>
                <a:gs pos="0">
                  <a:srgbClr val="a0b5c4"/>
                </a:gs>
                <a:gs pos="100000">
                  <a:srgbClr val="7e8f9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4" name="Oval 20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5" name="Text Box 21"/>
            <p:cNvSpPr/>
            <p:nvPr/>
          </p:nvSpPr>
          <p:spPr>
            <a:xfrm>
              <a:off x="5383800" y="3900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67" name="Object 3"/>
          <p:cNvGraphicFramePr/>
          <p:nvPr/>
        </p:nvGraphicFramePr>
        <p:xfrm>
          <a:off x="1676520" y="1828800"/>
          <a:ext cx="561024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828800"/>
                    <a:ext cx="561024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09" name="Group 46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110" name="AutoShape 47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5f0db"/>
                </a:gs>
                <a:gs pos="100000">
                  <a:srgbClr val="85ba54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1" name="AutoShape 48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85ba54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2" name="Text Box 49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3" name="Text Box 50"/>
            <p:cNvSpPr/>
            <p:nvPr/>
          </p:nvSpPr>
          <p:spPr>
            <a:xfrm>
              <a:off x="2289600" y="200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14" name="Group 51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15" name="AutoShape 52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8e6d8"/>
                </a:gs>
                <a:gs pos="100000">
                  <a:srgbClr val="de8848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6" name="AutoShape 53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de8848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7" name="Text Box 54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8" name="Text Box 55"/>
            <p:cNvSpPr/>
            <p:nvPr/>
          </p:nvSpPr>
          <p:spPr>
            <a:xfrm>
              <a:off x="2289600" y="2841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19" name="Group 56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20" name="AutoShape 57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ae5f2"/>
                </a:gs>
                <a:gs pos="100000">
                  <a:srgbClr val="5086c2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1" name="AutoShape 58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4c59d2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2" name="Text Box 59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3" name="Text Box 60"/>
            <p:cNvSpPr/>
            <p:nvPr/>
          </p:nvSpPr>
          <p:spPr>
            <a:xfrm>
              <a:off x="2289600" y="367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24" name="Group 61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25" name="AutoShape 62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ff3"/>
                </a:gs>
                <a:gs pos="100000">
                  <a:srgbClr val="a0b5c4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6" name="AutoShape 63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a0b5c4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7" name="Text Box 64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8" name="Text Box 65"/>
            <p:cNvSpPr/>
            <p:nvPr/>
          </p:nvSpPr>
          <p:spPr>
            <a:xfrm>
              <a:off x="2289600" y="459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WordArt 6"/>
          <p:cNvSpPr txBox="1"/>
          <p:nvPr/>
        </p:nvSpPr>
        <p:spPr>
          <a:xfrm>
            <a:off x="3581280" y="2819520"/>
            <a:ext cx="4343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5086c2"/>
                    </a:gs>
                    <a:gs pos="100000">
                      <a:srgbClr val="de8848"/>
                    </a:gs>
                  </a:gsLst>
                  <a:lin ang="0"/>
                </a:gradFill>
                <a:effectLst>
                  <a:outerShdw dist="71785" dir="2700000" blurRad="0" rotWithShape="0">
                    <a:srgbClr val="003366">
                      <a:alpha val="50000"/>
                    </a:srgbClr>
                  </a:outerShdw>
                </a:effectLst>
                <a:latin typeface="Arial"/>
              </a:rPr>
              <a:t>Thank You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5086c2"/>
                  </a:gs>
                  <a:gs pos="100000">
                    <a:srgbClr val="de8848"/>
                  </a:gs>
                </a:gsLst>
                <a:lin ang="0"/>
              </a:gradFill>
              <a:effectLst>
                <a:outerShdw dist="71785" dir="2700000" blurRad="0" rotWithShape="0">
                  <a:srgbClr val="00336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70" name="TextBox 1"/>
          <p:cNvSpPr/>
          <p:nvPr/>
        </p:nvSpPr>
        <p:spPr>
          <a:xfrm>
            <a:off x="4356000" y="3645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ttp://blogcongdong.co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t Ti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9200" y="1391760"/>
            <a:ext cx="72295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de8848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de8848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de8848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de8848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AutoShape 3"/>
          <p:cNvSpPr/>
          <p:nvPr/>
        </p:nvSpPr>
        <p:spPr>
          <a:xfrm>
            <a:off x="5562720" y="324792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1143000" y="324792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238400" y="34480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Freeform 7"/>
          <p:cNvSpPr/>
          <p:nvPr/>
        </p:nvSpPr>
        <p:spPr>
          <a:xfrm>
            <a:off x="3222720" y="315108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85ba54"/>
              </a:gs>
              <a:gs pos="100000">
                <a:srgbClr val="b1d39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AutoShape 8"/>
          <p:cNvSpPr/>
          <p:nvPr/>
        </p:nvSpPr>
        <p:spPr>
          <a:xfrm flipH="1">
            <a:off x="4869000" y="3147840"/>
            <a:ext cx="909360" cy="12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Freeform 9"/>
          <p:cNvSpPr/>
          <p:nvPr/>
        </p:nvSpPr>
        <p:spPr>
          <a:xfrm flipH="1">
            <a:off x="4874400" y="315108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086c2"/>
              </a:gs>
              <a:gs pos="100000">
                <a:srgbClr val="c7d9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38" name="Group 10"/>
          <p:cNvGrpSpPr/>
          <p:nvPr/>
        </p:nvGrpSpPr>
        <p:grpSpPr>
          <a:xfrm>
            <a:off x="3048120" y="1523880"/>
            <a:ext cx="2998440" cy="1601640"/>
            <a:chOff x="3048120" y="1523880"/>
            <a:chExt cx="2998440" cy="1601640"/>
          </a:xfrm>
        </p:grpSpPr>
        <p:grpSp>
          <p:nvGrpSpPr>
            <p:cNvPr id="139" name="Group 11"/>
            <p:cNvGrpSpPr/>
            <p:nvPr/>
          </p:nvGrpSpPr>
          <p:grpSpPr>
            <a:xfrm>
              <a:off x="3048120" y="1666800"/>
              <a:ext cx="2998440" cy="1458720"/>
              <a:chOff x="3048120" y="1666800"/>
              <a:chExt cx="2998440" cy="1458720"/>
            </a:xfrm>
          </p:grpSpPr>
          <p:sp>
            <p:nvSpPr>
              <p:cNvPr id="140" name="Oval 12"/>
              <p:cNvSpPr/>
              <p:nvPr/>
            </p:nvSpPr>
            <p:spPr>
              <a:xfrm>
                <a:off x="3080880" y="171324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5086c2"/>
                  </a:gs>
                  <a:gs pos="100000">
                    <a:srgbClr val="27415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1" name="Oval 13"/>
              <p:cNvSpPr/>
              <p:nvPr/>
            </p:nvSpPr>
            <p:spPr>
              <a:xfrm>
                <a:off x="3048120" y="16668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b1c9e4"/>
                  </a:gs>
                  <a:gs pos="100000">
                    <a:srgbClr val="5086c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42" name="Oval 14"/>
            <p:cNvSpPr/>
            <p:nvPr/>
          </p:nvSpPr>
          <p:spPr>
            <a:xfrm>
              <a:off x="3189600" y="152388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673f21"/>
                </a:gs>
                <a:gs pos="100000">
                  <a:srgbClr val="de884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Oval 15"/>
            <p:cNvSpPr/>
            <p:nvPr/>
          </p:nvSpPr>
          <p:spPr>
            <a:xfrm>
              <a:off x="3224520" y="153180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de8848">
                    <a:alpha val="0"/>
                  </a:srgbClr>
                </a:gs>
                <a:gs pos="100000">
                  <a:srgbClr val="f3d5b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4" name="Oval 16"/>
            <p:cNvSpPr/>
            <p:nvPr/>
          </p:nvSpPr>
          <p:spPr>
            <a:xfrm>
              <a:off x="3251520" y="154476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b06c39"/>
                </a:gs>
                <a:gs pos="100000">
                  <a:srgbClr val="de8848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Oval 17"/>
            <p:cNvSpPr/>
            <p:nvPr/>
          </p:nvSpPr>
          <p:spPr>
            <a:xfrm>
              <a:off x="3383280" y="157176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e8848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Text Box 18"/>
          <p:cNvSpPr/>
          <p:nvPr/>
        </p:nvSpPr>
        <p:spPr>
          <a:xfrm>
            <a:off x="3882960" y="172404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Text Box 19"/>
          <p:cNvSpPr/>
          <p:nvPr/>
        </p:nvSpPr>
        <p:spPr>
          <a:xfrm>
            <a:off x="5810400" y="34290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49" name="Group 3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150" name="Freeform 4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cecec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1" name="Oval 5"/>
            <p:cNvSpPr/>
            <p:nvPr/>
          </p:nvSpPr>
          <p:spPr>
            <a:xfrm rot="20056200">
              <a:off x="434304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2" name="Oval 6"/>
            <p:cNvSpPr/>
            <p:nvPr/>
          </p:nvSpPr>
          <p:spPr>
            <a:xfrm rot="20056200">
              <a:off x="700992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3" name="Oval 7"/>
            <p:cNvSpPr/>
            <p:nvPr/>
          </p:nvSpPr>
          <p:spPr>
            <a:xfrm rot="20056200">
              <a:off x="289512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4" name="Oval 8"/>
            <p:cNvSpPr/>
            <p:nvPr/>
          </p:nvSpPr>
          <p:spPr>
            <a:xfrm rot="20056200">
              <a:off x="548604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5" name="Oval 9"/>
            <p:cNvSpPr/>
            <p:nvPr/>
          </p:nvSpPr>
          <p:spPr>
            <a:xfrm rot="20056200">
              <a:off x="205704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6" name="Oval 10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4c59d2"/>
                </a:gs>
                <a:gs pos="100000">
                  <a:srgbClr val="1a1f4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7" name="Oval 11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de8848"/>
                </a:gs>
                <a:gs pos="100000">
                  <a:srgbClr val="462b1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8" name="Oval 12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85ba54"/>
                </a:gs>
                <a:gs pos="100000">
                  <a:srgbClr val="2f421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9" name="Oval 13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0" name="Oval 14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a0b5c4"/>
                </a:gs>
                <a:gs pos="100000">
                  <a:srgbClr val="373e4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" name="Text Box 15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2" name="Text Box 16"/>
            <p:cNvSpPr/>
            <p:nvPr/>
          </p:nvSpPr>
          <p:spPr>
            <a:xfrm>
              <a:off x="412668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3" name="Text Box 17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4" name="Text Box 18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5" name="Text Box 19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6" name="Text Box 20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7" name="Line 21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cxnSp>
          <p:nvCxnSpPr>
            <p:cNvPr id="168" name="AutoShape 22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003366"/>
              </a:solidFill>
              <a:miter/>
            </a:ln>
          </p:spPr>
        </p:cxnSp>
        <p:sp>
          <p:nvSpPr>
            <p:cNvPr id="169" name="Text Box 23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71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72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a545b"/>
                </a:gs>
                <a:gs pos="50000">
                  <a:srgbClr val="a0b5c4"/>
                </a:gs>
                <a:gs pos="100000">
                  <a:srgbClr val="4a54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3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a545b"/>
                </a:gs>
                <a:gs pos="50000">
                  <a:srgbClr val="a0b5c4"/>
                </a:gs>
                <a:gs pos="100000">
                  <a:srgbClr val="4a54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4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a545b"/>
                </a:gs>
                <a:gs pos="50000">
                  <a:srgbClr val="a0b5c4"/>
                </a:gs>
                <a:gs pos="100000">
                  <a:srgbClr val="4a54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5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6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7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8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95959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9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0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1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2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3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95959">
                    <a:alpha val="12156"/>
                  </a:srgbClr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4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673f21"/>
                </a:gs>
                <a:gs pos="50000">
                  <a:srgbClr val="de8848"/>
                </a:gs>
                <a:gs pos="100000">
                  <a:srgbClr val="673f2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5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7d7d7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6" name="Text Box 18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7" name="AutoShape 19"/>
            <p:cNvSpPr/>
            <p:nvPr/>
          </p:nvSpPr>
          <p:spPr>
            <a:xfrm>
              <a:off x="3125520" y="5288760"/>
              <a:ext cx="2816280" cy="57744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232961"/>
                </a:gs>
                <a:gs pos="50000">
                  <a:srgbClr val="4c59d2"/>
                </a:gs>
                <a:gs pos="100000">
                  <a:srgbClr val="23296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8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7d7d7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91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92" name="Group 4"/>
            <p:cNvGrpSpPr/>
            <p:nvPr/>
          </p:nvGrpSpPr>
          <p:grpSpPr>
            <a:xfrm>
              <a:off x="3008520" y="2209680"/>
              <a:ext cx="2900880" cy="2705400"/>
              <a:chOff x="3008520" y="2209680"/>
              <a:chExt cx="2900880" cy="2705400"/>
            </a:xfrm>
          </p:grpSpPr>
          <p:sp>
            <p:nvSpPr>
              <p:cNvPr id="193" name="AutoShape 5"/>
              <p:cNvSpPr/>
              <p:nvPr/>
            </p:nvSpPr>
            <p:spPr>
              <a:xfrm flipH="1" rot="16200000">
                <a:off x="2926080" y="3259080"/>
                <a:ext cx="4604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5086c2"/>
                  </a:gs>
                  <a:gs pos="100000">
                    <a:srgbClr val="bad0e7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4" name="AutoShape 6"/>
              <p:cNvSpPr/>
              <p:nvPr/>
            </p:nvSpPr>
            <p:spPr>
              <a:xfrm flipH="1" rot="5400000">
                <a:off x="5531760" y="3209040"/>
                <a:ext cx="45864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5086c2"/>
                  </a:gs>
                  <a:gs pos="100000">
                    <a:srgbClr val="bad0e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5" name="AutoShape 7"/>
              <p:cNvSpPr/>
              <p:nvPr/>
            </p:nvSpPr>
            <p:spPr>
              <a:xfrm flipH="1" rot="10800000">
                <a:off x="423684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5086c2"/>
                  </a:gs>
                  <a:gs pos="100000">
                    <a:srgbClr val="bad0e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Oval 8"/>
              <p:cNvSpPr/>
              <p:nvPr/>
            </p:nvSpPr>
            <p:spPr>
              <a:xfrm>
                <a:off x="3305520" y="2209680"/>
                <a:ext cx="23245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Oval 9"/>
              <p:cNvSpPr/>
              <p:nvPr/>
            </p:nvSpPr>
            <p:spPr>
              <a:xfrm>
                <a:off x="3438000" y="2345040"/>
                <a:ext cx="20581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8" name="Oval 10"/>
              <p:cNvSpPr/>
              <p:nvPr/>
            </p:nvSpPr>
            <p:spPr>
              <a:xfrm>
                <a:off x="3560400" y="2471040"/>
                <a:ext cx="181512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4c59d2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9" name="Oval 11"/>
              <p:cNvSpPr/>
              <p:nvPr/>
            </p:nvSpPr>
            <p:spPr>
              <a:xfrm>
                <a:off x="3558960" y="2471040"/>
                <a:ext cx="181620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Oval 12"/>
              <p:cNvSpPr/>
              <p:nvPr/>
            </p:nvSpPr>
            <p:spPr>
              <a:xfrm>
                <a:off x="3678480" y="259596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293072"/>
                  </a:gs>
                  <a:gs pos="50000">
                    <a:srgbClr val="4c59d2"/>
                  </a:gs>
                  <a:gs pos="100000">
                    <a:srgbClr val="29307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1" name="Oval 13"/>
              <p:cNvSpPr/>
              <p:nvPr/>
            </p:nvSpPr>
            <p:spPr>
              <a:xfrm>
                <a:off x="3678480" y="259452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4"/>
            <p:cNvSpPr/>
            <p:nvPr/>
          </p:nvSpPr>
          <p:spPr>
            <a:xfrm>
              <a:off x="1143000" y="370764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a545b"/>
                </a:gs>
                <a:gs pos="50000">
                  <a:srgbClr val="a0b5c4"/>
                </a:gs>
                <a:gs pos="100000">
                  <a:srgbClr val="4a54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3" name="AutoShape 15"/>
            <p:cNvSpPr/>
            <p:nvPr/>
          </p:nvSpPr>
          <p:spPr>
            <a:xfrm>
              <a:off x="1143000" y="3208320"/>
              <a:ext cx="165888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a545b"/>
                </a:gs>
                <a:gs pos="50000">
                  <a:srgbClr val="a0b5c4"/>
                </a:gs>
                <a:gs pos="100000">
                  <a:srgbClr val="4a54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4" name="AutoShape 16"/>
            <p:cNvSpPr/>
            <p:nvPr/>
          </p:nvSpPr>
          <p:spPr>
            <a:xfrm>
              <a:off x="1143000" y="270900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a545b"/>
                </a:gs>
                <a:gs pos="50000">
                  <a:srgbClr val="a0b5c4"/>
                </a:gs>
                <a:gs pos="100000">
                  <a:srgbClr val="4a54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5" name="AutoShape 17"/>
            <p:cNvSpPr/>
            <p:nvPr/>
          </p:nvSpPr>
          <p:spPr>
            <a:xfrm>
              <a:off x="6120360" y="370764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73f21"/>
                </a:gs>
                <a:gs pos="50000">
                  <a:srgbClr val="de8848"/>
                </a:gs>
                <a:gs pos="100000">
                  <a:srgbClr val="673f2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6" name="AutoShape 18"/>
            <p:cNvSpPr/>
            <p:nvPr/>
          </p:nvSpPr>
          <p:spPr>
            <a:xfrm>
              <a:off x="6120360" y="3208320"/>
              <a:ext cx="172836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73f21"/>
                </a:gs>
                <a:gs pos="50000">
                  <a:srgbClr val="de8848"/>
                </a:gs>
                <a:gs pos="100000">
                  <a:srgbClr val="673f2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7" name="AutoShape 19"/>
            <p:cNvSpPr/>
            <p:nvPr/>
          </p:nvSpPr>
          <p:spPr>
            <a:xfrm>
              <a:off x="6120360" y="270900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73f21"/>
                </a:gs>
                <a:gs pos="50000">
                  <a:srgbClr val="de8848"/>
                </a:gs>
                <a:gs pos="100000">
                  <a:srgbClr val="673f2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8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9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0" name="Text Box 22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1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2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3" name="Text Box 25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4" name="Text Box 26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5" name="Text Box 27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Line 3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Line 4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Line 5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Line 6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Line 7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Line 8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Line 9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Line 10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Line 11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Text Box 12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Text Box 14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30" name="Group 16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31" name="Freeform 17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3e5627"/>
                </a:gs>
                <a:gs pos="50000">
                  <a:srgbClr val="85ba54"/>
                </a:gs>
                <a:gs pos="100000">
                  <a:srgbClr val="3e56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2" name="Freeform 18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85ba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3" name="Freeform 19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2961"/>
                </a:gs>
                <a:gs pos="50000">
                  <a:srgbClr val="4c59d2"/>
                </a:gs>
                <a:gs pos="100000">
                  <a:srgbClr val="2329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4" name="Freeform 20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4c59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5" name="Freeform 21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a545b"/>
                </a:gs>
                <a:gs pos="50000">
                  <a:srgbClr val="a0b5c4"/>
                </a:gs>
                <a:gs pos="100000">
                  <a:srgbClr val="4a54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6" name="Freeform 22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0182f"/>
                </a:gs>
                <a:gs pos="50000">
                  <a:srgbClr val="003366"/>
                </a:gs>
                <a:gs pos="100000">
                  <a:srgbClr val="0018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7" name="Freeform 23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8" name="Freeform 24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9" name="Rectangle 25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60873d"/>
                </a:gs>
                <a:gs pos="50000">
                  <a:srgbClr val="85ba54"/>
                </a:gs>
                <a:gs pos="100000">
                  <a:srgbClr val="60873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0" name="Rectangle 26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374198"/>
                </a:gs>
                <a:gs pos="50000">
                  <a:srgbClr val="4c59d2"/>
                </a:gs>
                <a:gs pos="100000">
                  <a:srgbClr val="37419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1" name="Freeform 27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a0b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2" name="Rectangle 28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74838e"/>
                </a:gs>
                <a:gs pos="50000">
                  <a:srgbClr val="a0b5c4"/>
                </a:gs>
                <a:gs pos="100000">
                  <a:srgbClr val="7483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3" name="Rectangle 29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00254a"/>
                </a:gs>
                <a:gs pos="50000">
                  <a:srgbClr val="003366"/>
                </a:gs>
                <a:gs pos="100000">
                  <a:srgbClr val="0025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45" name="Group 18"/>
          <p:cNvGrpSpPr/>
          <p:nvPr/>
        </p:nvGrpSpPr>
        <p:grpSpPr>
          <a:xfrm>
            <a:off x="1432800" y="1065600"/>
            <a:ext cx="5481000" cy="5149080"/>
            <a:chOff x="1432800" y="1065600"/>
            <a:chExt cx="5481000" cy="5149080"/>
          </a:xfrm>
        </p:grpSpPr>
        <p:sp>
          <p:nvSpPr>
            <p:cNvPr id="246" name="Freeform 19"/>
            <p:cNvSpPr/>
            <p:nvPr/>
          </p:nvSpPr>
          <p:spPr>
            <a:xfrm rot="20805000">
              <a:off x="4400640" y="2799000"/>
              <a:ext cx="1150920" cy="331632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7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7" name="Freeform 20"/>
            <p:cNvSpPr/>
            <p:nvPr/>
          </p:nvSpPr>
          <p:spPr>
            <a:xfrm rot="5461200">
              <a:off x="2606400" y="2351160"/>
              <a:ext cx="1150920" cy="331632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9900"/>
                </a:gs>
              </a:gsLst>
              <a:lin ang="161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8" name="Freeform 21"/>
            <p:cNvSpPr/>
            <p:nvPr/>
          </p:nvSpPr>
          <p:spPr>
            <a:xfrm rot="14128200">
              <a:off x="4456800" y="821160"/>
              <a:ext cx="1150920" cy="331776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565868"/>
                </a:gs>
              </a:gsLst>
              <a:lin ang="747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49" name="Group 22"/>
            <p:cNvGrpSpPr/>
            <p:nvPr/>
          </p:nvGrpSpPr>
          <p:grpSpPr>
            <a:xfrm>
              <a:off x="1432800" y="1571040"/>
              <a:ext cx="5481000" cy="4643640"/>
              <a:chOff x="1432800" y="1571040"/>
              <a:chExt cx="5481000" cy="4643640"/>
            </a:xfrm>
          </p:grpSpPr>
          <p:sp>
            <p:nvSpPr>
              <p:cNvPr id="250" name="Freeform 23"/>
              <p:cNvSpPr/>
              <p:nvPr/>
            </p:nvSpPr>
            <p:spPr>
              <a:xfrm>
                <a:off x="4203000" y="2898720"/>
                <a:ext cx="1150560" cy="331596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1" name="Freeform 24"/>
              <p:cNvSpPr/>
              <p:nvPr/>
            </p:nvSpPr>
            <p:spPr>
              <a:xfrm rot="6256200">
                <a:off x="2606400" y="2198160"/>
                <a:ext cx="1150560" cy="331668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53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2" name="Freeform 25"/>
              <p:cNvSpPr/>
              <p:nvPr/>
            </p:nvSpPr>
            <p:spPr>
              <a:xfrm rot="14922600">
                <a:off x="4584240" y="1050480"/>
                <a:ext cx="1150560" cy="331704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667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26"/>
            <p:cNvGrpSpPr/>
            <p:nvPr/>
          </p:nvGrpSpPr>
          <p:grpSpPr>
            <a:xfrm>
              <a:off x="3692520" y="2862360"/>
              <a:ext cx="1339920" cy="1338120"/>
              <a:chOff x="3692520" y="2862360"/>
              <a:chExt cx="1339920" cy="1338120"/>
            </a:xfrm>
          </p:grpSpPr>
          <p:sp>
            <p:nvSpPr>
              <p:cNvPr id="254" name="Oval 27"/>
              <p:cNvSpPr/>
              <p:nvPr/>
            </p:nvSpPr>
            <p:spPr>
              <a:xfrm>
                <a:off x="3692520" y="2862360"/>
                <a:ext cx="1339920" cy="1338120"/>
              </a:xfrm>
              <a:prstGeom prst="ellipse">
                <a:avLst/>
              </a:prstGeom>
              <a:gradFill rotWithShape="0">
                <a:gsLst>
                  <a:gs pos="0">
                    <a:srgbClr val="f14343"/>
                  </a:gs>
                  <a:gs pos="100000">
                    <a:srgbClr val="922929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5" name="Freeform 28"/>
              <p:cNvSpPr/>
              <p:nvPr/>
            </p:nvSpPr>
            <p:spPr>
              <a:xfrm>
                <a:off x="3845520" y="2884320"/>
                <a:ext cx="1033560" cy="5050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56" name="Text Box 29"/>
            <p:cNvSpPr/>
            <p:nvPr/>
          </p:nvSpPr>
          <p:spPr>
            <a:xfrm>
              <a:off x="3888000" y="3353040"/>
              <a:ext cx="94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7" name="Text Box 30"/>
            <p:cNvSpPr/>
            <p:nvPr/>
          </p:nvSpPr>
          <p:spPr>
            <a:xfrm>
              <a:off x="1773360" y="305280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8" name="Text Box 31"/>
            <p:cNvSpPr/>
            <p:nvPr/>
          </p:nvSpPr>
          <p:spPr>
            <a:xfrm>
              <a:off x="4968720" y="222408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9" name="Text Box 32"/>
            <p:cNvSpPr/>
            <p:nvPr/>
          </p:nvSpPr>
          <p:spPr>
            <a:xfrm>
              <a:off x="3303720" y="477540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26:22Z</dcterms:created>
  <dc:creator>Admin</dc:creator>
  <dc:description/>
  <dc:language>en-US</dc:language>
  <cp:lastModifiedBy>Anh Hung Pro</cp:lastModifiedBy>
  <dcterms:modified xsi:type="dcterms:W3CDTF">2016-09-08T15:07:46Z</dcterms:modified>
  <cp:revision>3</cp:revision>
  <dc:subject/>
  <dc:title>PowerPoint Template</dc:title>
</cp:coreProperties>
</file>