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C51-BB65-4B2A-A0D9-793FF833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74C-10E3-4C3D-9ED5-5130F847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C5F-2BCF-4DDA-B4B3-FF55CB3D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E3E-EF9C-427D-B474-474642AC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B4C-CBDC-4290-9EC7-814F6CB8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709-14C2-49CE-A330-42494873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CA5-7994-4F37-A873-9C817B83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824-0E67-4803-B827-698A6A31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33C-8113-4008-977F-7336A3D0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F0C-A3D9-415A-B1D3-19002142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535-E5F9-4553-8464-1DB1331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C3A-2128-451B-AE55-73A940DA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E499-3FE5-410D-A14A-9184A4E72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aphicFrame>
        <p:nvGraphicFramePr>
          <p:cNvPr id="351" name="Object 18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SLIDE </a:t>
            </a:r>
            <a:r>
              <a:rPr b="1" i="1" lang="en-US" sz="4000" spc="-1" strike="noStrike">
                <a:solidFill>
                  <a:srgbClr val="0860d4"/>
                </a:solidFill>
                <a:latin typeface="Verdana"/>
              </a:rPr>
              <a:t>POWERPOINT</a:t>
            </a:r>
            <a:endParaRPr b="1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add your text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240" y="55850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549" name="AutoShape 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17583"/>
                </a:gs>
                <a:gs pos="50000">
                  <a:srgbClr val="5ad9f2"/>
                </a:gs>
                <a:gs pos="100000">
                  <a:srgbClr val="31758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98a9a"/>
                </a:gs>
                <a:gs pos="100000">
                  <a:srgbClr val="5ad9f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Oval 1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562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Oval 1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6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5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Oval 2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32156"/>
                  </a:srgbClr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Oval 2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886"/>
                </a:gs>
                <a:gs pos="50000">
                  <a:srgbClr val="2f85f7"/>
                </a:gs>
                <a:gs pos="100000">
                  <a:srgbClr val="1948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49d"/>
                </a:gs>
                <a:gs pos="100000">
                  <a:srgbClr val="2f85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Oval 2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572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Oval 2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5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577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3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0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1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2f85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5715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 rot="20876400">
            <a:off x="354492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347652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Oval 36"/>
          <p:cNvSpPr/>
          <p:nvPr/>
        </p:nvSpPr>
        <p:spPr>
          <a:xfrm>
            <a:off x="3497400" y="383868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Oval 37"/>
          <p:cNvSpPr/>
          <p:nvPr/>
        </p:nvSpPr>
        <p:spPr>
          <a:xfrm>
            <a:off x="351468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Oval 38"/>
          <p:cNvSpPr/>
          <p:nvPr/>
        </p:nvSpPr>
        <p:spPr>
          <a:xfrm>
            <a:off x="360684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389448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Oval 40"/>
          <p:cNvSpPr/>
          <p:nvPr/>
        </p:nvSpPr>
        <p:spPr>
          <a:xfrm rot="20826600">
            <a:off x="1701720" y="4438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7" name="Group 41"/>
          <p:cNvGrpSpPr/>
          <p:nvPr/>
        </p:nvGrpSpPr>
        <p:grpSpPr>
          <a:xfrm>
            <a:off x="1625760" y="3448080"/>
            <a:ext cx="1371240" cy="1441080"/>
            <a:chOff x="1625760" y="3448080"/>
            <a:chExt cx="1371240" cy="1441080"/>
          </a:xfrm>
        </p:grpSpPr>
        <p:sp>
          <p:nvSpPr>
            <p:cNvPr id="598" name="Oval 42"/>
            <p:cNvSpPr/>
            <p:nvPr/>
          </p:nvSpPr>
          <p:spPr>
            <a:xfrm>
              <a:off x="162576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Oval 43"/>
            <p:cNvSpPr/>
            <p:nvPr/>
          </p:nvSpPr>
          <p:spPr>
            <a:xfrm>
              <a:off x="164340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Oval 44"/>
            <p:cNvSpPr/>
            <p:nvPr/>
          </p:nvSpPr>
          <p:spPr>
            <a:xfrm>
              <a:off x="165672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Oval 45"/>
            <p:cNvSpPr/>
            <p:nvPr/>
          </p:nvSpPr>
          <p:spPr>
            <a:xfrm>
              <a:off x="172836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46"/>
            <p:cNvSpPr/>
            <p:nvPr/>
          </p:nvSpPr>
          <p:spPr>
            <a:xfrm>
              <a:off x="190620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3" name="Oval 47"/>
          <p:cNvSpPr/>
          <p:nvPr/>
        </p:nvSpPr>
        <p:spPr>
          <a:xfrm>
            <a:off x="152388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Oval 48"/>
          <p:cNvSpPr/>
          <p:nvPr/>
        </p:nvSpPr>
        <p:spPr>
          <a:xfrm>
            <a:off x="160020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61280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Oval 50"/>
          <p:cNvSpPr/>
          <p:nvPr/>
        </p:nvSpPr>
        <p:spPr>
          <a:xfrm>
            <a:off x="162396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Oval 51"/>
          <p:cNvSpPr/>
          <p:nvPr/>
        </p:nvSpPr>
        <p:spPr>
          <a:xfrm>
            <a:off x="167796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Text Box 52"/>
          <p:cNvSpPr/>
          <p:nvPr/>
        </p:nvSpPr>
        <p:spPr>
          <a:xfrm>
            <a:off x="179712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Oval 53"/>
          <p:cNvSpPr/>
          <p:nvPr/>
        </p:nvSpPr>
        <p:spPr>
          <a:xfrm>
            <a:off x="279072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Oval 54"/>
          <p:cNvSpPr/>
          <p:nvPr/>
        </p:nvSpPr>
        <p:spPr>
          <a:xfrm>
            <a:off x="291312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Oval 55"/>
          <p:cNvSpPr/>
          <p:nvPr/>
        </p:nvSpPr>
        <p:spPr>
          <a:xfrm>
            <a:off x="292248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Oval 56"/>
          <p:cNvSpPr/>
          <p:nvPr/>
        </p:nvSpPr>
        <p:spPr>
          <a:xfrm>
            <a:off x="292896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Oval 57"/>
          <p:cNvSpPr/>
          <p:nvPr/>
        </p:nvSpPr>
        <p:spPr>
          <a:xfrm>
            <a:off x="2965320" y="16477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Text Box 58"/>
          <p:cNvSpPr/>
          <p:nvPr/>
        </p:nvSpPr>
        <p:spPr>
          <a:xfrm>
            <a:off x="298332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6" name="Freeform 4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7" name="Group 5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618" name="AutoShape 6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AutoShape 7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AutoShape 8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AutoShape 9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10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AutoShape 11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AutoShape 12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5" name="Text Box 13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2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62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63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4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64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5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65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66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67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67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67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68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68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69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9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69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69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69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70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1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71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71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71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1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71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72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73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73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73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3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73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74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5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75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760" name="AutoShape 90"/>
            <p:cNvCxnSpPr>
              <a:stCxn id="756" idx="3"/>
              <a:endCxn id="75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AutoShape 91"/>
            <p:cNvCxnSpPr>
              <a:stCxn id="757" idx="3"/>
              <a:endCxn id="75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765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ad9f2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8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9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0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ad9f2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76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77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8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77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2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9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0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791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4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5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838080" y="2286000"/>
          <a:ext cx="7467840" cy="3090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1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807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cecece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44a4b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15dac"/>
                </a:gs>
                <a:gs pos="100000">
                  <a:srgbClr val="2f85f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888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979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a66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d9f2">
                    <a:alpha val="19215"/>
                  </a:srgbClr>
                </a:gs>
                <a:gs pos="100000">
                  <a:srgbClr val="91e6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Marketing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7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72"/>
              </a:gs>
              <a:gs pos="50000">
                <a:srgbClr val="2f85f7"/>
              </a:gs>
              <a:gs pos="100000">
                <a:srgbClr val="163e7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0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831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5098"/>
                  </a:srgbClr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4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35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37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838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0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85098"/>
                  </a:srgbClr>
                </a:gs>
                <a:gs pos="100000">
                  <a:srgbClr val="1e54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1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2260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2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4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845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6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85098"/>
                  </a:srgbClr>
                </a:gs>
                <a:gs pos="100000">
                  <a:srgbClr val="398a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8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9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51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852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56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3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1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402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4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416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3670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9" name="WordArt 3"/>
          <p:cNvSpPr txBox="1"/>
          <p:nvPr/>
        </p:nvSpPr>
        <p:spPr>
          <a:xfrm>
            <a:off x="1905120" y="365760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f85f7"/>
                    </a:gs>
                    <a:gs pos="100000">
                      <a:srgbClr val="1d528d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f85f7"/>
                  </a:gs>
                  <a:gs pos="100000">
                    <a:srgbClr val="1d528d"/>
                  </a:gs>
                </a:gsLst>
                <a:lin ang="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8840" y="1535040"/>
            <a:ext cx="7824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cbf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43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43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447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1f4b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0f2a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b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1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65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466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46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Text Box 18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48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49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d9f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7583"/>
                  </a:gs>
                  <a:gs pos="50000">
                    <a:srgbClr val="5ad9f2"/>
                  </a:gs>
                  <a:gs pos="100000">
                    <a:srgbClr val="31758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Text Box 23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4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7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528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96f00"/>
                </a:gs>
                <a:gs pos="5000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9db0"/>
                </a:gs>
                <a:gs pos="5000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2f85f7"/>
                </a:gs>
                <a:gs pos="100000">
                  <a:srgbClr val="81b5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994f8"/>
                </a:gs>
                <a:gs pos="50000">
                  <a:srgbClr val="2f85f7"/>
                </a:gs>
                <a:gs pos="100000">
                  <a:srgbClr val="4994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50000">
                  <a:srgbClr val="969696"/>
                </a:gs>
                <a:gs pos="100000">
                  <a:srgbClr val="a9a9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2f85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50000">
                <a:srgbClr val="ffb84d"/>
              </a:gs>
              <a:gs pos="100000">
                <a:srgbClr val="ff990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50000">
                <a:srgbClr val="96bb8f"/>
              </a:gs>
              <a:gs pos="100000">
                <a:srgbClr val="699d5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d9f2"/>
              </a:gs>
              <a:gs pos="50000">
                <a:srgbClr val="8ce4f6"/>
              </a:gs>
              <a:gs pos="100000">
                <a:srgbClr val="5ad9f2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2:21Z</dcterms:created>
  <dc:creator>Admin</dc:creator>
  <dc:description/>
  <dc:language>en-US</dc:language>
  <cp:lastModifiedBy>Nga</cp:lastModifiedBy>
  <dcterms:modified xsi:type="dcterms:W3CDTF">2017-09-15T08:58:44Z</dcterms:modified>
  <cp:revision>4</cp:revision>
  <dc:subject/>
  <dc:title>PowerPoint  Template</dc:title>
</cp:coreProperties>
</file>