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409-CD97-4026-9CD2-EAB9AEE7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C68-1680-49CD-A41C-2BE2A084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999E9-0E6A-43C2-86AB-4B1AAEF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2ABD1-2275-47BF-969C-B3749357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93197-09D8-4E5F-8379-AAFB0E6F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0B262-96EC-4687-857B-F121FD53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0EAFB-ADC4-4840-8FEE-08D6516B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33FDA-3394-44A0-BEFD-E9B06582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306F7-5A02-4EF6-9768-DF116621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582CC-EE50-4626-9C60-244C54BB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9389A-C588-482B-92F7-5A3F5A9C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16EEB-6786-424D-A9A1-290E1BD8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7AA-A2CB-4D16-8654-DD1A3BBD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D031D-6F2B-41D1-83E2-2A6E05EF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9CC47-CEC0-415F-9164-0921BCC1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837B5-0C63-4DAD-983C-D71D489F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105D1-ECE9-4CD4-84D8-0DEA6108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33169-571A-4635-87D3-8389AB5F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ED839-CF66-42B0-9C34-32199AD0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D6152-0C05-4923-BF99-47B4AE0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168E0-0FC6-4A26-B741-69AFE125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ABEC5-F45B-4806-935A-71792FB0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BF937-9CD6-464A-9D99-B7C13AC6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6A4-ECC9-41EA-B3E2-756AB8A8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B033B-E2D2-4439-8F6B-A8E0AA61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5595A-1D3B-4D76-864E-0C6427C7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95075-18AB-4B33-8113-5CCC49C7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B694E-2E70-47C5-900D-2A81AEB6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3C119-7200-45FC-AEDD-C5EB0406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736B1-D508-4581-877E-2FAB7249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4D466-15D7-437D-8069-AE00740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C7463-217A-4F25-BF23-8935562D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B2506-E1EA-436F-81CC-4C5B09AA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2D0C5-9AC7-472D-A61F-59185C75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F6B6-C995-4D9A-88DE-E74A5B99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2FE25-003D-4F37-B43C-7853A5BA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72BD0-8CF3-462E-A712-84FB5D49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BA3EA-56CA-400A-9A6C-22A350B1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CFAB3-6862-4507-BD2A-E4BD1913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940B8-1D46-481E-9DB2-AC129909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21473-4454-4D45-A204-4E2A9C87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C5A41-3783-4733-B78A-F2C22FC4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95BB2-1C92-4D1D-B171-C9F21508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B1686-57B9-4E29-AE41-8659369E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85511-536D-4D74-B88A-DA12F9FA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B6D9-CB0D-4EA2-88CA-F8E18C3A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54656-2D39-445C-9541-BC82714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385BB-A9EB-437B-9C87-9316DE0F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92542-15DD-4F47-8131-2411B67A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FD555-EBA9-49CF-BF25-1187E33F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C717F-86B4-4C89-9774-57F13450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1EE61-6D92-4365-8D63-0B415984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F0939-4CBF-410F-949F-7F0E15ED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A3FA5-200E-474A-A3E5-5F346D09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2E1CA-7AC7-44A8-B1A9-0E7EA531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E8F90-18A7-4514-A410-E335F45C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3C8E-0797-41A3-BFFC-402004AB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EA17C-DA77-4C89-8E51-362E6D52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A2664-3E1D-4F58-BA2A-E645113C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77D2F-EEA8-4223-A423-D54F8B4B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47CA0-0DF0-4AF5-9A11-B60BA27A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3F700-23EB-419A-BA43-FEAF7EAD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3F29A-5F11-4E2E-9F79-D8837E98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CEE41-A6C4-4FCF-BB40-79496C17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0E03-7F6D-436A-80D5-74623042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97D9-F2C6-4DB5-9350-6B209B4F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7B7C-5E3F-437B-93D3-67C11971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925B-3F8E-4F85-B1F5-F3961009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8F6-558E-4799-9473-0DEEA9F0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7AE8-1F23-46FD-8387-274DCDBB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191F-D06F-468E-8610-4D8F3605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FB6F-2DF9-4F65-B1FF-554845A3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B486-A494-476D-B3F7-12FFB1A4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4D8B-7AE2-4B6C-9599-0755CCD6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4B435-AF9C-42E7-AB67-3D177544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570C-8337-46F4-AEBA-6455278B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AF9E-47A2-4561-85C1-8175DFFE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9095-32C6-491F-8288-FDD0E29E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741E7-C856-40ED-8A29-E57F5BDC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530-5D87-4F88-A016-DEDC2C69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562F-646B-4E3B-B69D-76A16C3F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4872-B517-4A47-833C-EFC7CB24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35D2-6082-4577-B02C-E2EF3B41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4696-E2BC-47B4-BBAB-45C743DA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2B95-2E2E-434B-B573-7BEEAF72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C4D2-3FB0-474D-9E7D-80E4D0F5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A8C8-D11A-4DE7-93C2-4067B64C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EFA4-D5A0-44AB-BCDA-39C764C1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F6C9-9AF2-4506-9393-EEB96AE3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BAA2-D655-4714-B7FE-F2DCDE76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B59-F008-4F72-9B4D-815F5F11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206D-529D-48B2-BB14-C5503FDA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0A7F7-9E80-46AB-A2BD-14B7D963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67C38-BFF3-41CD-9783-0565F0C9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0ED79-1F9B-4F23-829D-B3F6C31F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AA7B-1F82-471F-A24A-64ED0B17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1A26C-8CEE-458E-A782-B8E83A8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DE95-2982-498C-8391-53D22AFE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E0AA-121A-42F4-83C0-FA93319A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85EA9-3A88-43D2-89C4-7DDD5812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3282C-02B9-4F74-A36C-99055CB5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395-3BCC-4CB7-A592-DA152EC1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E5A94-8357-45A5-91A9-58D9E52D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73ED0-D2FF-450B-ADC1-7ACF692B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D0BDB-4804-442E-B07C-8402FD61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5CC66-2773-454E-BBDC-1CDDE2BF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F562-5B73-430F-9124-F1B9CFDF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1B954-F905-4A87-9F59-1AA56FD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3C15B-2A0E-4072-AEE1-0BE18006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C2B3-499F-4CB9-8A1B-8E845497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92D4B-48B7-456A-A4FC-BD460FF4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EF1DF-6095-438F-93CA-A13E8184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751-7220-478A-9C87-D2A12CB0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5D1B9-E0AA-420E-9E60-3ADB77B6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8C20B-C954-4721-BF32-393D47B2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E2FF5-F2DD-4D38-A9C4-F55892E3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6394-D449-420E-A71A-B70911DC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7D628-6A0D-4B3D-9DDB-7962A158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727D5-EED1-4E9B-98D0-9F06BB48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5ABB-ABCC-4478-8127-15E26A96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B86AD-A667-47C3-93B0-7B149F51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B829A-40B8-4C2C-93C9-EA3FBEE9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877C5-64B7-41A4-916C-63A4F493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6F5-21A0-4E09-BDEB-8DF18641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DDA0B-C9EE-4700-A9F0-415A5616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2BCC6-1706-4218-94A9-ACAED08A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FE047-147C-4749-BE00-1E5DC677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AACC2-A248-40EA-B985-4715E4B2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4D552-5486-4C1E-8F7E-AC49CD05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5D71D-6768-48C5-9CA7-C6186EE4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E6C61-18A2-4078-8CEA-E0E107E9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DD403-1A23-4442-B469-6979060E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DEDCE-F603-45BA-8454-33343DF5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7797E-8C7F-409F-9245-8B56146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31A-0472-4BBB-98C7-90B67C2A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A43E9-5623-41AF-9FC5-C15298CD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26F84-158E-4DF9-BCE6-0831F0B5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1B2AE-66A0-4BC0-AEB6-3AB3F602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100DE-1DD2-4663-B70F-BB546908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D602-6CAB-44FD-90DA-1C0B9340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D1908-0F09-45F5-8DAE-8D41A6C8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40C77-6700-4E30-B586-C6B172CC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77A29-FA32-46B0-A777-31ADBD8C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9C848-3A98-4224-89EB-740A322E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816F1-2CB1-436B-B011-BDD5B2A5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41C-B9CE-442C-8130-2D2A786F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3DA05-8E0A-4EF8-8E90-BEEFED01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52660-256F-4183-84AE-759CA013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932C-D8FB-4930-91C3-F1A910CB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4C768-7069-4E82-BFA9-A20646C6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CCE3D-5AEC-4D8D-96F2-538DA204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CE6C1-5C0E-4D07-A2A7-3C1427D2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9DD57-1B6E-43B7-BA7B-0E36C559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F28D6-8E01-46DA-BC3E-B3FC2E50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C221E-CB0F-4BD0-9723-1A7FCE44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0A35E-05D4-48EA-92C6-D17FBB59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uthuatphanmem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76C6-F4F2-4892-AF59-6E2D12C97A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C627-86C0-4E3A-B1DD-99EF3174C0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22B2-0E5B-4692-90D6-FEDE1B42C2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82A1-AD97-4FE3-AB3D-0A389C0318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4D4E-EF51-4FF1-AAC7-9010E09424CC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9D6B-C41A-4A3D-A0E8-8DAA04767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7088-A1A1-44E0-9D3E-2DD1107946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363E-44E0-4E68-A8FB-EF73124CE2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8088-AD3E-467C-9571-399450C320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71B0-344B-49F1-A2AD-A0FA3C287B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A986-930F-4F5F-9B9D-1E2980FABC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918F-86E5-47A4-B0A9-619AB69A1F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8EF7-84BC-4F5E-B395-50B682ECB3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2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7b7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7b7e7">
                  <a:alpha val="32156"/>
                </a:srgbClr>
              </a:gs>
              <a:gs pos="100000">
                <a:srgbClr val="3755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37d"/>
              </a:gs>
              <a:gs pos="50000">
                <a:srgbClr val="77b7e7"/>
              </a:gs>
              <a:gs pos="100000">
                <a:srgbClr val="4063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c7493"/>
              </a:gs>
              <a:gs pos="100000">
                <a:srgbClr val="77b7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3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3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3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Freeform 4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33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0" name="Group 34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851" name="Oval 35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2" name="Oval 36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3" name="Oval 37"/>
            <p:cNvSpPr/>
            <p:nvPr/>
          </p:nvSpPr>
          <p:spPr>
            <a:xfrm>
              <a:off x="32688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4" name="Oval 38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5" name="Oval 39"/>
            <p:cNvSpPr/>
            <p:nvPr/>
          </p:nvSpPr>
          <p:spPr>
            <a:xfrm>
              <a:off x="3378240" y="38991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6" name="Text Box 40"/>
            <p:cNvSpPr/>
            <p:nvPr/>
          </p:nvSpPr>
          <p:spPr>
            <a:xfrm>
              <a:off x="36658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Oval 41"/>
            <p:cNvSpPr/>
            <p:nvPr/>
          </p:nvSpPr>
          <p:spPr>
            <a:xfrm rot="20826600">
              <a:off x="14731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58" name="Group 42"/>
            <p:cNvGrpSpPr/>
            <p:nvPr/>
          </p:nvGrpSpPr>
          <p:grpSpPr>
            <a:xfrm>
              <a:off x="1397160" y="3448080"/>
              <a:ext cx="1371240" cy="1441080"/>
              <a:chOff x="1397160" y="3448080"/>
              <a:chExt cx="1371240" cy="1441080"/>
            </a:xfrm>
          </p:grpSpPr>
          <p:sp>
            <p:nvSpPr>
              <p:cNvPr id="859" name="Oval 43"/>
              <p:cNvSpPr/>
              <p:nvPr/>
            </p:nvSpPr>
            <p:spPr>
              <a:xfrm>
                <a:off x="13971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0" name="Oval 44"/>
              <p:cNvSpPr/>
              <p:nvPr/>
            </p:nvSpPr>
            <p:spPr>
              <a:xfrm>
                <a:off x="14148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1" name="Oval 45"/>
              <p:cNvSpPr/>
              <p:nvPr/>
            </p:nvSpPr>
            <p:spPr>
              <a:xfrm>
                <a:off x="14281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2" name="Oval 46"/>
              <p:cNvSpPr/>
              <p:nvPr/>
            </p:nvSpPr>
            <p:spPr>
              <a:xfrm>
                <a:off x="14997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3" name="Text Box 47"/>
              <p:cNvSpPr/>
              <p:nvPr/>
            </p:nvSpPr>
            <p:spPr>
              <a:xfrm>
                <a:off x="16776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64" name="Oval 48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5" name="Oval 49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Oval 50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7" name="Oval 51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8" name="Oval 52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Text Box 53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0" name="Oval 54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1" name="Oval 55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Oval 56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4" name="Oval 58"/>
            <p:cNvSpPr/>
            <p:nvPr/>
          </p:nvSpPr>
          <p:spPr>
            <a:xfrm>
              <a:off x="2736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Text Box 59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Date Placeholder 2"/>
          <p:cNvSpPr/>
          <p:nvPr/>
        </p:nvSpPr>
        <p:spPr>
          <a:xfrm>
            <a:off x="457200" y="6461280"/>
            <a:ext cx="228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52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880" name="Oval 53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1" name="Group 54"/>
            <p:cNvGrpSpPr/>
            <p:nvPr/>
          </p:nvGrpSpPr>
          <p:grpSpPr>
            <a:xfrm>
              <a:off x="3659040" y="3126600"/>
              <a:ext cx="1907640" cy="1967400"/>
              <a:chOff x="3659040" y="3126600"/>
              <a:chExt cx="1907640" cy="1967400"/>
            </a:xfrm>
          </p:grpSpPr>
          <p:sp>
            <p:nvSpPr>
              <p:cNvPr id="882" name="Oval 55"/>
              <p:cNvSpPr/>
              <p:nvPr/>
            </p:nvSpPr>
            <p:spPr>
              <a:xfrm>
                <a:off x="3659040" y="3126600"/>
                <a:ext cx="19076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83" name="Freeform 56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84" name="Text Box 57"/>
            <p:cNvSpPr/>
            <p:nvPr/>
          </p:nvSpPr>
          <p:spPr>
            <a:xfrm>
              <a:off x="3951000" y="38998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5" name="Group 58"/>
            <p:cNvGrpSpPr/>
            <p:nvPr/>
          </p:nvGrpSpPr>
          <p:grpSpPr>
            <a:xfrm>
              <a:off x="4224240" y="1861560"/>
              <a:ext cx="635760" cy="607320"/>
              <a:chOff x="4224240" y="1861560"/>
              <a:chExt cx="635760" cy="607320"/>
            </a:xfrm>
          </p:grpSpPr>
          <p:grpSp>
            <p:nvGrpSpPr>
              <p:cNvPr id="886" name="Group 59"/>
              <p:cNvGrpSpPr/>
              <p:nvPr/>
            </p:nvGrpSpPr>
            <p:grpSpPr>
              <a:xfrm>
                <a:off x="4224240" y="1861560"/>
                <a:ext cx="635760" cy="607320"/>
                <a:chOff x="4224240" y="1861560"/>
                <a:chExt cx="635760" cy="607320"/>
              </a:xfrm>
            </p:grpSpPr>
            <p:sp>
              <p:nvSpPr>
                <p:cNvPr id="887" name="Oval 60"/>
                <p:cNvSpPr/>
                <p:nvPr/>
              </p:nvSpPr>
              <p:spPr>
                <a:xfrm>
                  <a:off x="4224240" y="186156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61"/>
                <p:cNvSpPr/>
                <p:nvPr/>
              </p:nvSpPr>
              <p:spPr>
                <a:xfrm>
                  <a:off x="4296600" y="1871640"/>
                  <a:ext cx="48996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Text Box 62"/>
              <p:cNvSpPr/>
              <p:nvPr/>
            </p:nvSpPr>
            <p:spPr>
              <a:xfrm>
                <a:off x="4364280" y="1954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63"/>
            <p:cNvGrpSpPr/>
            <p:nvPr/>
          </p:nvGrpSpPr>
          <p:grpSpPr>
            <a:xfrm>
              <a:off x="3607200" y="4891320"/>
              <a:ext cx="339840" cy="308880"/>
              <a:chOff x="3607200" y="4891320"/>
              <a:chExt cx="339840" cy="308880"/>
            </a:xfrm>
          </p:grpSpPr>
          <p:sp>
            <p:nvSpPr>
              <p:cNvPr id="891" name="Oval 64"/>
              <p:cNvSpPr/>
              <p:nvPr/>
            </p:nvSpPr>
            <p:spPr>
              <a:xfrm rot="18226800">
                <a:off x="3633480" y="505116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92" name="Oval 65"/>
              <p:cNvSpPr/>
              <p:nvPr/>
            </p:nvSpPr>
            <p:spPr>
              <a:xfrm rot="18226800">
                <a:off x="3801240" y="4912200"/>
                <a:ext cx="119160" cy="1274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66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894" name="Group 67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895" name="Oval 68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9"/>
                <p:cNvSpPr/>
                <p:nvPr/>
              </p:nvSpPr>
              <p:spPr>
                <a:xfrm>
                  <a:off x="3095640" y="5169600"/>
                  <a:ext cx="48996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 Box 70"/>
              <p:cNvSpPr/>
              <p:nvPr/>
            </p:nvSpPr>
            <p:spPr>
              <a:xfrm>
                <a:off x="3157200" y="5279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71"/>
            <p:cNvGrpSpPr/>
            <p:nvPr/>
          </p:nvGrpSpPr>
          <p:grpSpPr>
            <a:xfrm>
              <a:off x="6134760" y="3126600"/>
              <a:ext cx="633240" cy="639720"/>
              <a:chOff x="6134760" y="3126600"/>
              <a:chExt cx="633240" cy="639720"/>
            </a:xfrm>
          </p:grpSpPr>
          <p:grpSp>
            <p:nvGrpSpPr>
              <p:cNvPr id="899" name="Group 72"/>
              <p:cNvGrpSpPr/>
              <p:nvPr/>
            </p:nvGrpSpPr>
            <p:grpSpPr>
              <a:xfrm>
                <a:off x="6134760" y="3126600"/>
                <a:ext cx="633240" cy="639720"/>
                <a:chOff x="6134760" y="3126600"/>
                <a:chExt cx="633240" cy="639720"/>
              </a:xfrm>
            </p:grpSpPr>
            <p:sp>
              <p:nvSpPr>
                <p:cNvPr id="900" name="Oval 73"/>
                <p:cNvSpPr/>
                <p:nvPr/>
              </p:nvSpPr>
              <p:spPr>
                <a:xfrm>
                  <a:off x="6134760" y="3126600"/>
                  <a:ext cx="633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4"/>
                <p:cNvSpPr/>
                <p:nvPr/>
              </p:nvSpPr>
              <p:spPr>
                <a:xfrm>
                  <a:off x="6206400" y="3136680"/>
                  <a:ext cx="48924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Text Box 75"/>
              <p:cNvSpPr/>
              <p:nvPr/>
            </p:nvSpPr>
            <p:spPr>
              <a:xfrm>
                <a:off x="625716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6"/>
            <p:cNvGrpSpPr/>
            <p:nvPr/>
          </p:nvGrpSpPr>
          <p:grpSpPr>
            <a:xfrm>
              <a:off x="5566680" y="5164560"/>
              <a:ext cx="606240" cy="573480"/>
              <a:chOff x="5566680" y="5164560"/>
              <a:chExt cx="606240" cy="573480"/>
            </a:xfrm>
          </p:grpSpPr>
          <p:grpSp>
            <p:nvGrpSpPr>
              <p:cNvPr id="904" name="Group 77"/>
              <p:cNvGrpSpPr/>
              <p:nvPr/>
            </p:nvGrpSpPr>
            <p:grpSpPr>
              <a:xfrm>
                <a:off x="5566680" y="5164560"/>
                <a:ext cx="606240" cy="573480"/>
                <a:chOff x="5566680" y="5164560"/>
                <a:chExt cx="606240" cy="573480"/>
              </a:xfrm>
            </p:grpSpPr>
            <p:sp>
              <p:nvSpPr>
                <p:cNvPr id="905" name="Oval 78"/>
                <p:cNvSpPr/>
                <p:nvPr/>
              </p:nvSpPr>
              <p:spPr>
                <a:xfrm>
                  <a:off x="5566680" y="51645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9"/>
                <p:cNvSpPr/>
                <p:nvPr/>
              </p:nvSpPr>
              <p:spPr>
                <a:xfrm>
                  <a:off x="5635080" y="5174640"/>
                  <a:ext cx="46764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Text Box 80"/>
              <p:cNvSpPr/>
              <p:nvPr/>
            </p:nvSpPr>
            <p:spPr>
              <a:xfrm>
                <a:off x="5699520" y="5193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81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909" name="Group 82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910" name="Oval 83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653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"/>
                <p:cNvSpPr/>
                <p:nvPr/>
              </p:nvSpPr>
              <p:spPr>
                <a:xfrm>
                  <a:off x="2601000" y="3136680"/>
                  <a:ext cx="4910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Text Box 85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13" name="Oval 86"/>
            <p:cNvSpPr/>
            <p:nvPr/>
          </p:nvSpPr>
          <p:spPr>
            <a:xfrm rot="18226800">
              <a:off x="5500440" y="5019480"/>
              <a:ext cx="11880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4" name="Oval 87"/>
            <p:cNvSpPr/>
            <p:nvPr/>
          </p:nvSpPr>
          <p:spPr>
            <a:xfrm rot="18226800">
              <a:off x="5357520" y="48787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15" name="Group 88"/>
            <p:cNvGrpSpPr/>
            <p:nvPr/>
          </p:nvGrpSpPr>
          <p:grpSpPr>
            <a:xfrm>
              <a:off x="3212280" y="3522600"/>
              <a:ext cx="384840" cy="240840"/>
              <a:chOff x="3212280" y="3522600"/>
              <a:chExt cx="384840" cy="240840"/>
            </a:xfrm>
          </p:grpSpPr>
          <p:sp>
            <p:nvSpPr>
              <p:cNvPr id="916" name="Oval 89"/>
              <p:cNvSpPr/>
              <p:nvPr/>
            </p:nvSpPr>
            <p:spPr>
              <a:xfrm rot="18226800">
                <a:off x="3238920" y="3543840"/>
                <a:ext cx="120240" cy="12852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569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17" name="Oval 90"/>
              <p:cNvSpPr/>
              <p:nvPr/>
            </p:nvSpPr>
            <p:spPr>
              <a:xfrm rot="18226800">
                <a:off x="3450600" y="3613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a59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1"/>
            <p:cNvGrpSpPr/>
            <p:nvPr/>
          </p:nvGrpSpPr>
          <p:grpSpPr>
            <a:xfrm>
              <a:off x="4484520" y="2579400"/>
              <a:ext cx="173160" cy="431280"/>
              <a:chOff x="4484520" y="2579400"/>
              <a:chExt cx="173160" cy="431280"/>
            </a:xfrm>
          </p:grpSpPr>
          <p:sp>
            <p:nvSpPr>
              <p:cNvPr id="919" name="Oval 92"/>
              <p:cNvSpPr/>
              <p:nvPr/>
            </p:nvSpPr>
            <p:spPr>
              <a:xfrm rot="18226800">
                <a:off x="4511160" y="260064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e3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20" name="Oval 93"/>
              <p:cNvSpPr/>
              <p:nvPr/>
            </p:nvSpPr>
            <p:spPr>
              <a:xfrm rot="18226800">
                <a:off x="4511160" y="286092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2533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21" name="Oval 94"/>
            <p:cNvSpPr/>
            <p:nvPr/>
          </p:nvSpPr>
          <p:spPr>
            <a:xfrm rot="18226800">
              <a:off x="5870520" y="3571560"/>
              <a:ext cx="119520" cy="126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Oval 95"/>
            <p:cNvSpPr/>
            <p:nvPr/>
          </p:nvSpPr>
          <p:spPr>
            <a:xfrm rot="18226800">
              <a:off x="5642280" y="3683520"/>
              <a:ext cx="11844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Text Box 96"/>
            <p:cNvSpPr/>
            <p:nvPr/>
          </p:nvSpPr>
          <p:spPr>
            <a:xfrm>
              <a:off x="762120" y="32673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Text Box 97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Text Box 98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Text Box 99"/>
            <p:cNvSpPr/>
            <p:nvPr/>
          </p:nvSpPr>
          <p:spPr>
            <a:xfrm>
              <a:off x="111528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Text Box 100"/>
            <p:cNvSpPr/>
            <p:nvPr/>
          </p:nvSpPr>
          <p:spPr>
            <a:xfrm>
              <a:off x="620244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931" name="AutoShape 4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AutoShape 5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AutoShape 6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4" name="AutoShape 7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5" name="AutoShape 8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AutoShape 9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37" name="Group 10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938" name="Oval 11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39" name="Oval 12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0" name="Oval 13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1" name="Oval 14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2" name="Oval 15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43" name="Text Box 16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Text Box 17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45" name="Group 18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946" name="AutoShape 19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7" name="AutoShape 20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8" name="AutoShape 21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9" name="AutoShape 22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0" name="Oval 23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1" name="Oval 24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3" name="Oval 26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4" name="Oval 27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5" name="Text Box 28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6" name="Text Box 29"/>
            <p:cNvSpPr/>
            <p:nvPr/>
          </p:nvSpPr>
          <p:spPr>
            <a:xfrm>
              <a:off x="36572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7" name="AutoShape 30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8" name="AutoShape 31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59" name="Group 32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960" name="AutoShape 33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1" name="AutoShape 34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2" name="AutoShape 35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3" name="AutoShape 36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64" name="Group 37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965" name="Oval 38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6" name="Oval 39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7" name="Oval 40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8" name="Oval 41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9" name="Oval 42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70" name="Text Box 43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Text Box 44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AutoShape 45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Date Placeholder 3"/>
          <p:cNvSpPr/>
          <p:nvPr/>
        </p:nvSpPr>
        <p:spPr>
          <a:xfrm>
            <a:off x="457200" y="6461280"/>
            <a:ext cx="22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9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9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9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9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9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10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10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10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10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10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10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10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10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10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10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10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5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106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064" name="AutoShape 90"/>
            <p:cNvCxnSpPr>
              <a:stCxn id="1060" idx="3"/>
              <a:endCxn id="106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5" name="AutoShape 91"/>
            <p:cNvCxnSpPr>
              <a:stCxn id="1061" idx="3"/>
              <a:endCxn id="106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Date Placeholder 3"/>
          <p:cNvSpPr/>
          <p:nvPr/>
        </p:nvSpPr>
        <p:spPr>
          <a:xfrm>
            <a:off x="457200" y="6461280"/>
            <a:ext cx="22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1071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755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3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1074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077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8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1079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083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4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457200" y="6461280"/>
            <a:ext cx="217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755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204f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7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Date Placeholder 3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9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38080" y="2432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Date Placeholder 2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325520" y="1531080"/>
            <a:ext cx="6598800" cy="4675680"/>
            <a:chOff x="1325520" y="1531080"/>
            <a:chExt cx="6598800" cy="4675680"/>
          </a:xfrm>
        </p:grpSpPr>
        <p:sp>
          <p:nvSpPr>
            <p:cNvPr id="1115" name="Oval 3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7" name="Oval 5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Arc 6"/>
            <p:cNvSpPr/>
            <p:nvPr/>
          </p:nvSpPr>
          <p:spPr>
            <a:xfrm rot="20601600">
              <a:off x="4349520" y="2155320"/>
              <a:ext cx="284904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Arc 7"/>
            <p:cNvSpPr/>
            <p:nvPr/>
          </p:nvSpPr>
          <p:spPr>
            <a:xfrm flipH="1" rot="20602200">
              <a:off x="1937880" y="403056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380a1"/>
                </a:gs>
                <a:gs pos="100000">
                  <a:srgbClr val="77b7e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Arc 8"/>
            <p:cNvSpPr/>
            <p:nvPr/>
          </p:nvSpPr>
          <p:spPr>
            <a:xfrm rot="20601600">
              <a:off x="2946240" y="220140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Arc 9"/>
            <p:cNvSpPr/>
            <p:nvPr/>
          </p:nvSpPr>
          <p:spPr>
            <a:xfrm flipH="1" rot="20602200">
              <a:off x="1594440" y="2795400"/>
              <a:ext cx="285084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/>
                </a:gs>
                <a:gs pos="100000">
                  <a:srgbClr val="204f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d6d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Arc 11"/>
            <p:cNvSpPr/>
            <p:nvPr/>
          </p:nvSpPr>
          <p:spPr>
            <a:xfrm rot="20539200">
              <a:off x="4732200" y="3087360"/>
              <a:ext cx="272844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Oval 13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Text Box 14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Text Box 17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Text Box 18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Oval 20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AutoShape 3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dbdff"/>
              </a:gs>
              <a:gs pos="100000">
                <a:srgbClr val="9999ff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066680" y="4254480"/>
            <a:ext cx="1579680" cy="2069640"/>
            <a:chOff x="1066680" y="4254480"/>
            <a:chExt cx="1579680" cy="2069640"/>
          </a:xfrm>
        </p:grpSpPr>
        <p:grpSp>
          <p:nvGrpSpPr>
            <p:cNvPr id="1140" name="Group 7"/>
            <p:cNvGrpSpPr/>
            <p:nvPr/>
          </p:nvGrpSpPr>
          <p:grpSpPr>
            <a:xfrm>
              <a:off x="1066680" y="4254480"/>
              <a:ext cx="1486080" cy="1514160"/>
              <a:chOff x="1066680" y="4254480"/>
              <a:chExt cx="1486080" cy="1514160"/>
            </a:xfrm>
          </p:grpSpPr>
          <p:grpSp>
            <p:nvGrpSpPr>
              <p:cNvPr id="1141" name="Group 8"/>
              <p:cNvGrpSpPr/>
              <p:nvPr/>
            </p:nvGrpSpPr>
            <p:grpSpPr>
              <a:xfrm>
                <a:off x="1066680" y="4254480"/>
                <a:ext cx="1486080" cy="1514160"/>
                <a:chOff x="1066680" y="4254480"/>
                <a:chExt cx="1486080" cy="1514160"/>
              </a:xfrm>
            </p:grpSpPr>
            <p:sp>
              <p:nvSpPr>
                <p:cNvPr id="1142" name="Oval 9"/>
                <p:cNvSpPr/>
                <p:nvPr/>
              </p:nvSpPr>
              <p:spPr>
                <a:xfrm>
                  <a:off x="106668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c6d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0"/>
                <p:cNvSpPr/>
                <p:nvPr/>
              </p:nvSpPr>
              <p:spPr>
                <a:xfrm>
                  <a:off x="123660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11"/>
              <p:cNvSpPr/>
              <p:nvPr/>
            </p:nvSpPr>
            <p:spPr>
              <a:xfrm>
                <a:off x="122508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5" name="Oval 12"/>
            <p:cNvSpPr/>
            <p:nvPr/>
          </p:nvSpPr>
          <p:spPr>
            <a:xfrm>
              <a:off x="1066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1147" name="Group 14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1148" name="Oval 15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49" name="Freeform 16"/>
              <p:cNvSpPr/>
              <p:nvPr/>
            </p:nvSpPr>
            <p:spPr>
              <a:xfrm>
                <a:off x="314676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Oval 18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19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1153" name="Group 20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1154" name="Oval 21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d5e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55" name="Freeform 22"/>
              <p:cNvSpPr/>
              <p:nvPr/>
            </p:nvSpPr>
            <p:spPr>
              <a:xfrm>
                <a:off x="520344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6" name="Text Box 23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Oval 24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5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1159" name="Group 26"/>
            <p:cNvGrpSpPr/>
            <p:nvPr/>
          </p:nvGrpSpPr>
          <p:grpSpPr>
            <a:xfrm>
              <a:off x="6934320" y="4210200"/>
              <a:ext cx="1523880" cy="1531440"/>
              <a:chOff x="6934320" y="4210200"/>
              <a:chExt cx="1523880" cy="1531440"/>
            </a:xfrm>
          </p:grpSpPr>
          <p:grpSp>
            <p:nvGrpSpPr>
              <p:cNvPr id="1160" name="Group 27"/>
              <p:cNvGrpSpPr/>
              <p:nvPr/>
            </p:nvGrpSpPr>
            <p:grpSpPr>
              <a:xfrm>
                <a:off x="6934320" y="4210200"/>
                <a:ext cx="1523880" cy="1531440"/>
                <a:chOff x="6934320" y="4210200"/>
                <a:chExt cx="1523880" cy="1531440"/>
              </a:xfrm>
            </p:grpSpPr>
            <p:sp>
              <p:nvSpPr>
                <p:cNvPr id="1161" name="Oval 28"/>
                <p:cNvSpPr/>
                <p:nvPr/>
              </p:nvSpPr>
              <p:spPr>
                <a:xfrm>
                  <a:off x="693432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9"/>
                <p:cNvSpPr/>
                <p:nvPr/>
              </p:nvSpPr>
              <p:spPr>
                <a:xfrm>
                  <a:off x="710856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Text Box 30"/>
              <p:cNvSpPr/>
              <p:nvPr/>
            </p:nvSpPr>
            <p:spPr>
              <a:xfrm>
                <a:off x="7077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64" name="Oval 31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2" name="Group 41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653" name="AutoShape 42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4" name="AutoShape 43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Text Box 44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6" name="Text Box 45"/>
            <p:cNvSpPr/>
            <p:nvPr/>
          </p:nvSpPr>
          <p:spPr>
            <a:xfrm>
              <a:off x="25182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57" name="Group 46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658" name="AutoShape 47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9" name="AutoShape 48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2518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663" name="AutoShape 52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5" name="Text Box 54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6" name="Text Box 55"/>
            <p:cNvSpPr/>
            <p:nvPr/>
          </p:nvSpPr>
          <p:spPr>
            <a:xfrm>
              <a:off x="2518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7" name="Group 56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668" name="AutoShape 57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9" name="AutoShape 58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0" name="Text Box 59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25182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WordArt 5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347d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347d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ab7d"/>
              </a:gs>
              <a:gs pos="100000">
                <a:srgbClr val="89ca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68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68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68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9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697" name="Freeform 4"/>
            <p:cNvSpPr/>
            <p:nvPr/>
          </p:nvSpPr>
          <p:spPr>
            <a:xfrm rot="20241600">
              <a:off x="140904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20056200">
              <a:off x="7180560" y="281196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 rot="20056200">
              <a:off x="3031560" y="547344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 rot="20056200">
              <a:off x="5614920" y="4899240"/>
              <a:ext cx="1095480" cy="3128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3904560" y="19512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608120" y="33048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Oval 12"/>
            <p:cNvSpPr/>
            <p:nvPr/>
          </p:nvSpPr>
          <p:spPr>
            <a:xfrm>
              <a:off x="2414160" y="4811760"/>
              <a:ext cx="11707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93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>
              <a:off x="4950000" y="425232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Oval 14"/>
            <p:cNvSpPr/>
            <p:nvPr/>
          </p:nvSpPr>
          <p:spPr>
            <a:xfrm>
              <a:off x="6619680" y="2153160"/>
              <a:ext cx="110880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Text Box 16"/>
            <p:cNvSpPr/>
            <p:nvPr/>
          </p:nvSpPr>
          <p:spPr>
            <a:xfrm>
              <a:off x="421704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Text Box 17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1" name="Text Box 18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Text Box 20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715" name="AutoShape 22"/>
            <p:cNvCxnSpPr/>
            <p:nvPr/>
          </p:nvCxnSpPr>
          <p:spPr>
            <a:xfrm flipH="1">
              <a:off x="889920" y="2356920"/>
              <a:ext cx="1773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716" name="Text Box 23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20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2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f3a"/>
                </a:gs>
                <a:gs pos="50000">
                  <a:srgbClr val="45ab7d"/>
                </a:gs>
                <a:gs pos="100000">
                  <a:srgbClr val="204f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4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74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5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75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56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768" name="Group 35"/>
            <p:cNvGrpSpPr/>
            <p:nvPr/>
          </p:nvGrpSpPr>
          <p:grpSpPr>
            <a:xfrm>
              <a:off x="1828800" y="1752480"/>
              <a:ext cx="5334120" cy="1225800"/>
              <a:chOff x="1828800" y="1752480"/>
              <a:chExt cx="5334120" cy="1225800"/>
            </a:xfrm>
          </p:grpSpPr>
          <p:sp>
            <p:nvSpPr>
              <p:cNvPr id="769" name="AutoShape 36"/>
              <p:cNvSpPr/>
              <p:nvPr/>
            </p:nvSpPr>
            <p:spPr>
              <a:xfrm>
                <a:off x="1828800" y="1752480"/>
                <a:ext cx="5334120" cy="122580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0" name="Group 37"/>
              <p:cNvGrpSpPr/>
              <p:nvPr/>
            </p:nvGrpSpPr>
            <p:grpSpPr>
              <a:xfrm>
                <a:off x="1945080" y="1865160"/>
                <a:ext cx="1028160" cy="1002600"/>
                <a:chOff x="1945080" y="1865160"/>
                <a:chExt cx="1028160" cy="1002600"/>
              </a:xfrm>
            </p:grpSpPr>
            <p:sp>
              <p:nvSpPr>
                <p:cNvPr id="771" name="AutoShape 38"/>
                <p:cNvSpPr/>
                <p:nvPr/>
              </p:nvSpPr>
              <p:spPr>
                <a:xfrm>
                  <a:off x="1945080" y="1865160"/>
                  <a:ext cx="1028160" cy="1002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380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"/>
                <p:cNvSpPr/>
                <p:nvPr/>
              </p:nvSpPr>
              <p:spPr>
                <a:xfrm>
                  <a:off x="2009160" y="1929600"/>
                  <a:ext cx="51264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5d8f2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5d8f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40"/>
                <p:cNvSpPr/>
                <p:nvPr/>
              </p:nvSpPr>
              <p:spPr>
                <a:xfrm>
                  <a:off x="2021760" y="21380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41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42"/>
            <p:cNvGrpSpPr/>
            <p:nvPr/>
          </p:nvGrpSpPr>
          <p:grpSpPr>
            <a:xfrm>
              <a:off x="1828800" y="3193560"/>
              <a:ext cx="5334120" cy="1226160"/>
              <a:chOff x="1828800" y="3193560"/>
              <a:chExt cx="5334120" cy="1226160"/>
            </a:xfrm>
          </p:grpSpPr>
          <p:sp>
            <p:nvSpPr>
              <p:cNvPr id="776" name="AutoShape 43"/>
              <p:cNvSpPr/>
              <p:nvPr/>
            </p:nvSpPr>
            <p:spPr>
              <a:xfrm>
                <a:off x="1828800" y="319356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7" name="Group 44"/>
              <p:cNvGrpSpPr/>
              <p:nvPr/>
            </p:nvGrpSpPr>
            <p:grpSpPr>
              <a:xfrm>
                <a:off x="1945080" y="3306240"/>
                <a:ext cx="1028160" cy="1002960"/>
                <a:chOff x="1945080" y="3306240"/>
                <a:chExt cx="1028160" cy="1002960"/>
              </a:xfrm>
            </p:grpSpPr>
            <p:sp>
              <p:nvSpPr>
                <p:cNvPr id="778" name="AutoShape 45"/>
                <p:cNvSpPr/>
                <p:nvPr/>
              </p:nvSpPr>
              <p:spPr>
                <a:xfrm>
                  <a:off x="1945080" y="330624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6"/>
                <p:cNvSpPr/>
                <p:nvPr/>
              </p:nvSpPr>
              <p:spPr>
                <a:xfrm>
                  <a:off x="2009160" y="337068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47"/>
                <p:cNvSpPr/>
                <p:nvPr/>
              </p:nvSpPr>
              <p:spPr>
                <a:xfrm>
                  <a:off x="2021760" y="35805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8"/>
              <p:cNvSpPr/>
              <p:nvPr/>
            </p:nvSpPr>
            <p:spPr>
              <a:xfrm>
                <a:off x="3114000" y="336132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49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783" name="AutoShape 50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84" name="Group 51"/>
              <p:cNvGrpSpPr/>
              <p:nvPr/>
            </p:nvGrpSpPr>
            <p:grpSpPr>
              <a:xfrm>
                <a:off x="1945080" y="4756680"/>
                <a:ext cx="1028160" cy="1002960"/>
                <a:chOff x="1945080" y="4756680"/>
                <a:chExt cx="1028160" cy="1002960"/>
              </a:xfrm>
            </p:grpSpPr>
            <p:sp>
              <p:nvSpPr>
                <p:cNvPr id="785" name="AutoShape 52"/>
                <p:cNvSpPr/>
                <p:nvPr/>
              </p:nvSpPr>
              <p:spPr>
                <a:xfrm>
                  <a:off x="1945080" y="475668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9caac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3"/>
                <p:cNvSpPr/>
                <p:nvPr/>
              </p:nvSpPr>
              <p:spPr>
                <a:xfrm>
                  <a:off x="2009160" y="482220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d6c0"/>
                    </a:gs>
                    <a:gs pos="100000">
                      <a:srgbClr val="45ab7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54"/>
                <p:cNvSpPr/>
                <p:nvPr/>
              </p:nvSpPr>
              <p:spPr>
                <a:xfrm>
                  <a:off x="2021760" y="50320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5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91" name="Group 18"/>
          <p:cNvGrpSpPr/>
          <p:nvPr/>
        </p:nvGrpSpPr>
        <p:grpSpPr>
          <a:xfrm>
            <a:off x="1625400" y="989280"/>
            <a:ext cx="5479920" cy="5148720"/>
            <a:chOff x="1625400" y="989280"/>
            <a:chExt cx="5479920" cy="5148720"/>
          </a:xfrm>
        </p:grpSpPr>
        <p:sp>
          <p:nvSpPr>
            <p:cNvPr id="792" name="Freeform 19"/>
            <p:cNvSpPr/>
            <p:nvPr/>
          </p:nvSpPr>
          <p:spPr>
            <a:xfrm rot="20805000">
              <a:off x="4592160" y="2723760"/>
              <a:ext cx="1150560" cy="33148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47ec4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 rot="5461200">
              <a:off x="2798640" y="2275200"/>
              <a:ext cx="115020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 rot="14128200">
              <a:off x="4650120" y="744480"/>
              <a:ext cx="115020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795" name="Group 22"/>
            <p:cNvGrpSpPr/>
            <p:nvPr/>
          </p:nvGrpSpPr>
          <p:grpSpPr>
            <a:xfrm>
              <a:off x="1625400" y="1495440"/>
              <a:ext cx="5479920" cy="4642560"/>
              <a:chOff x="1625400" y="1495440"/>
              <a:chExt cx="5479920" cy="4642560"/>
            </a:xfrm>
          </p:grpSpPr>
          <p:sp>
            <p:nvSpPr>
              <p:cNvPr id="796" name="Freeform 23"/>
              <p:cNvSpPr/>
              <p:nvPr/>
            </p:nvSpPr>
            <p:spPr>
              <a:xfrm>
                <a:off x="4394880" y="2823120"/>
                <a:ext cx="1150560" cy="33148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7" name="Freeform 24"/>
              <p:cNvSpPr/>
              <p:nvPr/>
            </p:nvSpPr>
            <p:spPr>
              <a:xfrm rot="6256200">
                <a:off x="2799000" y="212220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8" name="Freeform 25"/>
              <p:cNvSpPr/>
              <p:nvPr/>
            </p:nvSpPr>
            <p:spPr>
              <a:xfrm rot="14922600">
                <a:off x="4776480" y="97452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6"/>
            <p:cNvGrpSpPr/>
            <p:nvPr/>
          </p:nvGrpSpPr>
          <p:grpSpPr>
            <a:xfrm>
              <a:off x="3884400" y="2787120"/>
              <a:ext cx="1339560" cy="1337400"/>
              <a:chOff x="3884400" y="2787120"/>
              <a:chExt cx="1339560" cy="1337400"/>
            </a:xfrm>
          </p:grpSpPr>
          <p:sp>
            <p:nvSpPr>
              <p:cNvPr id="800" name="Oval 27"/>
              <p:cNvSpPr/>
              <p:nvPr/>
            </p:nvSpPr>
            <p:spPr>
              <a:xfrm>
                <a:off x="3884400" y="2787120"/>
                <a:ext cx="1339560" cy="133740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01" name="Freeform 28"/>
              <p:cNvSpPr/>
              <p:nvPr/>
            </p:nvSpPr>
            <p:spPr>
              <a:xfrm>
                <a:off x="4037400" y="2809080"/>
                <a:ext cx="1033200" cy="50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02" name="Text Box 29"/>
            <p:cNvSpPr/>
            <p:nvPr/>
          </p:nvSpPr>
          <p:spPr>
            <a:xfrm>
              <a:off x="4079520" y="32774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3" name="Text Box 30"/>
            <p:cNvSpPr/>
            <p:nvPr/>
          </p:nvSpPr>
          <p:spPr>
            <a:xfrm>
              <a:off x="1964880" y="2977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4" name="Text Box 31"/>
            <p:cNvSpPr/>
            <p:nvPr/>
          </p:nvSpPr>
          <p:spPr>
            <a:xfrm>
              <a:off x="5160600" y="2148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5" name="Text Box 32"/>
            <p:cNvSpPr/>
            <p:nvPr/>
          </p:nvSpPr>
          <p:spPr>
            <a:xfrm>
              <a:off x="3495240" y="4699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08:10Z</dcterms:created>
  <dc:creator>Admin</dc:creator>
  <dc:description/>
  <dc:language>en-US</dc:language>
  <cp:lastModifiedBy>Anh Hung Pro</cp:lastModifiedBy>
  <dcterms:modified xsi:type="dcterms:W3CDTF">2016-09-06T16:27:05Z</dcterms:modified>
  <cp:revision>2</cp:revision>
  <dc:subject/>
  <dc:title>PowerPoint Template</dc:title>
</cp:coreProperties>
</file>