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D28F-8EFE-4A6E-A193-ECE7D390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113C-19F9-4649-95FA-90A53568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E20A-32D5-4801-9932-A8AE4ACD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BC02-1E08-48F5-9422-569E30FA8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69BB-6BC9-4722-A30C-BC49FC84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23EA-E453-4246-903A-ADA548F0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D067-F11D-41B8-8292-9AD36AC8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CC8F-D1AD-4658-96E6-E815F128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AD93-1101-4D5A-9C2C-F8A7E81B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BBD8-472C-4010-9331-AA486D3D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1468-DF56-4D1B-9C2F-F85CCD19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2904-AA5E-4A06-9691-81060EEE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F36A-A416-4C59-915D-9F3D1248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BF6C-F45E-4D60-BF2F-860C0B52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7666-23C3-4B1E-9ABF-36C24801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AB93-05B4-4BB4-A9A8-71B90517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A67B-A12D-49EE-8B3E-6FF5CF5B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D29E-E37A-462E-9286-53D0FBB7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1DE2-6B92-4195-BA3E-15B98860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BC26-C93A-4356-B923-725BEE17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F23-8C93-4499-AF7B-56033036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E5A7-96AF-4463-9086-AF70A7E1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7F9D-A163-4592-A661-86DD1FC5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5BD5-FB3A-429E-B909-7361AA19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3816" t="1056" r="4581" b="18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9492-F7AD-4D59-A369-106FA72BA95E}" type="slidenum"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3816" t="1056" r="4581" b="18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F132-4889-4FCD-976D-79F71ECDB8D9}" type="slidenum"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cc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cc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71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Business Templat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27160" y="1219320"/>
          <a:ext cx="606276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219320"/>
                    <a:ext cx="606276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78120" y="1676520"/>
            <a:ext cx="3586320" cy="268920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66ff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66ff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994280" y="1701720"/>
          <a:ext cx="3630600" cy="172728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66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3497400" y="4114800"/>
            <a:ext cx="2232000" cy="1368360"/>
          </a:xfrm>
          <a:prstGeom prst="rect">
            <a:avLst/>
          </a:prstGeom>
          <a:gradFill rotWithShape="0">
            <a:gsLst>
              <a:gs pos="0">
                <a:srgbClr val="ffffff">
                  <a:alpha val="42352"/>
                </a:srgbClr>
              </a:gs>
              <a:gs pos="100000">
                <a:srgbClr val="ffffff">
                  <a:alpha val="42352"/>
                </a:srgbClr>
              </a:gs>
            </a:gsLst>
            <a:lin ang="5400000"/>
          </a:gra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92880" y="4114800"/>
            <a:ext cx="2232000" cy="1368360"/>
          </a:xfrm>
          <a:prstGeom prst="rect">
            <a:avLst/>
          </a:prstGeom>
          <a:solidFill>
            <a:srgbClr val="cc66ff">
              <a:alpha val="42000"/>
            </a:srgbClr>
          </a:solidFill>
          <a:ln w="9360">
            <a:solidFill>
              <a:srgbClr val="66ccff"/>
            </a:solidFill>
            <a:miter/>
          </a:ln>
          <a:effectLst>
            <a:outerShdw dist="107932" dir="2700000" blurRad="0" rotWithShape="0">
              <a:srgbClr val="004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66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nty pearce</cp:lastModifiedBy>
  <dcterms:modified xsi:type="dcterms:W3CDTF">2007-05-29T15:52:51Z</dcterms:modified>
  <cp:revision>56</cp:revision>
  <dc:subject/>
  <dc:title>Flowers</dc:title>
</cp:coreProperties>
</file>