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2C5-AFB0-40D1-9DBD-2C94B07D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6A8-9CAD-472E-AA37-C02732B6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01C-CFD3-436E-AA35-8C161F76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30F-DB72-4FC9-B263-E5046F83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446B-F227-487F-9E87-4211BA61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797-67B3-489E-A4B4-EC1D6561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41FB-4EA9-4993-9CDB-A47D49F5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514E-9662-4E43-81B3-7AE671CD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8385-332A-4588-B07A-5423199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895-81F1-47EE-B0B9-6AC7949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BCA-F954-432E-B741-10341A3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A02-8CC7-483E-BE1A-6D40CFA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E94B-1A93-4570-B410-9770ED7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B27D-F03E-46FC-B3AC-59DEE8D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F804-92FC-4A47-9722-9C2F56DD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0DF4-A562-4CDF-A6EF-BDF4D895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C2FC-089E-4AD2-9E45-38B456FB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0D2-5C77-4B74-A0A8-BE94F70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3D7-7209-4673-ADB4-E2728144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9B7-9D41-411E-A262-3412D2C9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624-C46A-40C4-A42D-7524F004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090-A895-4186-AECC-8391FF6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8A2-C6DC-4251-B031-732F99E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60A-63A1-4FD8-83DC-633323E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160"/>
            <a:ext cx="9144000" cy="6846840"/>
          </a:xfrm>
          <a:prstGeom prst="rect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6462-BC81-4CE5-9371-4E25A8902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3E57-C389-4799-9578-98963CB87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26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80"/>
                </a:solidFill>
                <a:latin typeface="Arial"/>
              </a:rPr>
              <a:t>Red lights</a:t>
            </a:r>
            <a:endParaRPr b="0" lang="en-US" sz="72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200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58444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0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jontypearce</cp:lastModifiedBy>
  <dcterms:modified xsi:type="dcterms:W3CDTF">2006-09-18T11:12:43Z</dcterms:modified>
  <cp:revision>37</cp:revision>
  <dc:subject/>
  <dc:title>Flowers</dc:title>
</cp:coreProperties>
</file>