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B0D-4932-4F6B-AB62-187D07A5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EB0-20AF-49ED-84F4-1699887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D17-4FD5-4B82-A13B-B26024E4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01C-4725-46CF-BE68-36E1ED09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9B6D-62C6-4C89-88E3-1561FC19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F749-D3C5-49A8-830A-EA1A07C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D36-0B47-4CB3-A576-BBD8971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1CC-E7B6-405D-AFDE-7494690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9E90-890C-4DC3-8C0F-B5F53E3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656D-A8C1-4833-B63D-685BF366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83A-33B0-4FF3-862C-8C7CFA0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3E7-370A-4389-B39B-30AEDA5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88C3-6C77-4B99-A2E5-26C90C7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5A0-63B1-4CC9-AD6A-CBC49E1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69A-733F-4B96-958D-FD85975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34E-3E1B-4973-B89C-BBA74D15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291-DD7E-47A5-B170-D2687FC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5B5-C9CE-4321-81F9-1867F53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F70-9540-405B-BCB2-B10E816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E86-70FE-48DA-9B84-174DB9E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AAD-577F-47DE-A4A4-6FDD636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9C7-4A96-47D8-8A3B-7FBE96A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D26-F013-4620-B22F-8129A65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2AF-84F0-4768-9474-F7231B1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8894" t="0" r="0" b="20791"/>
          <a:stretch/>
        </p:blipFill>
        <p:spPr>
          <a:xfrm>
            <a:off x="0" y="41911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319" r="53335" b="0"/>
          <a:stretch/>
        </p:blipFill>
        <p:spPr>
          <a:xfrm>
            <a:off x="7543800" y="0"/>
            <a:ext cx="160020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103-A8C8-48DC-89F3-C1EE55004015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1B2-EB98-4EB8-A318-EFF27C382757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80972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8050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ranges Templa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Bullet Point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Sub Bull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char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2200" y="175752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75752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Pictur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2816280"/>
            <a:ext cx="3708360" cy="2473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s of default sty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ext and lines are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3300"/>
                </a:solidFill>
                <a:uFillTx/>
                <a:latin typeface="Tahoma"/>
              </a:rPr>
              <a:t>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00"/>
                </a:solidFill>
                <a:uFillTx/>
                <a:latin typeface="Tahoma"/>
              </a:rPr>
              <a:t>Visited 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70520" y="2300400"/>
          <a:ext cx="3429000" cy="17589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0561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77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8:20Z</dcterms:created>
  <dc:creator>Mark Stevenson</dc:creator>
  <dc:description/>
  <dc:language>en-US</dc:language>
  <cp:lastModifiedBy>Pearce</cp:lastModifiedBy>
  <dcterms:modified xsi:type="dcterms:W3CDTF">2006-05-01T14:31:28Z</dcterms:modified>
  <cp:revision>11</cp:revision>
  <dc:subject/>
  <dc:title>Oranges Template</dc:title>
</cp:coreProperties>
</file>